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6432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010-A891-4D3B-920F-0CFDD9AA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1C3-05C0-41BD-9689-985CFCC3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C19-E79C-4D45-AB7F-2F764ACC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F7C-E4DC-4189-83AE-F03926FC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757-F830-4991-96BF-7DC347D1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C19-7E2D-4446-9D70-EEA1A77C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B26-92EB-4DCE-A356-AD236100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934-DA50-46B9-981F-25F6201F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34C-C34F-45B1-88E8-BCD15673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D51-89DE-4BC8-B82B-F0321E1A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5C3-A671-469F-A45E-53D365EC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FA9-30ED-4270-9419-7229C2A6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6A32-0710-4D09-B154-CD901D450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Il decentrament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in Ital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21504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pesa delle Amministrazioni pubblic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 funzio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zi gener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ine pubblico e sicurez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ari economi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zione dell’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itazioni e assetto del terri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ività ricreative, culturali e di cu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ru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zione soci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36232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373392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4100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47480" y="2286000"/>
            <a:ext cx="330336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i pubblici tradi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0760" y="5257800"/>
            <a:ext cx="116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6320" y="3657600"/>
            <a:ext cx="2658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iluppo e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situazione pre-decent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58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Finanza derivat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accentramento prelievo, finanziamento tramite trasferimenti spesso di tipo vincol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Motivazio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: aspetti redistributivi e di efficienza (forti critiche alla gestione dei tributi locali prima della riforma tributaria, centralizzazione I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inizio anni ’90 i trasferimenti erariali Ror sono il 97% del totale delle entrate locali, quasi tutti vincol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Problemi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crisi finanziaria, scarsa capacità di gestione autonoma del bilancio, finanziamenti ex-post a carico del bilancio dello Stato (decreto Stammati, fiscalizzazione disavanzi finanziari), limitati effetti redistributivi, trasferimenti discrezionali, prevalenza “spesa storica” nei criteri di finanziamento,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fly paper effect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mitato aumento spesa autonomie locale sul totale (2 punti su AT, 30 punti su A centrali) in una situazione che ha visto riduzione spesa pubblica complessiva (interessi) e aumento spesa previdenziale su altre spe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umento concentrato soprattutto sulla componente sviluppo e territorio, meno su componente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ni pubblici tradizionali saldamente nelle mani Stato cent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 quanto si è decentrato? Le cifre del decentr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ipendenti pubblici loc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1093680"/>
            <a:ext cx="640080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pendenti pubblici loc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eve aumento in percentuale: l’accresciuto ruolo delle autonomie locali è avvenuto con dipendenti pubblici costant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 la dinamica retributiva più elevata che a livello locale (contrattazione integrativ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 quanto si è decentrato? Le cifre del decentr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EN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2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 ent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ù marcato decentramento sul lato tributario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si la metà delle entrate delle autonomie locali deriva da risorse fiscal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 la quota dei risorse tributarie locali è aumentata di 10 punti sul tota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 quanto sono effettivamente tributi prop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76320"/>
            <a:ext cx="81532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228600" y="316080"/>
            <a:ext cx="8534520" cy="5897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05120" y="12193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l decentramento sul terri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spesa pro-capite (delle attuali regioni) è più o meno uniforme sul territorio (lievemente più alta al Sud, maggiore quella in conto capitale, minore quella corrente, soprattutto sanità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 in media i tributi propri sono doppi al Nord che al Sud, con un divario che è di 4 volte tra la regione più ricca e quella più pov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li obiettivi (tecnici) del decentrame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ponsabilizzare autonomie locali sul proprio bilanc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tonomia a livello tribu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pacità di programmazio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gliorare la rappresentanza degli interessi local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ere più responsabile finanziariamente il ceto politico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i sono anche ragioni politiche (redistribuzione tra aree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 Decentramento secondo il Tito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dimensioni finanzia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1036800"/>
            <a:ext cx="838224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81160" y="387360"/>
            <a:ext cx="538632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fronti internazion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 questo decentramento sarebbe eccessivo in un contesto Europe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struttura delle funzioni allocate alle autonomia locali in Italia sarebbe “fuori linea” rispetto agli altri Paesi europ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li anni ’90, molti Paesi Europei hanno decentralizzato m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1530360"/>
            <a:ext cx="86104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e farlo: la tecnica del decentramen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ATE : processo a casc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stituzione trasferimenti vincolati con trasferimenti senza vincolo di destinazione;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stituzione trasferimenti con compartecipazioni a tributi eraria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stituzioni compartecipazioni con tributi propr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SA: delega funzioni e ampliamento competenze con legge ordinari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zione di leggi tese a rendere direttamente responsabile l’ente locale di eventuali disavanz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 farlo: le modifiche legislative a vari livel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LITICA: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odifica leggi elettoral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sistema semi-presidenziale (elezioni Sindaco, Presidenti Regioni, Province), personalizzazione: rapporto eletto /cittadini  in cerca di maggiore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ountabil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ITUZIONE: 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odifica leggi costituzional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er ridefinire e stabilizzare i rapporti tra livelli di gov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tappe principali del decentr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 , previsione autonomia tributaria Comun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2,  introduzione Ici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3, regionalizzazione contributi sanita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3, elezione diretta del Sindaco e del Presidente Provi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, abolizione trasferimenti vincolati regioni (eccetto FSN), compartecipazione accisa benzine, tributo sui rifiuti, fondo perequati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7-8, Leggi Bassanini sul decentramento amministrativo e decreti delegat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, abolizione contributi regionali, introduzione Irap, introduzione addizionale regionale sull’Irpe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, introduzione addizionale comunale e provinciale sull’Irpe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, Legge Costituzionale per l’elezione diretta Presidente Giunta Regionale e autonomia statutar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, decreto leg.56, abolizione trasferimenti erariali FSN, introduzione compartecipazione IV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Revisione Titolo V costituzion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 legge la Log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ù di recente: le difficoltà del decentramen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ai definiti i principi generali: crescita contenzioso Stato-Regioni (+ 500% dopo il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pplicazione del 117? Solo in parte, con sentenze della Corte Costitu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pplicazione del 119? NO, anzi passi indietro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3 Blocco delle addizionali Irpef e I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3 Introduzione Alta Commissione di Studi sul federalismo fiscale, Rapporto fin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5 Blocco riparto 56/2000 e previsione sua sostit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5 approvazione legge di riforma Costituzionale sull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06 Referendum che non accoglie la riforma costituzionale sull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 quanto si è decentrato? Le cifre del decentr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SP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017720"/>
            <a:ext cx="64008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0T16:27:06Z</dcterms:created>
  <dc:creator>UCSC MILANO</dc:creator>
  <dc:description/>
  <dc:language>en-US</dc:language>
  <cp:lastModifiedBy>Petretto Alessandro</cp:lastModifiedBy>
  <dcterms:modified xsi:type="dcterms:W3CDTF">2006-10-04T14:01:45Z</dcterms:modified>
  <cp:revision>62</cp:revision>
  <dc:subject/>
  <dc:title>La spesa delle Amministrazioni pubbliche  per funzione  </dc:title>
</cp:coreProperties>
</file>