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FOTO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642E-FA35-4C2F-B6EA-D19623048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1897-9805-4324-B8C5-7D3224B71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DC9A-3084-42B9-A9C6-D03A9FF07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FF4F-EC4C-4098-8B96-F006813B5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3691-6733-4459-9C7D-218D8F18F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76AC-38DA-4C47-98FF-A0F38DE69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9D38-6FD9-425E-95E6-9209F3211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C8A1-6531-4BB9-BB21-B78A35435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1E2B-EDAB-48FE-A868-30D199F2E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541A-6379-445D-BA42-9EDCE153B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EC45-5EEE-415E-94C3-9DF13165C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4C35-7F30-42E7-95AF-ECE4D22CD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67031-5F56-45F9-99F8-A9D7C30E39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FOTO.WAV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FOTO.WAV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FOTO.WAV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FOTO.WAV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FOTO.WAV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FOTO.WAV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FOTO.WAV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FOTO.WAV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836640"/>
            <a:ext cx="7846920" cy="216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La Finanza pubblica per livelli di governo, federalismo fiscale e finanza loca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369120" cy="2135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 P.A. in Ital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 ragioni del decentramento, la finanza per diversi livelli di governo e la perequ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1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Teorema del decentramento di O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2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04000" cy="475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*=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Elettore media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immetria informativa: E(D)= valore atteso=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3" name=""/>
          <p:cNvSpPr/>
          <p:nvPr/>
        </p:nvSpPr>
        <p:spPr>
          <a:xfrm flipV="1">
            <a:off x="1523880" y="28000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4" name=""/>
          <p:cNvSpPr/>
          <p:nvPr/>
        </p:nvSpPr>
        <p:spPr>
          <a:xfrm>
            <a:off x="1523880" y="4857840"/>
            <a:ext cx="4775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5" name=""/>
          <p:cNvSpPr/>
          <p:nvPr/>
        </p:nvSpPr>
        <p:spPr>
          <a:xfrm>
            <a:off x="1523880" y="3886200"/>
            <a:ext cx="447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6" name=""/>
          <p:cNvSpPr/>
          <p:nvPr/>
        </p:nvSpPr>
        <p:spPr>
          <a:xfrm>
            <a:off x="4368960" y="3314880"/>
            <a:ext cx="1320480" cy="125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7" name=""/>
          <p:cNvSpPr/>
          <p:nvPr/>
        </p:nvSpPr>
        <p:spPr>
          <a:xfrm>
            <a:off x="3352680" y="3314880"/>
            <a:ext cx="1320840" cy="1257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8" name=""/>
          <p:cNvSpPr/>
          <p:nvPr/>
        </p:nvSpPr>
        <p:spPr>
          <a:xfrm>
            <a:off x="2946240" y="3886200"/>
            <a:ext cx="0" cy="9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9" name=""/>
          <p:cNvSpPr/>
          <p:nvPr/>
        </p:nvSpPr>
        <p:spPr>
          <a:xfrm>
            <a:off x="3962520" y="3886200"/>
            <a:ext cx="0" cy="9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0" name=""/>
          <p:cNvSpPr/>
          <p:nvPr/>
        </p:nvSpPr>
        <p:spPr>
          <a:xfrm>
            <a:off x="4978440" y="3886200"/>
            <a:ext cx="0" cy="9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1" name=""/>
          <p:cNvSpPr/>
          <p:nvPr/>
        </p:nvSpPr>
        <p:spPr>
          <a:xfrm>
            <a:off x="2730600" y="4998960"/>
            <a:ext cx="447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2" name=""/>
          <p:cNvSpPr/>
          <p:nvPr/>
        </p:nvSpPr>
        <p:spPr>
          <a:xfrm>
            <a:off x="3841560" y="499896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3" name=""/>
          <p:cNvSpPr/>
          <p:nvPr/>
        </p:nvSpPr>
        <p:spPr>
          <a:xfrm>
            <a:off x="4863960" y="4998960"/>
            <a:ext cx="447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4" name=""/>
          <p:cNvSpPr/>
          <p:nvPr/>
        </p:nvSpPr>
        <p:spPr>
          <a:xfrm flipV="1">
            <a:off x="3962520" y="2629080"/>
            <a:ext cx="0" cy="125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5" name=""/>
          <p:cNvSpPr/>
          <p:nvPr/>
        </p:nvSpPr>
        <p:spPr>
          <a:xfrm flipH="1" flipV="1">
            <a:off x="3759120" y="2628720"/>
            <a:ext cx="6098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6" name=""/>
          <p:cNvSpPr/>
          <p:nvPr/>
        </p:nvSpPr>
        <p:spPr>
          <a:xfrm>
            <a:off x="2031840" y="3257640"/>
            <a:ext cx="2133720" cy="14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7" name=""/>
          <p:cNvSpPr/>
          <p:nvPr/>
        </p:nvSpPr>
        <p:spPr>
          <a:xfrm>
            <a:off x="2121480" y="2941560"/>
            <a:ext cx="43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8" name=""/>
          <p:cNvSpPr/>
          <p:nvPr/>
        </p:nvSpPr>
        <p:spPr>
          <a:xfrm>
            <a:off x="4458240" y="2827440"/>
            <a:ext cx="43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9" name=""/>
          <p:cNvSpPr/>
          <p:nvPr/>
        </p:nvSpPr>
        <p:spPr>
          <a:xfrm>
            <a:off x="4146480" y="36464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0" name=""/>
          <p:cNvSpPr/>
          <p:nvPr/>
        </p:nvSpPr>
        <p:spPr>
          <a:xfrm>
            <a:off x="4045320" y="267480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1" name=""/>
          <p:cNvSpPr/>
          <p:nvPr/>
        </p:nvSpPr>
        <p:spPr>
          <a:xfrm>
            <a:off x="4959000" y="3589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2" name=""/>
          <p:cNvSpPr/>
          <p:nvPr/>
        </p:nvSpPr>
        <p:spPr>
          <a:xfrm>
            <a:off x="2826720" y="358920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3" name=""/>
          <p:cNvSpPr/>
          <p:nvPr/>
        </p:nvSpPr>
        <p:spPr>
          <a:xfrm>
            <a:off x="3537000" y="45608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4" name=""/>
          <p:cNvSpPr/>
          <p:nvPr/>
        </p:nvSpPr>
        <p:spPr>
          <a:xfrm>
            <a:off x="1405800" y="5627520"/>
            <a:ext cx="334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GC=perdita di benessere di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FE=perdita di benessere di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5" name=""/>
          <p:cNvSpPr/>
          <p:nvPr/>
        </p:nvSpPr>
        <p:spPr>
          <a:xfrm>
            <a:off x="1098360" y="37418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6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Spiegazioni ideologiche, politiche e organizzative del decentramento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7" name="PlaceHolder 2"/>
          <p:cNvSpPr>
            <a:spLocks noGrp="1"/>
          </p:cNvSpPr>
          <p:nvPr>
            <p:ph/>
          </p:nvPr>
        </p:nvSpPr>
        <p:spPr>
          <a:xfrm>
            <a:off x="685800" y="1916280"/>
            <a:ext cx="7773840" cy="4465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1" i="1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agioni ideologi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  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l Principio di sussidiarit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i="1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agioni politi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rtecipazione e democraz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sponsabilizzazione politica degli amministrato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 composizione sociale articol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ivelli locali, “cattura” e collus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i="1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agioni organizz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centramento e divisione del lavo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centramento, sperimentazione e innovazione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4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4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4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4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4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4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4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4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4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4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4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42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8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imensioni ottimali dei livelli di governo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a teoria dei cl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9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7846920" cy="504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 membro aggiuntivo di un club diminuisce il costo pro-capite del servizio 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minuisce il beneficio pro-capite per effetto della congestion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equilibrio (economie di dimensione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0" name=""/>
          <p:cNvSpPr/>
          <p:nvPr/>
        </p:nvSpPr>
        <p:spPr>
          <a:xfrm>
            <a:off x="1547640" y="4334040"/>
            <a:ext cx="5977080" cy="18010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acrificio marginale (in termini di congestione) derivante dall’aumento di un membro del club per il numero dei membri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beneficio  marginale di un’unità di servizio addizionale per il numero delle unità compless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1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orme di finanziamento degli enti decentrat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2" name="PlaceHolder 2"/>
          <p:cNvSpPr>
            <a:spLocks noGrp="1"/>
          </p:cNvSpPr>
          <p:nvPr>
            <p:ph/>
          </p:nvPr>
        </p:nvSpPr>
        <p:spPr>
          <a:xfrm>
            <a:off x="711000" y="1714680"/>
            <a:ext cx="7677000" cy="4883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. </a:t>
            </a:r>
            <a:r>
              <a:rPr b="1" i="1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ariffe e Ta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. </a:t>
            </a:r>
            <a:r>
              <a:rPr b="1" i="1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mpos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·   auton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·   sovrimposte di imposte erariali : (</a:t>
            </a:r>
            <a:r>
              <a:rPr b="1" i="1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+</a:t>
            </a:r>
            <a:r>
              <a:rPr b="1" i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i="1" lang="it-IT" sz="20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i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</a:t>
            </a:r>
            <a:r>
              <a:rPr b="1" i="1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</a:t>
            </a:r>
            <a:r>
              <a:rPr b="1" i="1" lang="it-IT" sz="20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·   addizionali di imposte erariali : (1</a:t>
            </a:r>
            <a:r>
              <a:rPr b="1" i="1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+</a:t>
            </a:r>
            <a:r>
              <a:rPr b="1" i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i="1" lang="it-IT" sz="20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i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</a:t>
            </a:r>
            <a:r>
              <a:rPr b="1" i="1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B</a:t>
            </a:r>
            <a:r>
              <a:rPr b="1" i="1" lang="it-IT" sz="20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i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·   compartecipazioni: </a:t>
            </a:r>
            <a:r>
              <a:rPr b="1" i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i="1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tB</a:t>
            </a:r>
            <a:r>
              <a:rPr b="1" i="1" lang="it-IT" sz="20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. </a:t>
            </a:r>
            <a:r>
              <a:rPr b="1" i="1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rasferimenti da enti di livello superi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prietà delle imposte locali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·   contenere la concorrenza fisc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·   contenere l’esportazione fisc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·   beneficio o controprest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·   base imponibile distribuita uniforme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4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4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4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4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4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4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4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4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4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4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42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42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42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42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3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otivazioni dei trasferime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4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02560" cy="4969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. </a:t>
            </a:r>
            <a:r>
              <a:rPr b="1" lang="it-IT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insufficienza delle risorse locali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causa di  concorrenza fiscale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inamica dei costi di produzione (produttività e effetti demografic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. </a:t>
            </a:r>
            <a:r>
              <a:rPr b="1" lang="it-IT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vincoli dal centro o istituzionali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sternalità ed effetti di traboccamento oltre i confini amministrativi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inalità redistributive e standard minimi dei servizi (perequativi)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4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4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4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4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4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4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5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ipologia ed effetti dei trasferime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3840" cy="4543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Non condiziona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lump su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Specifici a destinazione vincol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Integrativ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matching open-ended grants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Integrativi con tet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matching closed-ended gran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VANTAGGI e SVANTAGGI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delle tipologie di grants (autonomia vs.efficacia degli incentiv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4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4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4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4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4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4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4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4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7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chemi di trasferimento per la perequazione delle risorse degli enti decentrati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02560" cy="4472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odelli di Perequ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. Performance (differenza tra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abbisogno standard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e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ettito effettivo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. Capacità fiscale (differenza tra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abbisogno standard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e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ettito potenziale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. Potenziale fiscale (pareggiare le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otazioni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di risorse complessive (proprie e trasferite) agli enti che decidono di attuare lo stesso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forzo fiscale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4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4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4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4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4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4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4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9" name=""/>
          <p:cNvSpPr/>
          <p:nvPr/>
        </p:nvSpPr>
        <p:spPr>
          <a:xfrm>
            <a:off x="1476360" y="1168560"/>
            <a:ext cx="6603840" cy="505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1" i="1" lang="it-IT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i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ase imponibile loc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*= base standard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e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1" i="1" lang="it-IT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aliquota fissata dall’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*=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liquota standard me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1" i="1" lang="it-IT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gettito dell’imposta (</a:t>
            </a:r>
            <a:r>
              <a:rPr b="1" i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*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med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</a:t>
            </a:r>
            <a:r>
              <a:rPr b="1" i="1" lang="it-IT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 spesa effet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1" i="1" lang="it-IT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 fabbisogno effet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r</a:t>
            </a:r>
            <a:r>
              <a:rPr b="1" i="1" lang="it-IT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 trasferi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1" i="1" lang="it-IT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 </a:t>
            </a:r>
            <a:r>
              <a:rPr b="1" i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1" i="1" lang="it-IT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i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+Tr</a:t>
            </a:r>
            <a:r>
              <a:rPr b="1" i="1" lang="it-IT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 dotazione complessiv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*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=dotazione standard me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4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4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4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4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4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4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4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4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4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42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0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lli della spesa storica e della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1" name="PlaceHolder 2"/>
          <p:cNvSpPr>
            <a:spLocks noGrp="1"/>
          </p:cNvSpPr>
          <p:nvPr>
            <p:ph/>
          </p:nvPr>
        </p:nvSpPr>
        <p:spPr>
          <a:xfrm>
            <a:off x="178920" y="1844640"/>
            <a:ext cx="4064040" cy="41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ODELLO DELLA SPESA STO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1" i="1" lang="it-IT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1" i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</a:t>
            </a:r>
            <a:r>
              <a:rPr b="1" i="1" lang="it-IT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i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T</a:t>
            </a:r>
            <a:r>
              <a:rPr b="1" i="1" lang="it-IT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1" i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r</a:t>
            </a:r>
            <a:r>
              <a:rPr b="1" i="1" lang="it-IT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i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S</a:t>
            </a:r>
            <a:r>
              <a:rPr b="1" i="1" lang="it-IT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i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1" i="1" lang="it-IT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1" i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1" i="1" lang="it-IT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i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+Tr</a:t>
            </a:r>
            <a:r>
              <a:rPr b="1" i="1" lang="it-IT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i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G</a:t>
            </a:r>
            <a:r>
              <a:rPr b="1" i="1" lang="it-IT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rresponsabilità finanziaria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(“piè di lista”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1" i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</a:t>
            </a:r>
            <a:r>
              <a:rPr b="1" i="1" lang="it-IT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ì  </a:t>
            </a:r>
            <a:r>
              <a:rPr b="1" i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i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r</a:t>
            </a:r>
            <a:r>
              <a:rPr b="1" i="1" lang="it-IT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2" name="PlaceHolder 3"/>
          <p:cNvSpPr>
            <a:spLocks noGrp="1"/>
          </p:cNvSpPr>
          <p:nvPr>
            <p:ph/>
          </p:nvPr>
        </p:nvSpPr>
        <p:spPr>
          <a:xfrm>
            <a:off x="4673160" y="1773360"/>
            <a:ext cx="4219560" cy="47512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ODELLO DELLA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otazione standar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*= t*B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r</a:t>
            </a:r>
            <a:r>
              <a:rPr b="1" i="1" lang="it-IT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*-T</a:t>
            </a:r>
            <a:r>
              <a:rPr b="1" i="1" lang="it-IT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= 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*B*-t</a:t>
            </a:r>
            <a:r>
              <a:rPr b="1" i="1" lang="it-IT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1" i="1" lang="it-IT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1" i="1" lang="it-IT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=T</a:t>
            </a:r>
            <a:r>
              <a:rPr b="1" i="1" lang="it-IT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+Tr</a:t>
            </a:r>
            <a:r>
              <a:rPr b="1" i="1" lang="it-IT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=A*=t*B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o stato non finanzia le inefficienze nella spe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otazione standard differenziata: A*</a:t>
            </a:r>
            <a:r>
              <a:rPr b="1" i="1" lang="it-IT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1" i="1" lang="it-IT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...x</a:t>
            </a:r>
            <a:r>
              <a:rPr b="1" i="1" lang="it-IT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alisi dei determinanti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dici di fabbisogno relativo: 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1" i="1" lang="it-IT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 A</a:t>
            </a:r>
            <a:r>
              <a:rPr b="1" i="1" lang="it-IT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*= m</a:t>
            </a:r>
            <a:r>
              <a:rPr b="1" i="1" lang="it-IT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on c’è incentivo allo sforzo fiscale autonomo: -t</a:t>
            </a:r>
            <a:r>
              <a:rPr b="1" i="1" lang="it-IT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 </a:t>
            </a: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r</a:t>
            </a:r>
            <a:r>
              <a:rPr b="1" i="1" lang="it-IT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3" name=""/>
          <p:cNvSpPr/>
          <p:nvPr/>
        </p:nvSpPr>
        <p:spPr>
          <a:xfrm>
            <a:off x="4368960" y="1557360"/>
            <a:ext cx="0" cy="428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4" name=""/>
          <p:cNvSpPr/>
          <p:nvPr/>
        </p:nvSpPr>
        <p:spPr>
          <a:xfrm>
            <a:off x="609480" y="1557360"/>
            <a:ext cx="762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4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4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4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4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4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4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4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4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4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4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4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4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4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4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4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4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4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42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42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42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5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ODELLO DELLA CAPACITA’ FISC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6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3840" cy="4824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r</a:t>
            </a:r>
            <a:r>
              <a:rPr b="1" i="1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A*-t*B</a:t>
            </a:r>
            <a:r>
              <a:rPr b="1" i="1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*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timato a livello centrale, come spesa standard delle funzioni attribu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1" i="1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T</a:t>
            </a:r>
            <a:r>
              <a:rPr b="1" i="1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+Tr</a:t>
            </a:r>
            <a:r>
              <a:rPr b="1" i="1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1" i="1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1" i="1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+A*-t*B</a:t>
            </a:r>
            <a:r>
              <a:rPr b="1" i="1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*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1" i="1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t*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1" i="1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Versione “canadese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*=t*B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r</a:t>
            </a:r>
            <a:r>
              <a:rPr b="1" i="1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t*B*-t*B</a:t>
            </a:r>
            <a:r>
              <a:rPr b="1" i="1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*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*-B</a:t>
            </a:r>
            <a:r>
              <a:rPr b="1" i="1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1" i="1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T</a:t>
            </a:r>
            <a:r>
              <a:rPr b="1" i="1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+Tr</a:t>
            </a:r>
            <a:r>
              <a:rPr b="1" i="1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t</a:t>
            </a:r>
            <a:r>
              <a:rPr b="1" i="1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1" i="1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+t*B*-t*B</a:t>
            </a:r>
            <a:r>
              <a:rPr b="1" i="1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*B*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+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1" i="1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t*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1" i="1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4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4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4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4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4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4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4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4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42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4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42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2209680"/>
            <a:ext cx="9144000" cy="3353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Unità istituzionali per livelli di governo e numero di addet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6320" y="2286000"/>
            <a:ext cx="8991360" cy="33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7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ODELLO della Capacità fiscale (con basi modificabili) e MODELLO del “POTENZIAL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8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3840" cy="5111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1" i="1" lang="it-IT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i="1" lang="it-IT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=”vera” base imponibile (potenziale)=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1" i="1" lang="it-IT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+E</a:t>
            </a:r>
            <a:r>
              <a:rPr b="1" i="1" lang="it-IT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 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1" i="1" lang="it-IT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= evasione o elusione (deduzioni conces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r</a:t>
            </a:r>
            <a:r>
              <a:rPr b="1" i="1" lang="it-IT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=t*B*-t*B</a:t>
            </a:r>
            <a:r>
              <a:rPr b="1" i="1" lang="it-IT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i="1" lang="it-IT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=t*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*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B</a:t>
            </a:r>
            <a:r>
              <a:rPr b="1" i="1" lang="it-IT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i="1" lang="it-IT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=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*B*-t*B</a:t>
            </a:r>
            <a:r>
              <a:rPr b="1" i="1" lang="it-IT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t*E</a:t>
            </a:r>
            <a:r>
              <a:rPr b="1" i="1" lang="it-IT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=t*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*-B</a:t>
            </a:r>
            <a:r>
              <a:rPr b="1" i="1" lang="it-IT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t*E</a:t>
            </a:r>
            <a:r>
              <a:rPr b="1" i="1" lang="it-IT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centivo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 -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1" i="1" lang="it-IT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r</a:t>
            </a:r>
            <a:r>
              <a:rPr b="1" i="1" lang="it-IT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odello del Potenzi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r</a:t>
            </a:r>
            <a:r>
              <a:rPr b="1" i="1" lang="it-IT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=t</a:t>
            </a:r>
            <a:r>
              <a:rPr b="1" i="1" lang="it-IT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B*-B</a:t>
            </a:r>
            <a:r>
              <a:rPr b="1" i="1" lang="it-IT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1" i="1" lang="it-IT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=T</a:t>
            </a:r>
            <a:r>
              <a:rPr b="1" i="1" lang="it-IT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+Tr</a:t>
            </a:r>
            <a:r>
              <a:rPr b="1" i="1" lang="it-IT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=t</a:t>
            </a:r>
            <a:r>
              <a:rPr b="1" i="1" lang="it-IT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centivo allo “sforzo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iscale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”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  +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1" i="1" lang="it-IT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r</a:t>
            </a:r>
            <a:r>
              <a:rPr b="1" i="1" lang="it-IT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4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4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4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4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4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42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42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42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42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423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423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9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La perequazione</a:t>
            </a:r>
            <a:br>
              <a:rPr sz="2800"/>
            </a:b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(D.Lgs. 56/20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0" name="PlaceHolder 2"/>
          <p:cNvSpPr>
            <a:spLocks noGrp="1"/>
          </p:cNvSpPr>
          <p:nvPr>
            <p:ph/>
          </p:nvPr>
        </p:nvSpPr>
        <p:spPr>
          <a:xfrm>
            <a:off x="634680" y="1844280"/>
            <a:ext cx="7753320" cy="475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Il gettito della COMPIVA è ripartito in base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(i) la POP della regione i sul total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(ii) il criterio della Capacità fiscale (differenza tra base imponibile standard e base imponibile effettiva per aliquota standard) con un correttivo del grado di perequ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(iii) il criterio del Fabbisogno sanitario (differenza tra fabbisogno sanitario standard della regione e fabbisogno standard nazionale medi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(iv) il criterio del Fabbisogno non-sanitario (spesa standardizzata regionale meno quella nazionale) con il correttivo dimensionale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500"/>
                                        <p:tgtEl>
                                          <p:spTgt spid="4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4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4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4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4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241" name=""/>
              <p:cNvSpPr txBox="1"/>
              <p:nvPr/>
            </p:nvSpPr>
            <p:spPr>
              <a:xfrm>
                <a:off x="179280" y="1138320"/>
                <a:ext cx="8785440" cy="34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VA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[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VA</m:t>
                            </m:r>
                          </m:num>
                          <m:den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den>
                        </m:f>
                        <m:r>
                          <m:t xml:space="preserve">−</m:t>
                        </m:r>
                        <m:r>
                          <m:t xml:space="preserve">βt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∗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SA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GSAN</m:t>
                        </m:r>
                        <m:r>
                          <m:t xml:space="preserve">∗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∗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</m:e>
                      <m:e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V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VA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242" name=""/>
          <p:cNvSpPr/>
          <p:nvPr/>
        </p:nvSpPr>
        <p:spPr>
          <a:xfrm>
            <a:off x="592200" y="5084640"/>
            <a:ext cx="6349320" cy="134244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 IVA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&lt;IVAP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i riceve un trasferimento, Tr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&gt;0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 IVA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&gt;IVAP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 Tr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=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viene in corrispondenza ridotto IVA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3" name="PlaceHolder 1"/>
          <p:cNvSpPr>
            <a:spLocks noGrp="1"/>
          </p:cNvSpPr>
          <p:nvPr>
            <p:ph/>
          </p:nvPr>
        </p:nvSpPr>
        <p:spPr>
          <a:xfrm>
            <a:off x="304920" y="1218960"/>
            <a:ext cx="8610480" cy="52578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Arial"/>
                <a:ea typeface="Times New Roman"/>
              </a:rPr>
              <a:t>Comma 1: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Potestà legislativa esercitata da Stato e Regioni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Arial"/>
                <a:ea typeface="Times New Roman"/>
              </a:rPr>
              <a:t>Comma 2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Legislazione esclusiva allo Stato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: materie riguardanti beni pubblici con diffusione dei benefici sul territorio nazionale o beni privati di INTERESSE NAZIONAL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Arial"/>
                <a:ea typeface="Times New Roman"/>
              </a:rPr>
              <a:t>Comma 3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Legislazione concorrente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: materie riguardanti beni pubblici con diffusione dei benefici sul territorio regionale, ma con i limiti posti alla devoluzione dall’INTERESSE NAZIONALE (diritti civili e sociali e obbiettivi generali 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Arial"/>
                <a:ea typeface="Times New Roman"/>
              </a:rPr>
              <a:t>Comma 4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Spetta alle Regioni la potestà legislativa (</a:t>
            </a:r>
            <a:r>
              <a:rPr b="1" i="1" lang="en-US" sz="19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Legislazione esclusiva</a:t>
            </a:r>
            <a:r>
              <a:rPr b="1" i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1" i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in riferimento ad ogni materia non espressamente riservata alla legislazione dello stato. Sono materie che riguardano beni con diffusione dei benefici regionale o locale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4" name=""/>
          <p:cNvSpPr/>
          <p:nvPr/>
        </p:nvSpPr>
        <p:spPr>
          <a:xfrm>
            <a:off x="0" y="0"/>
            <a:ext cx="91440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TOLO V, ART. 117: L’ASSEGNAZIONE DELLA COMPETENZA LEGISLA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0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FOT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4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4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500"/>
                            </p:stCondLst>
                            <p:childTnLst>
                              <p:par>
                                <p:cTn id="6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500"/>
                                        <p:tgtEl>
                                          <p:spTgt spid="4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5" name="PlaceHolder 1"/>
          <p:cNvSpPr>
            <a:spLocks noGrp="1"/>
          </p:cNvSpPr>
          <p:nvPr>
            <p:ph/>
          </p:nvPr>
        </p:nvSpPr>
        <p:spPr>
          <a:xfrm>
            <a:off x="533520" y="838080"/>
            <a:ext cx="8076960" cy="55627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Politica ester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Immigrazion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……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Difesa e forze armate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Moneta, sistema finanziario e Debito pubblic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i="1" lang="en-US" sz="1900" spc="-1" strike="noStrike">
                <a:solidFill>
                  <a:srgbClr val="0000ff"/>
                </a:solidFill>
                <a:latin typeface="Arial"/>
                <a:ea typeface="Times New Roman"/>
              </a:rPr>
              <a:t>Ordine pubblico e sicurezza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Tutela della concorrenz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Sistema tributari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……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Tutela dell’ambiente, dell’ecosistema e dei beni culturali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Previdenza social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en-US" sz="1900" spc="-1" strike="noStrike">
                <a:solidFill>
                  <a:srgbClr val="ff0000"/>
                </a:solidFill>
                <a:latin typeface="Arial"/>
                <a:ea typeface="Times New Roman"/>
              </a:rPr>
              <a:t>Livelli essenziali delle prestazioni concernenti i diritti civili e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Arial"/>
                <a:ea typeface="Times New Roman"/>
              </a:rPr>
              <a:t>  </a:t>
            </a:r>
            <a:r>
              <a:rPr b="1" lang="en-US" sz="1900" spc="-1" strike="noStrike">
                <a:solidFill>
                  <a:srgbClr val="ff0000"/>
                </a:solidFill>
                <a:latin typeface="Arial"/>
                <a:ea typeface="Times New Roman"/>
              </a:rPr>
              <a:t>sociali ..uniformità sul territorio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US" sz="1900" spc="-1" strike="noStrike">
                <a:solidFill>
                  <a:srgbClr val="ff0000"/>
                </a:solidFill>
                <a:latin typeface="Arial"/>
                <a:ea typeface="Times New Roman"/>
              </a:rPr>
              <a:t>Perequazione delle risorse finanziari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6" name=""/>
          <p:cNvSpPr/>
          <p:nvPr/>
        </p:nvSpPr>
        <p:spPr>
          <a:xfrm>
            <a:off x="0" y="0"/>
            <a:ext cx="9144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ETENZA ESCLUSIVA  STAT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0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FOT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4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4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500"/>
                            </p:stCondLst>
                            <p:childTnLst>
                              <p:par>
                                <p:cTn id="6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500"/>
                                        <p:tgtEl>
                                          <p:spTgt spid="4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7" name="PlaceHolder 1"/>
          <p:cNvSpPr>
            <a:spLocks noGrp="1"/>
          </p:cNvSpPr>
          <p:nvPr>
            <p:ph/>
          </p:nvPr>
        </p:nvSpPr>
        <p:spPr>
          <a:xfrm>
            <a:off x="533520" y="990360"/>
            <a:ext cx="8076960" cy="5181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Commercio con l’ester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Tutela e sicurezza del lavor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i="1" lang="en-US" sz="1900" spc="-1" strike="noStrike">
                <a:solidFill>
                  <a:srgbClr val="0000ff"/>
                </a:solidFill>
                <a:latin typeface="Arial"/>
                <a:ea typeface="Times New Roman"/>
              </a:rPr>
              <a:t>Istruzion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Professioni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Ricerca scientifica e tecnologic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i="1" lang="en-US" sz="1900" spc="-1" strike="noStrike">
                <a:solidFill>
                  <a:srgbClr val="0000ff"/>
                </a:solidFill>
                <a:latin typeface="Arial"/>
                <a:ea typeface="Times New Roman"/>
              </a:rPr>
              <a:t>Tutela della salut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Governo del territori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Produzione e distribuzione nazionale (sic!) dell’energi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en-US" sz="1900" spc="-1" strike="noStrike">
                <a:solidFill>
                  <a:srgbClr val="ff0000"/>
                </a:solidFill>
                <a:latin typeface="Arial"/>
                <a:ea typeface="Times New Roman"/>
              </a:rPr>
              <a:t>Previdenza complementare e integrativ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Armonizzazione dei bilanci pubblici e coordinamento della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finanza pubblica e del sistema tributari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Credito a carattere regional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8" name=""/>
          <p:cNvSpPr/>
          <p:nvPr/>
        </p:nvSpPr>
        <p:spPr>
          <a:xfrm>
            <a:off x="0" y="0"/>
            <a:ext cx="914400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COMPETENZA CONCORRENT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0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FOT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4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4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500"/>
                            </p:stCondLst>
                            <p:childTnLst>
                              <p:par>
                                <p:cTn id="6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4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9" name="PlaceHolder 1"/>
          <p:cNvSpPr>
            <a:spLocks noGrp="1"/>
          </p:cNvSpPr>
          <p:nvPr>
            <p:ph/>
          </p:nvPr>
        </p:nvSpPr>
        <p:spPr>
          <a:xfrm>
            <a:off x="304920" y="685440"/>
            <a:ext cx="8610480" cy="57913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gricol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tigian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accia e pes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mmercio e merca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dilizia ed urbanis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ergia, distribuzione region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mposte regionali e loca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Indust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truzione e formazione profession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iniere, cave e torbi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usei e biblioteche regiona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Politiche del lavoro e dell’occup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lizia locale e urb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rti e aeroporti civili di rilievo region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ti regionali di traspor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rasporto pubblico loc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Servizi sociali, assistenza e diritto allo stu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0" name=""/>
          <p:cNvSpPr/>
          <p:nvPr/>
        </p:nvSpPr>
        <p:spPr>
          <a:xfrm>
            <a:off x="0" y="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ETENZA ESCLUSIVA REGION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0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FOT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4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4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500"/>
                            </p:stCondLst>
                            <p:childTnLst>
                              <p:par>
                                <p:cTn id="6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500"/>
                                        <p:tgtEl>
                                          <p:spTgt spid="4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1" name="PlaceHolder 1"/>
          <p:cNvSpPr>
            <a:spLocks noGrp="1"/>
          </p:cNvSpPr>
          <p:nvPr>
            <p:ph/>
          </p:nvPr>
        </p:nvSpPr>
        <p:spPr>
          <a:xfrm>
            <a:off x="533520" y="1219320"/>
            <a:ext cx="8076960" cy="49528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Le funzioni amministrative sono attribuite ai Comuni salvo che, per assicurarne l’esercizio unitario, siano conferite a ….</a:t>
            </a:r>
            <a:r>
              <a:rPr b="1" i="1" lang="it-IT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enti di livello superiore..fino allo Stato</a:t>
            </a:r>
            <a:r>
              <a:rPr b="1" lang="it-IT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I principi di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- Sussidiarità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- Differenziazione </a:t>
            </a:r>
            <a:r>
              <a:rPr b="1" lang="it-IT" sz="1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it-IT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Th. del decentrament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- Adeguatezza (gli </a:t>
            </a:r>
            <a:r>
              <a:rPr b="1" i="1" lang="it-IT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spillover effects</a:t>
            </a:r>
            <a:r>
              <a:rPr b="1" lang="it-IT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Il problema della dissociazione tra responsabilItà legislativa e amministrativa (che comporta i costi)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-  le funzioni proprie e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- quelle conferite (programmazione e gestione)- La “procedura Bassanini”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2" name=""/>
          <p:cNvSpPr/>
          <p:nvPr/>
        </p:nvSpPr>
        <p:spPr>
          <a:xfrm>
            <a:off x="0" y="0"/>
            <a:ext cx="91440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T. 118: IL DECENTRAMENTO DELLE FUNZIONI AMMINISTR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0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FOT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4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4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500"/>
                            </p:stCondLst>
                            <p:childTnLst>
                              <p:par>
                                <p:cTn id="6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6" dur="500"/>
                                        <p:tgtEl>
                                          <p:spTgt spid="4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3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305920" cy="52578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“…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.I Comuni, le Province, le Città metropolitane e le Regioni hanno</a:t>
            </a:r>
            <a:r>
              <a:rPr b="1" i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risorse autonome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. Stabiliscono e applicano </a:t>
            </a:r>
            <a:r>
              <a:rPr b="1" i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tributi ed entrate proprie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in armonia con la Costituzione e secondo i principi di coordinamento della finanza pubblica e del sistema tributario. Dispongono di </a:t>
            </a:r>
            <a:r>
              <a:rPr b="1" i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compartecipazioni al gettito di tributi erariali riferito al loro territorio"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La legge dello Stato</a:t>
            </a:r>
            <a:r>
              <a:rPr b="1" i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istituisce un fondo perequativo senza vincoli di destinazione, per i territori con minor </a:t>
            </a:r>
            <a:r>
              <a:rPr b="1" i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capacità fiscale per abitante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”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Le risorse derivanti dalle fonti di cui ai commi precedenti </a:t>
            </a:r>
            <a:r>
              <a:rPr b="1" i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consentono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ai Comuni, alle Province, alle Città metropolitane e alle Regioni di </a:t>
            </a:r>
            <a:r>
              <a:rPr b="1" i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finanziare integralmente le funzioni pubbliche loro attribuite……”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Per promuovere lo sviluppo economico…la coesione sociale e la solidarietà </a:t>
            </a:r>
            <a:r>
              <a:rPr b="1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….interventi speciali dello Stato…”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4" name=""/>
          <p:cNvSpPr/>
          <p:nvPr/>
        </p:nvSpPr>
        <p:spPr>
          <a:xfrm>
            <a:off x="0" y="0"/>
            <a:ext cx="9144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T. 119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FINANZIAMENTO DELLE FUNZI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0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FOT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4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4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500"/>
                            </p:stCondLst>
                            <p:childTnLst>
                              <p:par>
                                <p:cTn id="6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500"/>
                                        <p:tgtEl>
                                          <p:spTgt spid="4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5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rt. 119 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utonomia tributaria degli enti decentra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3840" cy="4472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3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mic Sans MS"/>
              </a:rPr>
              <a:t>Attribuzione della potestà legislativa esclusiva allo stato limitatamente ai tributi erariali e coordinamento della FP (principi fondamentali del Sistema Tributario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1" lang="it-IT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200" spc="-1" strike="noStrike">
                <a:solidFill>
                  <a:srgbClr val="000000"/>
                </a:solidFill>
                <a:latin typeface="Comic Sans MS"/>
              </a:rPr>
              <a:t>Attribuzione della potestà legislativa esclusiva alle regioni per quanto riguarda gli altri tributi (regionali e locali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1" lang="it-IT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200" spc="-1" strike="noStrike">
                <a:solidFill>
                  <a:srgbClr val="000000"/>
                </a:solidFill>
                <a:latin typeface="Comic Sans MS"/>
              </a:rPr>
              <a:t>Anche i Comuni, le Province, le Città metropolitane hanno una non trascurabile autonomia normativa in materia tributar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500"/>
                                        <p:tgtEl>
                                          <p:spTgt spid="4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500"/>
                                        <p:tgtEl>
                                          <p:spTgt spid="4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500"/>
                                        <p:tgtEl>
                                          <p:spTgt spid="4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752480" y="1266840"/>
            <a:ext cx="5410440" cy="5257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259920"/>
            <a:ext cx="76280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nità istituzionali Amm. Centrale e locale per regi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833480" y="1297080"/>
            <a:ext cx="5253120" cy="5211000"/>
            <a:chOff x="1833480" y="1297080"/>
            <a:chExt cx="5253120" cy="5211000"/>
          </a:xfrm>
        </p:grpSpPr>
        <p:grpSp>
          <p:nvGrpSpPr>
            <p:cNvPr id="49" name=""/>
            <p:cNvGrpSpPr/>
            <p:nvPr/>
          </p:nvGrpSpPr>
          <p:grpSpPr>
            <a:xfrm>
              <a:off x="1833480" y="1297080"/>
              <a:ext cx="5253120" cy="826920"/>
              <a:chOff x="1833480" y="1297080"/>
              <a:chExt cx="5253120" cy="826920"/>
            </a:xfrm>
          </p:grpSpPr>
          <p:sp>
            <p:nvSpPr>
              <p:cNvPr id="50" name=""/>
              <p:cNvSpPr/>
              <p:nvPr/>
            </p:nvSpPr>
            <p:spPr>
              <a:xfrm>
                <a:off x="2074320" y="13176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102760" y="13176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2660400" y="1309680"/>
                <a:ext cx="538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A. Central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3197520" y="13096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3427920" y="1309680"/>
                <a:ext cx="3938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A. local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819960" y="13096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318560" y="1317600"/>
                <a:ext cx="398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rovinc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4716000" y="13176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5031360" y="1317600"/>
                <a:ext cx="3513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un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5382720" y="13176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640480" y="1317600"/>
                <a:ext cx="194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S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5833440" y="13176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6046920" y="1317600"/>
                <a:ext cx="1486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6193800" y="13176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6454080" y="1317600"/>
                <a:ext cx="455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niversità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906600" y="13176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833480" y="1297080"/>
                <a:ext cx="1584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833480" y="1297080"/>
                <a:ext cx="1584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849320" y="1297080"/>
                <a:ext cx="77148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20800" y="1297080"/>
                <a:ext cx="828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833480" y="1652760"/>
                <a:ext cx="787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2620800" y="165276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620800" y="165276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833480" y="1312920"/>
                <a:ext cx="15840" cy="339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620800" y="1312920"/>
                <a:ext cx="8280" cy="339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2629080" y="1297080"/>
                <a:ext cx="76032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389400" y="1297080"/>
                <a:ext cx="792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2629080" y="16527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2629080" y="16527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637000" y="1652760"/>
                <a:ext cx="7524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389400" y="16527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3389400" y="16527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629080" y="1312920"/>
                <a:ext cx="7920" cy="339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389400" y="1312920"/>
                <a:ext cx="7920" cy="339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3397320" y="1297080"/>
                <a:ext cx="68112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078440" y="1297080"/>
                <a:ext cx="792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3397320" y="16527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3397320" y="16527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3405240" y="1652760"/>
                <a:ext cx="6732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078440" y="16527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078440" y="16527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397320" y="1312920"/>
                <a:ext cx="7920" cy="339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078440" y="1312920"/>
                <a:ext cx="7920" cy="339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086360" y="1297080"/>
                <a:ext cx="70308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789440" y="1297080"/>
                <a:ext cx="792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086360" y="16527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086360" y="16527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094280" y="1652760"/>
                <a:ext cx="6951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789440" y="16527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789440" y="16527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086360" y="1312920"/>
                <a:ext cx="7920" cy="339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789440" y="1312920"/>
                <a:ext cx="7920" cy="339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797360" y="1297080"/>
                <a:ext cx="60156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398920" y="1297080"/>
                <a:ext cx="828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797360" y="16527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797360" y="16527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805280" y="1652760"/>
                <a:ext cx="593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398920" y="165276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398920" y="165276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797360" y="1312920"/>
                <a:ext cx="7920" cy="339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398920" y="1312920"/>
                <a:ext cx="8280" cy="339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407200" y="1297080"/>
                <a:ext cx="59508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02280" y="1297080"/>
                <a:ext cx="1584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002280" y="1297080"/>
                <a:ext cx="1584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407200" y="16527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407200" y="16527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416560" y="1652760"/>
                <a:ext cx="585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002280" y="165276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407200" y="1312920"/>
                <a:ext cx="9360" cy="339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002280" y="1312920"/>
                <a:ext cx="15840" cy="339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018120" y="1297080"/>
                <a:ext cx="39060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408720" y="1297080"/>
                <a:ext cx="1584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408720" y="1297080"/>
                <a:ext cx="1584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018120" y="16527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018120" y="16527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026040" y="1652760"/>
                <a:ext cx="3826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408720" y="165276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018120" y="1312920"/>
                <a:ext cx="7920" cy="339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08720" y="1312920"/>
                <a:ext cx="15840" cy="339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24560" y="1297080"/>
                <a:ext cx="64440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068960" y="1297080"/>
                <a:ext cx="1764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068960" y="1297080"/>
                <a:ext cx="1764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424560" y="16527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424560" y="16527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432480" y="1652760"/>
                <a:ext cx="6364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068960" y="1652760"/>
                <a:ext cx="17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424560" y="1312920"/>
                <a:ext cx="7920" cy="339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068960" y="1312920"/>
                <a:ext cx="17640" cy="339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075400" y="1671480"/>
                <a:ext cx="4320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iemont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504520" y="16714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864520" y="1665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921400" y="16653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633120" y="1665360"/>
                <a:ext cx="255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1.339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889800" y="16653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319280" y="1671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376160" y="16714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031720" y="1671480"/>
                <a:ext cx="255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.20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287320" y="16714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642280" y="167148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754240" y="16714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251400" y="1671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308280" y="16714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657840" y="1671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714360" y="16714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833480" y="1660680"/>
                <a:ext cx="787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620800" y="166068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620800" y="166068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833480" y="1863720"/>
                <a:ext cx="787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620800" y="186372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620800" y="186372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833480" y="1668600"/>
                <a:ext cx="1584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620800" y="1668600"/>
                <a:ext cx="828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629080" y="16606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629080" y="16606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637000" y="1660680"/>
                <a:ext cx="7524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389400" y="16606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389400" y="16606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629080" y="1863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629080" y="1863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637000" y="1863720"/>
                <a:ext cx="7524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389400" y="1863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389400" y="1863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629080" y="1668600"/>
                <a:ext cx="792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389400" y="1668600"/>
                <a:ext cx="792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397320" y="16606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397320" y="16606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405240" y="1660680"/>
                <a:ext cx="6732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078440" y="16606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078440" y="16606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397320" y="1863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397320" y="1863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405240" y="1863720"/>
                <a:ext cx="6732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078440" y="1863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078440" y="1863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397320" y="1668600"/>
                <a:ext cx="792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078440" y="1668600"/>
                <a:ext cx="792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086360" y="16606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086360" y="16606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094280" y="1660680"/>
                <a:ext cx="6951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789440" y="16606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789440" y="16606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086360" y="1863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086360" y="1863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094280" y="1863720"/>
                <a:ext cx="6951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789440" y="1863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789440" y="1863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086360" y="1668600"/>
                <a:ext cx="792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789440" y="1668600"/>
                <a:ext cx="792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797360" y="16606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797360" y="16606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805280" y="1660680"/>
                <a:ext cx="593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398920" y="166068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398920" y="166068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797360" y="1863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797360" y="1863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805280" y="1863720"/>
                <a:ext cx="593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398920" y="186372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398920" y="186372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797360" y="1668600"/>
                <a:ext cx="792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398920" y="1668600"/>
                <a:ext cx="828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407200" y="16606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407200" y="16606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416560" y="1660680"/>
                <a:ext cx="585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002280" y="166068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407200" y="18637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407200" y="18637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416560" y="1863720"/>
                <a:ext cx="585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002280" y="186372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407200" y="1668600"/>
                <a:ext cx="936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002280" y="1668600"/>
                <a:ext cx="1584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018120" y="16606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018120" y="16606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6026040" y="1660680"/>
                <a:ext cx="3826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408720" y="166068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018120" y="1863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018120" y="1863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6026040" y="1863720"/>
                <a:ext cx="3826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6408720" y="186372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018120" y="1668600"/>
                <a:ext cx="792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6408720" y="1668600"/>
                <a:ext cx="1584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424560" y="16606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424560" y="16606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432480" y="1660680"/>
                <a:ext cx="6364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7068960" y="1660680"/>
                <a:ext cx="17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424560" y="1863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424560" y="1863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432480" y="1863720"/>
                <a:ext cx="6364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068960" y="1863720"/>
                <a:ext cx="17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424560" y="1668600"/>
                <a:ext cx="792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068960" y="1668600"/>
                <a:ext cx="1764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075040" y="1884240"/>
                <a:ext cx="2566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Valle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074680" y="2001960"/>
                <a:ext cx="358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’Aost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431440" y="20019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864520" y="1876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921400" y="18763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632400" y="187632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97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746880" y="18763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319280" y="1884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376160" y="18842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031360" y="188424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1833480" y="1871640"/>
              <a:ext cx="5253120" cy="598320"/>
              <a:chOff x="1833480" y="1871640"/>
              <a:chExt cx="5253120" cy="598320"/>
            </a:xfrm>
          </p:grpSpPr>
          <p:sp>
            <p:nvSpPr>
              <p:cNvPr id="251" name=""/>
              <p:cNvSpPr/>
              <p:nvPr/>
            </p:nvSpPr>
            <p:spPr>
              <a:xfrm>
                <a:off x="5144400" y="18842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641920" y="1884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698440" y="18842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251400" y="1884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308280" y="18842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657840" y="1884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714360" y="18842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833480" y="1871640"/>
                <a:ext cx="787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620800" y="187164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620800" y="187164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833480" y="2114640"/>
                <a:ext cx="787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620800" y="211464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620800" y="211464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833480" y="1879560"/>
                <a:ext cx="1584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620800" y="1879560"/>
                <a:ext cx="828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629080" y="18716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629080" y="18716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637000" y="1871640"/>
                <a:ext cx="7524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389400" y="18716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389400" y="18716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629080" y="21146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629080" y="21146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637000" y="2114640"/>
                <a:ext cx="7524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389400" y="21146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389400" y="21146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629080" y="1879560"/>
                <a:ext cx="792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389400" y="1879560"/>
                <a:ext cx="792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397320" y="18716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397320" y="18716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405240" y="1871640"/>
                <a:ext cx="6732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078440" y="18716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078440" y="18716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397320" y="21146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397320" y="21146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405240" y="2114640"/>
                <a:ext cx="6732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078440" y="21146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078440" y="21146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397320" y="1879560"/>
                <a:ext cx="792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078440" y="1879560"/>
                <a:ext cx="792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086360" y="18716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086360" y="18716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094280" y="1871640"/>
                <a:ext cx="6951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789440" y="18716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789440" y="18716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086360" y="21146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086360" y="21146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094280" y="2114640"/>
                <a:ext cx="6951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89440" y="21146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789440" y="21146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086360" y="1879560"/>
                <a:ext cx="792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789440" y="1879560"/>
                <a:ext cx="792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797360" y="18716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797360" y="18716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805280" y="1871640"/>
                <a:ext cx="593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5398920" y="187164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398920" y="187164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797360" y="21146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797360" y="21146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805280" y="2114640"/>
                <a:ext cx="593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398920" y="211464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398920" y="211464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797360" y="1879560"/>
                <a:ext cx="792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398920" y="1879560"/>
                <a:ext cx="828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407200" y="18716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407200" y="18716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416560" y="1871640"/>
                <a:ext cx="585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002280" y="187164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407200" y="21146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407200" y="21146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416560" y="2114640"/>
                <a:ext cx="585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6002280" y="211464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407200" y="1879560"/>
                <a:ext cx="936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002280" y="1879560"/>
                <a:ext cx="1584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018120" y="18716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018120" y="18716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026040" y="1871640"/>
                <a:ext cx="3826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408720" y="187164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018120" y="21146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018120" y="21146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026040" y="2114640"/>
                <a:ext cx="3826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408720" y="211464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018120" y="1879560"/>
                <a:ext cx="792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408720" y="1879560"/>
                <a:ext cx="1584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424560" y="18716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424560" y="18716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432480" y="1871640"/>
                <a:ext cx="6364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068960" y="1871640"/>
                <a:ext cx="17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424560" y="21146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424560" y="21146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432480" y="2114640"/>
                <a:ext cx="6364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7068960" y="2114640"/>
                <a:ext cx="17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424560" y="1879560"/>
                <a:ext cx="792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7068960" y="1879560"/>
                <a:ext cx="1764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076480" y="2135160"/>
                <a:ext cx="4809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ombardi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555280" y="21351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864160" y="212724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17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2978280" y="21272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633120" y="2127240"/>
                <a:ext cx="255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1.71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889800" y="21272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320000" y="213516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433400" y="21351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031720" y="2135160"/>
                <a:ext cx="255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.54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287320" y="21351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642280" y="213516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754240" y="21351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252120" y="213516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365160" y="21351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657840" y="21351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714360" y="21351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833480" y="2122560"/>
                <a:ext cx="787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620800" y="212256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620800" y="212256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833480" y="2327400"/>
                <a:ext cx="787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620800" y="232740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620800" y="232740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833480" y="2130480"/>
                <a:ext cx="15840" cy="196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620800" y="2130480"/>
                <a:ext cx="8280" cy="196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629080" y="21225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629080" y="21225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637000" y="2122560"/>
                <a:ext cx="7524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389400" y="21225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389400" y="21225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629080" y="23274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2629080" y="23274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637000" y="2327400"/>
                <a:ext cx="7524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389400" y="23274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389400" y="23274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2629080" y="2130480"/>
                <a:ext cx="7920" cy="196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389400" y="2130480"/>
                <a:ext cx="7920" cy="196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397320" y="21225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397320" y="21225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405240" y="2122560"/>
                <a:ext cx="6732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078440" y="21225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078440" y="21225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397320" y="23274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397320" y="23274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405240" y="2327400"/>
                <a:ext cx="6732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078440" y="23274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078440" y="23274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397320" y="2130480"/>
                <a:ext cx="7920" cy="196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078440" y="2130480"/>
                <a:ext cx="7920" cy="196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086360" y="21225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086360" y="21225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094280" y="2122560"/>
                <a:ext cx="6951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789440" y="21225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789440" y="21225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086360" y="23274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086360" y="23274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094280" y="2327400"/>
                <a:ext cx="6951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789440" y="23274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789440" y="23274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086360" y="2130480"/>
                <a:ext cx="7920" cy="196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789440" y="2130480"/>
                <a:ext cx="7920" cy="196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797360" y="21225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797360" y="21225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805280" y="2122560"/>
                <a:ext cx="593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398920" y="212256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398920" y="212256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797360" y="23274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797360" y="23274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805280" y="2327400"/>
                <a:ext cx="593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398920" y="232740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398920" y="232740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797360" y="2130480"/>
                <a:ext cx="7920" cy="196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5398920" y="2130480"/>
                <a:ext cx="8280" cy="196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407200" y="21225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407200" y="21225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5416560" y="2122560"/>
                <a:ext cx="585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002280" y="212256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5407200" y="23274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5407200" y="23274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5416560" y="2327400"/>
                <a:ext cx="585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002280" y="232740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5407200" y="2130480"/>
                <a:ext cx="9360" cy="196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002280" y="2130480"/>
                <a:ext cx="15840" cy="196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018120" y="21225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018120" y="21225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026040" y="2122560"/>
                <a:ext cx="3826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408720" y="212256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018120" y="23274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018120" y="23274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026040" y="2327400"/>
                <a:ext cx="3826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408720" y="232740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6018120" y="2130480"/>
                <a:ext cx="7920" cy="196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6408720" y="2130480"/>
                <a:ext cx="15840" cy="196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424560" y="21225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6424560" y="21225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6432480" y="2122560"/>
                <a:ext cx="6364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7068960" y="2122560"/>
                <a:ext cx="17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6424560" y="23274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6424560" y="23274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6432480" y="2327400"/>
                <a:ext cx="6364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7068960" y="2327400"/>
                <a:ext cx="17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424560" y="2130480"/>
                <a:ext cx="7920" cy="196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068960" y="2130480"/>
                <a:ext cx="17640" cy="196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2074320" y="2347920"/>
                <a:ext cx="3693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Bolzan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442600" y="23479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864520" y="23400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2921400" y="23400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632760" y="234000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13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1833480" y="2335320"/>
              <a:ext cx="5253120" cy="556920"/>
              <a:chOff x="1833480" y="2335320"/>
              <a:chExt cx="5253120" cy="556920"/>
            </a:xfrm>
          </p:grpSpPr>
          <p:sp>
            <p:nvSpPr>
              <p:cNvPr id="452" name=""/>
              <p:cNvSpPr/>
              <p:nvPr/>
            </p:nvSpPr>
            <p:spPr>
              <a:xfrm>
                <a:off x="3804120" y="23400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319280" y="23479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376160" y="23479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031360" y="234792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1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201640" y="23479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641920" y="23479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698440" y="23479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6251400" y="23479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6308280" y="23479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657840" y="23479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714360" y="23479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1833480" y="2335320"/>
                <a:ext cx="787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2620800" y="233532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2620800" y="233532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1833480" y="2538360"/>
                <a:ext cx="787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2620800" y="253836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2620800" y="253836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1833480" y="2343240"/>
                <a:ext cx="1584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2620800" y="2343240"/>
                <a:ext cx="828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629080" y="23353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2629080" y="23353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2637000" y="2335320"/>
                <a:ext cx="7524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3389400" y="23353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3389400" y="23353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2629080" y="25383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2629080" y="25383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637000" y="2538360"/>
                <a:ext cx="7524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389400" y="25383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389400" y="25383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2629080" y="2343240"/>
                <a:ext cx="792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3389400" y="2343240"/>
                <a:ext cx="792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397320" y="23353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3397320" y="23353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3405240" y="2335320"/>
                <a:ext cx="6732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4078440" y="23353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4078440" y="23353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3397320" y="25383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3397320" y="25383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3405240" y="2538360"/>
                <a:ext cx="6732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078440" y="25383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4078440" y="25383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3397320" y="2343240"/>
                <a:ext cx="792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4078440" y="2343240"/>
                <a:ext cx="792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086360" y="23353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4086360" y="23353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094280" y="2335320"/>
                <a:ext cx="6951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789440" y="23353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789440" y="23353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4086360" y="25383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4086360" y="25383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4094280" y="2538360"/>
                <a:ext cx="6951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4789440" y="25383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4789440" y="25383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4086360" y="2343240"/>
                <a:ext cx="792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4789440" y="2343240"/>
                <a:ext cx="792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4797360" y="23353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797360" y="23353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805280" y="2335320"/>
                <a:ext cx="593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398920" y="233532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5398920" y="233532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797360" y="25383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797360" y="25383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805280" y="2538360"/>
                <a:ext cx="593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398920" y="253836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5398920" y="253836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797360" y="2343240"/>
                <a:ext cx="792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398920" y="2343240"/>
                <a:ext cx="828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407200" y="23353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407200" y="23353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5416560" y="2335320"/>
                <a:ext cx="585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002280" y="233532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5407200" y="25383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5407200" y="25383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416560" y="2538360"/>
                <a:ext cx="585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6002280" y="253836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407200" y="2343240"/>
                <a:ext cx="936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002280" y="2343240"/>
                <a:ext cx="1584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6018120" y="23353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6018120" y="23353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6026040" y="2335320"/>
                <a:ext cx="3826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6408720" y="233532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018120" y="25383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018120" y="25383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6026040" y="2538360"/>
                <a:ext cx="3826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408720" y="253836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6018120" y="2343240"/>
                <a:ext cx="792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6408720" y="2343240"/>
                <a:ext cx="1584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6424560" y="23353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6424560" y="23353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6432480" y="2335320"/>
                <a:ext cx="6364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7068960" y="2335320"/>
                <a:ext cx="17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6424560" y="25383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6424560" y="25383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6432480" y="2538360"/>
                <a:ext cx="6364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7068960" y="2538360"/>
                <a:ext cx="17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6424560" y="2343240"/>
                <a:ext cx="792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7068960" y="2343240"/>
                <a:ext cx="1764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2074320" y="2558880"/>
                <a:ext cx="2948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rent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2368080" y="25588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2864520" y="2552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2921400" y="25527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3632760" y="255276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26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804120" y="25527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4319280" y="2558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376160" y="25588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5031360" y="255888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2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201640" y="25588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641920" y="2558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5698440" y="25588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251400" y="2558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308280" y="25588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6657840" y="2558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6714360" y="25588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833480" y="2546280"/>
                <a:ext cx="787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2620800" y="254628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2620800" y="254628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1833480" y="2749680"/>
                <a:ext cx="7873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620800" y="2749680"/>
                <a:ext cx="8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2620800" y="2749680"/>
                <a:ext cx="8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833480" y="2554200"/>
                <a:ext cx="1584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2620800" y="2554200"/>
                <a:ext cx="828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2629080" y="25462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2629080" y="25462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2637000" y="2546280"/>
                <a:ext cx="7524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3389400" y="25462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389400" y="25462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2629080" y="274968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629080" y="274968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637000" y="2749680"/>
                <a:ext cx="752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389400" y="274968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389400" y="274968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2629080" y="2554200"/>
                <a:ext cx="792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3389400" y="2554200"/>
                <a:ext cx="792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3397320" y="25462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397320" y="25462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405240" y="2546280"/>
                <a:ext cx="6732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078440" y="25462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078440" y="25462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3397320" y="274968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3397320" y="274968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3405240" y="2749680"/>
                <a:ext cx="6732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078440" y="274968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4078440" y="274968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3397320" y="2554200"/>
                <a:ext cx="792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4078440" y="2554200"/>
                <a:ext cx="792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4086360" y="25462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4086360" y="25462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4094280" y="2546280"/>
                <a:ext cx="6951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789440" y="25462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4789440" y="25462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4086360" y="274968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4086360" y="274968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094280" y="2749680"/>
                <a:ext cx="695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789440" y="274968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789440" y="274968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4086360" y="2554200"/>
                <a:ext cx="792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4789440" y="2554200"/>
                <a:ext cx="792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4797360" y="25462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4797360" y="25462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4805280" y="2546280"/>
                <a:ext cx="593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5398920" y="254628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5398920" y="254628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4797360" y="274968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4797360" y="274968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805280" y="2749680"/>
                <a:ext cx="593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5398920" y="2749680"/>
                <a:ext cx="8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5398920" y="2749680"/>
                <a:ext cx="8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797360" y="2554200"/>
                <a:ext cx="792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398920" y="2554200"/>
                <a:ext cx="828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5407200" y="25462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5407200" y="25462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5416560" y="2546280"/>
                <a:ext cx="585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002280" y="254628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5407200" y="27496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407200" y="27496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5416560" y="2749680"/>
                <a:ext cx="585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002280" y="274968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5407200" y="2554200"/>
                <a:ext cx="936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6002280" y="2554200"/>
                <a:ext cx="1584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6018120" y="25462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6018120" y="25462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026040" y="2546280"/>
                <a:ext cx="3826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408720" y="254628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018120" y="274968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6018120" y="274968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6026040" y="2749680"/>
                <a:ext cx="3826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408720" y="274968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018120" y="2554200"/>
                <a:ext cx="792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6408720" y="2554200"/>
                <a:ext cx="1584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6424560" y="25462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424560" y="25462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6432480" y="2546280"/>
                <a:ext cx="6364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7068960" y="2546280"/>
                <a:ext cx="17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424560" y="274968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424560" y="274968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6432480" y="2749680"/>
                <a:ext cx="6364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7068960" y="2749680"/>
                <a:ext cx="17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6424560" y="2554200"/>
                <a:ext cx="792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7068960" y="2554200"/>
                <a:ext cx="1764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2074680" y="2770200"/>
                <a:ext cx="125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V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2" name=""/>
            <p:cNvGrpSpPr/>
            <p:nvPr/>
          </p:nvGrpSpPr>
          <p:grpSpPr>
            <a:xfrm>
              <a:off x="1833480" y="2759040"/>
              <a:ext cx="5253120" cy="423720"/>
              <a:chOff x="1833480" y="2759040"/>
              <a:chExt cx="5253120" cy="423720"/>
            </a:xfrm>
          </p:grpSpPr>
          <p:sp>
            <p:nvSpPr>
              <p:cNvPr id="653" name=""/>
              <p:cNvSpPr/>
              <p:nvPr/>
            </p:nvSpPr>
            <p:spPr>
              <a:xfrm>
                <a:off x="2176920" y="2770200"/>
                <a:ext cx="198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800" spc="-1" strike="noStrike">
                    <a:solidFill>
                      <a:srgbClr val="000000"/>
                    </a:solidFill>
                    <a:latin typeface="Arial"/>
                  </a:rPr>
                  <a:t>net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2397960" y="27702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2864520" y="2763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2921400" y="27637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3632760" y="276372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69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3804120" y="27637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4319280" y="2770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4376160" y="27702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5031360" y="277020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8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5201640" y="27702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5642280" y="277020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5754240" y="27702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6251400" y="2770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6308280" y="27702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6657840" y="2770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714360" y="27702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1833480" y="2759040"/>
                <a:ext cx="787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2620800" y="275904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2620800" y="275904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1833480" y="2962440"/>
                <a:ext cx="787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2620800" y="296244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2620800" y="296244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1833480" y="2766960"/>
                <a:ext cx="1584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2620800" y="2766960"/>
                <a:ext cx="828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2629080" y="27590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2629080" y="27590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2637000" y="2759040"/>
                <a:ext cx="7524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3389400" y="27590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3389400" y="27590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2629080" y="29624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2629080" y="29624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2637000" y="2962440"/>
                <a:ext cx="7524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3389400" y="29624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3389400" y="29624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629080" y="2766960"/>
                <a:ext cx="792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3389400" y="2766960"/>
                <a:ext cx="792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3397320" y="27590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3397320" y="27590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3405240" y="2759040"/>
                <a:ext cx="6732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4078440" y="27590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4078440" y="27590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3397320" y="29624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397320" y="29624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405240" y="2962440"/>
                <a:ext cx="6732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4078440" y="29624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4078440" y="29624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3397320" y="2766960"/>
                <a:ext cx="792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4078440" y="2766960"/>
                <a:ext cx="792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4086360" y="27590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4086360" y="27590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4094280" y="2759040"/>
                <a:ext cx="6951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4789440" y="27590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4789440" y="27590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4086360" y="29624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4086360" y="29624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094280" y="2962440"/>
                <a:ext cx="6951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789440" y="29624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4789440" y="29624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4086360" y="2766960"/>
                <a:ext cx="792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4789440" y="2766960"/>
                <a:ext cx="792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4797360" y="27590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4797360" y="27590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4805280" y="2759040"/>
                <a:ext cx="593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5398920" y="275904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398920" y="275904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4797360" y="29624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4797360" y="29624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4805280" y="2962440"/>
                <a:ext cx="593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5398920" y="296244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5398920" y="296244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4797360" y="2766960"/>
                <a:ext cx="792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5398920" y="2766960"/>
                <a:ext cx="828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5407200" y="27590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5407200" y="27590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5416560" y="2759040"/>
                <a:ext cx="585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6002280" y="275904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5407200" y="29624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5407200" y="29624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5416560" y="2962440"/>
                <a:ext cx="585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02280" y="296244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5407200" y="2766960"/>
                <a:ext cx="936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6002280" y="2766960"/>
                <a:ext cx="1584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6018120" y="27590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6018120" y="27590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6026040" y="2759040"/>
                <a:ext cx="3826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6408720" y="275904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6018120" y="29624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6018120" y="29624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26040" y="2962440"/>
                <a:ext cx="3826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6408720" y="296244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6018120" y="2766960"/>
                <a:ext cx="792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408720" y="2766960"/>
                <a:ext cx="1584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6424560" y="27590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6424560" y="27590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6432480" y="2759040"/>
                <a:ext cx="6364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7068960" y="2759040"/>
                <a:ext cx="17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6424560" y="29624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6424560" y="29624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6432480" y="2962440"/>
                <a:ext cx="6364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7068960" y="2962440"/>
                <a:ext cx="17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6424560" y="2766960"/>
                <a:ext cx="792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7068960" y="2766960"/>
                <a:ext cx="1764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2075040" y="2981160"/>
                <a:ext cx="221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riul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2296440" y="29811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2864520" y="29750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921400" y="29750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632760" y="297504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277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3804120" y="29750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4319280" y="29811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4376160" y="29811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5031360" y="298116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19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5201640" y="29811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5641920" y="29811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5698440" y="29811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6251400" y="29811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6308280" y="29811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6657840" y="29811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6714360" y="29811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1833480" y="2970360"/>
                <a:ext cx="787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2620800" y="297036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620800" y="297036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1833480" y="3174840"/>
                <a:ext cx="787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2620800" y="317484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2620800" y="317484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833480" y="2978280"/>
                <a:ext cx="15840" cy="196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620800" y="2978280"/>
                <a:ext cx="8280" cy="196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2629080" y="29703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2629080" y="29703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2637000" y="2970360"/>
                <a:ext cx="7524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3389400" y="29703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3389400" y="29703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629080" y="31748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2629080" y="31748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2637000" y="3174840"/>
                <a:ext cx="7524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3389400" y="31748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3389400" y="31748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629080" y="2978280"/>
                <a:ext cx="7920" cy="196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389400" y="2978280"/>
                <a:ext cx="7920" cy="196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3397320" y="29703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397320" y="29703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3405240" y="2970360"/>
                <a:ext cx="6732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4078440" y="29703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4078440" y="29703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3397320" y="31748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3397320" y="31748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3405240" y="3174840"/>
                <a:ext cx="6732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4078440" y="31748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4078440" y="31748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3397320" y="2978280"/>
                <a:ext cx="7920" cy="196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4078440" y="2978280"/>
                <a:ext cx="7920" cy="196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4086360" y="29703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4086360" y="29703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4094280" y="2970360"/>
                <a:ext cx="6951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4789440" y="29703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4789440" y="29703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4086360" y="31748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4086360" y="31748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4094280" y="3174840"/>
                <a:ext cx="6951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4789440" y="31748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4789440" y="31748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4086360" y="2978280"/>
                <a:ext cx="7920" cy="196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4789440" y="2978280"/>
                <a:ext cx="7920" cy="196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797360" y="29703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4797360" y="29703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4805280" y="2970360"/>
                <a:ext cx="593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5398920" y="297036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5398920" y="297036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4797360" y="31748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4797360" y="31748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4805280" y="3174840"/>
                <a:ext cx="593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5398920" y="317484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5398920" y="317484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4797360" y="2978280"/>
                <a:ext cx="7920" cy="196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5398920" y="2978280"/>
                <a:ext cx="8280" cy="196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5407200" y="29703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5407200" y="29703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5416560" y="2970360"/>
                <a:ext cx="585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6002280" y="297036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5407200" y="31748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5407200" y="31748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5416560" y="3174840"/>
                <a:ext cx="585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6002280" y="317484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5407200" y="2978280"/>
                <a:ext cx="9360" cy="196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6002280" y="2978280"/>
                <a:ext cx="15840" cy="196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6018120" y="29703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6018120" y="29703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6026040" y="2970360"/>
                <a:ext cx="3826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6408720" y="297036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6018120" y="31748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6018120" y="31748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6026040" y="3174840"/>
                <a:ext cx="3826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6408720" y="317484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6018120" y="2978280"/>
                <a:ext cx="7920" cy="196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6408720" y="2978280"/>
                <a:ext cx="15840" cy="196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6424560" y="29703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6424560" y="29703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6432480" y="2970360"/>
                <a:ext cx="6364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7068960" y="2970360"/>
                <a:ext cx="17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6424560" y="31748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6424560" y="31748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3" name=""/>
            <p:cNvGrpSpPr/>
            <p:nvPr/>
          </p:nvGrpSpPr>
          <p:grpSpPr>
            <a:xfrm>
              <a:off x="1833480" y="2978280"/>
              <a:ext cx="5253120" cy="626760"/>
              <a:chOff x="1833480" y="2978280"/>
              <a:chExt cx="5253120" cy="626760"/>
            </a:xfrm>
          </p:grpSpPr>
          <p:sp>
            <p:nvSpPr>
              <p:cNvPr id="854" name=""/>
              <p:cNvSpPr/>
              <p:nvPr/>
            </p:nvSpPr>
            <p:spPr>
              <a:xfrm>
                <a:off x="6432480" y="3174840"/>
                <a:ext cx="6364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7068960" y="3174840"/>
                <a:ext cx="17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6424560" y="2978280"/>
                <a:ext cx="7920" cy="196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7068960" y="2978280"/>
                <a:ext cx="17640" cy="196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2076120" y="3195720"/>
                <a:ext cx="305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guri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2380680" y="31957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864520" y="3187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2921400" y="31878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3632760" y="3187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3689640" y="318780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87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3804120" y="31878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4319280" y="3195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4376160" y="31957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5031360" y="319572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3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5201640" y="31957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5641920" y="3195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5698440" y="31957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6251400" y="3195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6308280" y="31957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6657840" y="3195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6714360" y="31957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833480" y="3182760"/>
                <a:ext cx="7873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620800" y="3182760"/>
                <a:ext cx="828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2620800" y="3182760"/>
                <a:ext cx="828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1833480" y="3386160"/>
                <a:ext cx="787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2620800" y="338616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2620800" y="338616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1833480" y="3191040"/>
                <a:ext cx="1584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2620800" y="3191040"/>
                <a:ext cx="828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2629080" y="31827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2629080" y="31827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2637000" y="3182760"/>
                <a:ext cx="75240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3389400" y="31827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389400" y="31827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2629080" y="33861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2629080" y="33861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2637000" y="3386160"/>
                <a:ext cx="7524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3389400" y="33861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389400" y="33861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2629080" y="3191040"/>
                <a:ext cx="792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3389400" y="3191040"/>
                <a:ext cx="792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3397320" y="31827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3397320" y="31827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405240" y="3182760"/>
                <a:ext cx="67320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4078440" y="31827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4078440" y="31827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3397320" y="33861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3397320" y="33861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405240" y="3386160"/>
                <a:ext cx="6732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4078440" y="33861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4078440" y="33861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3397320" y="3191040"/>
                <a:ext cx="792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4078440" y="3191040"/>
                <a:ext cx="792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4086360" y="31827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4086360" y="31827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4094280" y="3182760"/>
                <a:ext cx="6951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4789440" y="31827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4789440" y="31827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4086360" y="33861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4086360" y="33861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4094280" y="3386160"/>
                <a:ext cx="6951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4789440" y="33861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4789440" y="33861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4086360" y="3191040"/>
                <a:ext cx="792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4789440" y="3191040"/>
                <a:ext cx="792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4797360" y="31827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4797360" y="31827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4805280" y="3182760"/>
                <a:ext cx="5936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5398920" y="3182760"/>
                <a:ext cx="828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5398920" y="3182760"/>
                <a:ext cx="828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4797360" y="33861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4797360" y="33861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4805280" y="3386160"/>
                <a:ext cx="593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5398920" y="338616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5398920" y="338616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4797360" y="3191040"/>
                <a:ext cx="792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5398920" y="3191040"/>
                <a:ext cx="828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5407200" y="318276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5407200" y="318276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5416560" y="3182760"/>
                <a:ext cx="585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6002280" y="3182760"/>
                <a:ext cx="158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5407200" y="33861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5407200" y="33861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5416560" y="3386160"/>
                <a:ext cx="585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6002280" y="338616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5407200" y="3191040"/>
                <a:ext cx="936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6002280" y="3191040"/>
                <a:ext cx="1584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6018120" y="31827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6018120" y="31827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6026040" y="3182760"/>
                <a:ext cx="38268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6408720" y="3182760"/>
                <a:ext cx="158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6018120" y="33861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6018120" y="33861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6026040" y="3386160"/>
                <a:ext cx="3826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6408720" y="338616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6018120" y="3191040"/>
                <a:ext cx="792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6408720" y="3191040"/>
                <a:ext cx="1584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6424560" y="31827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6424560" y="31827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6432480" y="3182760"/>
                <a:ext cx="63648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7068960" y="3182760"/>
                <a:ext cx="176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6424560" y="33861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6424560" y="33861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6432480" y="3386160"/>
                <a:ext cx="6364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7068960" y="3386160"/>
                <a:ext cx="17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6424560" y="3191040"/>
                <a:ext cx="792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7068960" y="3191040"/>
                <a:ext cx="1764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2074680" y="3406680"/>
                <a:ext cx="279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mili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2351880" y="34066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864520" y="3398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2921400" y="33987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3632760" y="339876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42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3804120" y="33987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4319280" y="3406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4376160" y="34066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5031360" y="340668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4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5201640" y="34066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5642280" y="340668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5754240" y="34066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6251400" y="3406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6308280" y="34066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6657840" y="3406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6714360" y="34066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1833480" y="3394080"/>
                <a:ext cx="787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2620800" y="339408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2620800" y="339408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1833480" y="3597120"/>
                <a:ext cx="787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2620800" y="359712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2620800" y="359712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1833480" y="3402000"/>
                <a:ext cx="1584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2620800" y="3402000"/>
                <a:ext cx="828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2629080" y="33940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2629080" y="33940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2637000" y="3394080"/>
                <a:ext cx="7524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3389400" y="33940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3389400" y="33940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2629080" y="35971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2629080" y="35971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2637000" y="3597120"/>
                <a:ext cx="7524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3389400" y="35971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3389400" y="35971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2629080" y="3402000"/>
                <a:ext cx="792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3389400" y="3402000"/>
                <a:ext cx="792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3397320" y="33940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3397320" y="33940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3405240" y="3394080"/>
                <a:ext cx="6732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4078440" y="33940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4078440" y="33940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3397320" y="35971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3397320" y="35971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3405240" y="3597120"/>
                <a:ext cx="6732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4078440" y="35971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4078440" y="35971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3397320" y="3402000"/>
                <a:ext cx="792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4078440" y="3402000"/>
                <a:ext cx="792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4086360" y="33940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4086360" y="33940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4094280" y="3394080"/>
                <a:ext cx="6951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4789440" y="33940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4789440" y="33940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4086360" y="35971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4086360" y="35971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4094280" y="3597120"/>
                <a:ext cx="6951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4789440" y="35971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4789440" y="35971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4086360" y="3402000"/>
                <a:ext cx="792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4789440" y="3402000"/>
                <a:ext cx="792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4797360" y="33940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4797360" y="33940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4805280" y="3394080"/>
                <a:ext cx="593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5398920" y="339408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5398920" y="339408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797360" y="35971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4797360" y="35971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4805280" y="3597120"/>
                <a:ext cx="593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5398920" y="359712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5398920" y="359712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4797360" y="3402000"/>
                <a:ext cx="792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5398920" y="3402000"/>
                <a:ext cx="828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5407200" y="33940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5407200" y="33940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5416560" y="3394080"/>
                <a:ext cx="585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6002280" y="339408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5407200" y="35971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5407200" y="35971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5416560" y="3597120"/>
                <a:ext cx="585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6002280" y="359712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5407200" y="3402000"/>
                <a:ext cx="936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6002280" y="3402000"/>
                <a:ext cx="1584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6018120" y="33940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6018120" y="33940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6026040" y="3394080"/>
                <a:ext cx="3826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6408720" y="339408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6018120" y="35971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6018120" y="35971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6026040" y="3597120"/>
                <a:ext cx="3826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6408720" y="359712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6018120" y="3402000"/>
                <a:ext cx="792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6408720" y="3402000"/>
                <a:ext cx="1584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6424560" y="33940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4" name=""/>
            <p:cNvGrpSpPr/>
            <p:nvPr/>
          </p:nvGrpSpPr>
          <p:grpSpPr>
            <a:xfrm>
              <a:off x="1833480" y="3394080"/>
              <a:ext cx="5253120" cy="636480"/>
              <a:chOff x="1833480" y="3394080"/>
              <a:chExt cx="5253120" cy="636480"/>
            </a:xfrm>
          </p:grpSpPr>
          <p:sp>
            <p:nvSpPr>
              <p:cNvPr id="1055" name=""/>
              <p:cNvSpPr/>
              <p:nvPr/>
            </p:nvSpPr>
            <p:spPr>
              <a:xfrm>
                <a:off x="6424560" y="33940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6432480" y="3394080"/>
                <a:ext cx="6364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7068960" y="3394080"/>
                <a:ext cx="17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6424560" y="35971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6424560" y="35971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6432480" y="3597120"/>
                <a:ext cx="6364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7068960" y="3597120"/>
                <a:ext cx="17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6424560" y="3402000"/>
                <a:ext cx="792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7068960" y="3402000"/>
                <a:ext cx="1764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2074680" y="3618000"/>
                <a:ext cx="392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oscan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2466360" y="36180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2864520" y="36115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2921400" y="36115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3632760" y="361152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38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3804120" y="36115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4320000" y="361800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4433400" y="36180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5031360" y="361800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87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5201640" y="36180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5642280" y="361800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5754240" y="36180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6251400" y="36180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6308280" y="36180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6657840" y="36180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6714360" y="36180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1833480" y="3605040"/>
                <a:ext cx="7873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2620800" y="3605040"/>
                <a:ext cx="828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2620800" y="3605040"/>
                <a:ext cx="828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1833480" y="3808440"/>
                <a:ext cx="7873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2620800" y="3808440"/>
                <a:ext cx="8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2620800" y="3808440"/>
                <a:ext cx="8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1833480" y="3613320"/>
                <a:ext cx="1584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2620800" y="3613320"/>
                <a:ext cx="828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2629080" y="360504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2629080" y="360504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2637000" y="3605040"/>
                <a:ext cx="75240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3389400" y="360504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3389400" y="360504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2629080" y="380844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2629080" y="380844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2637000" y="3808440"/>
                <a:ext cx="752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3389400" y="380844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3389400" y="380844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2629080" y="3613320"/>
                <a:ext cx="792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3389400" y="3613320"/>
                <a:ext cx="792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3397320" y="360504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3397320" y="360504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3405240" y="3605040"/>
                <a:ext cx="67320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4078440" y="360504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4078440" y="360504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3397320" y="380844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3397320" y="380844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3405240" y="3808440"/>
                <a:ext cx="6732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4078440" y="380844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4078440" y="380844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3397320" y="3613320"/>
                <a:ext cx="792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4078440" y="3613320"/>
                <a:ext cx="792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4086360" y="360504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4086360" y="360504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4094280" y="3605040"/>
                <a:ext cx="6951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4789440" y="360504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4789440" y="360504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4086360" y="380844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4086360" y="380844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4094280" y="3808440"/>
                <a:ext cx="695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4789440" y="380844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4789440" y="380844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4086360" y="3613320"/>
                <a:ext cx="792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4789440" y="3613320"/>
                <a:ext cx="792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4797360" y="360504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4797360" y="360504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4805280" y="3605040"/>
                <a:ext cx="5936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5398920" y="3605040"/>
                <a:ext cx="828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5398920" y="3605040"/>
                <a:ext cx="828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4797360" y="380844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4797360" y="380844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4805280" y="3808440"/>
                <a:ext cx="593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5398920" y="3808440"/>
                <a:ext cx="8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5398920" y="3808440"/>
                <a:ext cx="8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4797360" y="3613320"/>
                <a:ext cx="792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5398920" y="3613320"/>
                <a:ext cx="828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5407200" y="360504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5407200" y="360504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5416560" y="3605040"/>
                <a:ext cx="585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6002280" y="3605040"/>
                <a:ext cx="158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5407200" y="38084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5407200" y="38084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5416560" y="3808440"/>
                <a:ext cx="585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6002280" y="380844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5407200" y="3613320"/>
                <a:ext cx="936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6002280" y="3613320"/>
                <a:ext cx="1584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6018120" y="360504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6018120" y="360504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6026040" y="3605040"/>
                <a:ext cx="38268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6408720" y="3605040"/>
                <a:ext cx="158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6018120" y="380844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6018120" y="380844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6026040" y="3808440"/>
                <a:ext cx="3826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6408720" y="380844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6018120" y="3613320"/>
                <a:ext cx="792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6408720" y="3613320"/>
                <a:ext cx="1584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6424560" y="360504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6424560" y="360504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6432480" y="3605040"/>
                <a:ext cx="63648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7068960" y="3605040"/>
                <a:ext cx="176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6424560" y="380844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6424560" y="380844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6432480" y="3808440"/>
                <a:ext cx="6364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7068960" y="3808440"/>
                <a:ext cx="17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6424560" y="3613320"/>
                <a:ext cx="792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7068960" y="3613320"/>
                <a:ext cx="1764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2075760" y="3828960"/>
                <a:ext cx="3283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mbri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2403000" y="38289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2864520" y="38228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2921400" y="38228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3632760" y="382284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12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3804120" y="38228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4319280" y="38289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4376160" y="38289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5031360" y="382896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5144400" y="38289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5641920" y="38289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5698440" y="38289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6251400" y="38289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6308280" y="38289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6657840" y="38289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6714360" y="38289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1833480" y="3817800"/>
                <a:ext cx="787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2620800" y="381780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2620800" y="381780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1833480" y="4021200"/>
                <a:ext cx="7873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2620800" y="4021200"/>
                <a:ext cx="8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2620800" y="4021200"/>
                <a:ext cx="8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1833480" y="3825720"/>
                <a:ext cx="1584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2620800" y="3825720"/>
                <a:ext cx="828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2629080" y="38178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2629080" y="38178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2637000" y="3817800"/>
                <a:ext cx="7524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3389400" y="38178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3389400" y="38178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2629080" y="402120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2629080" y="402120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2637000" y="4021200"/>
                <a:ext cx="752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3389400" y="402120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3389400" y="402120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2629080" y="3825720"/>
                <a:ext cx="792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3389400" y="3825720"/>
                <a:ext cx="792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3397320" y="38178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3397320" y="38178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3405240" y="3817800"/>
                <a:ext cx="6732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4078440" y="38178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4078440" y="38178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3397320" y="402120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3397320" y="402120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3405240" y="4021200"/>
                <a:ext cx="6732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4078440" y="402120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4078440" y="402120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3397320" y="3825720"/>
                <a:ext cx="792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4078440" y="3825720"/>
                <a:ext cx="792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4086360" y="38178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4086360" y="38178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4094280" y="3817800"/>
                <a:ext cx="6951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4789440" y="38178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4789440" y="38178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4086360" y="402120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4086360" y="402120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4094280" y="4021200"/>
                <a:ext cx="695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4789440" y="402120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4789440" y="402120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4086360" y="3825720"/>
                <a:ext cx="792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4789440" y="3825720"/>
                <a:ext cx="792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4797360" y="38178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4797360" y="38178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4805280" y="3817800"/>
                <a:ext cx="593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5398920" y="381780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5398920" y="381780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4797360" y="402120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4797360" y="402120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4805280" y="4021200"/>
                <a:ext cx="593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5398920" y="4021200"/>
                <a:ext cx="8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5398920" y="4021200"/>
                <a:ext cx="8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4797360" y="3825720"/>
                <a:ext cx="792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5398920" y="3825720"/>
                <a:ext cx="828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5407200" y="38178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5407200" y="38178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5416560" y="3817800"/>
                <a:ext cx="585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6002280" y="381780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5407200" y="402120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5407200" y="402120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5416560" y="4021200"/>
                <a:ext cx="585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6002280" y="402120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5407200" y="3825720"/>
                <a:ext cx="936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6002280" y="3825720"/>
                <a:ext cx="1584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6018120" y="38178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6018120" y="38178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6026040" y="3817800"/>
                <a:ext cx="3826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6408720" y="381780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6018120" y="402120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6018120" y="402120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6026040" y="4021200"/>
                <a:ext cx="3826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5" name=""/>
            <p:cNvGrpSpPr/>
            <p:nvPr/>
          </p:nvGrpSpPr>
          <p:grpSpPr>
            <a:xfrm>
              <a:off x="1833480" y="3817800"/>
              <a:ext cx="5253120" cy="635040"/>
              <a:chOff x="1833480" y="3817800"/>
              <a:chExt cx="5253120" cy="635040"/>
            </a:xfrm>
          </p:grpSpPr>
          <p:sp>
            <p:nvSpPr>
              <p:cNvPr id="1256" name=""/>
              <p:cNvSpPr/>
              <p:nvPr/>
            </p:nvSpPr>
            <p:spPr>
              <a:xfrm>
                <a:off x="6408720" y="402120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6018120" y="3825720"/>
                <a:ext cx="792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6408720" y="3825720"/>
                <a:ext cx="1584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6424560" y="38178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6424560" y="38178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6432480" y="3817800"/>
                <a:ext cx="6364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7068960" y="3817800"/>
                <a:ext cx="17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6424560" y="402120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6424560" y="402120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6432480" y="4021200"/>
                <a:ext cx="6364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7068960" y="4021200"/>
                <a:ext cx="17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6424560" y="3825720"/>
                <a:ext cx="792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7068960" y="3825720"/>
                <a:ext cx="1764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2074320" y="4041720"/>
                <a:ext cx="340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arch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2412360" y="40417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2864520" y="4035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2921400" y="40356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3632760" y="403560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30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3804120" y="40356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4319280" y="4041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4376160" y="40417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5031360" y="404172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4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5201640" y="40417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5642280" y="404172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5754240" y="40417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6251400" y="4041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6308280" y="40417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6657840" y="4041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6714360" y="40417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1833480" y="4030560"/>
                <a:ext cx="787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2620800" y="403056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2620800" y="403056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1833480" y="4233960"/>
                <a:ext cx="787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2620800" y="423396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2620800" y="423396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1833480" y="4038480"/>
                <a:ext cx="1584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2620800" y="4038480"/>
                <a:ext cx="828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2629080" y="40305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2629080" y="40305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2637000" y="4030560"/>
                <a:ext cx="7524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3389400" y="40305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3389400" y="40305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2629080" y="42339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2629080" y="42339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2637000" y="4233960"/>
                <a:ext cx="7524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3389400" y="42339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3389400" y="42339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2629080" y="4038480"/>
                <a:ext cx="792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3389400" y="4038480"/>
                <a:ext cx="792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3397320" y="40305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3397320" y="40305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3405240" y="4030560"/>
                <a:ext cx="6732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4078440" y="40305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4078440" y="40305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3397320" y="42339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3397320" y="42339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3405240" y="4233960"/>
                <a:ext cx="6732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4078440" y="42339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4078440" y="42339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3397320" y="4038480"/>
                <a:ext cx="792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4078440" y="4038480"/>
                <a:ext cx="792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4086360" y="40305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4086360" y="40305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4094280" y="4030560"/>
                <a:ext cx="6951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4789440" y="40305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4789440" y="40305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4086360" y="42339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4086360" y="42339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4094280" y="4233960"/>
                <a:ext cx="6951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4789440" y="42339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4789440" y="42339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4086360" y="4038480"/>
                <a:ext cx="792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4789440" y="4038480"/>
                <a:ext cx="792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4797360" y="40305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4797360" y="40305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4805280" y="4030560"/>
                <a:ext cx="593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5398920" y="403056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5398920" y="403056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4797360" y="42339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4797360" y="42339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4805280" y="4233960"/>
                <a:ext cx="593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5398920" y="423396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5398920" y="423396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4797360" y="4038480"/>
                <a:ext cx="792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5398920" y="4038480"/>
                <a:ext cx="828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5407200" y="40305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5407200" y="40305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5416560" y="4030560"/>
                <a:ext cx="585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6002280" y="403056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5407200" y="42339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5407200" y="42339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5416560" y="4233960"/>
                <a:ext cx="585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6002280" y="423396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5407200" y="4038480"/>
                <a:ext cx="936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6002280" y="4038480"/>
                <a:ext cx="1584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6018120" y="40305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6018120" y="40305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6026040" y="4030560"/>
                <a:ext cx="3826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6408720" y="403056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6018120" y="42339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6018120" y="42339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6026040" y="4233960"/>
                <a:ext cx="3826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6408720" y="423396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6018120" y="4038480"/>
                <a:ext cx="792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6408720" y="4038480"/>
                <a:ext cx="1584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6424560" y="40305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6424560" y="40305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6432480" y="4030560"/>
                <a:ext cx="6364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7068960" y="4030560"/>
                <a:ext cx="17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6424560" y="42339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6424560" y="42339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6432480" y="4233960"/>
                <a:ext cx="6364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7068960" y="4233960"/>
                <a:ext cx="17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6424560" y="4038480"/>
                <a:ext cx="792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7068960" y="4038480"/>
                <a:ext cx="1764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2074680" y="4254480"/>
                <a:ext cx="2444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azi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2318760" y="42544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2864520" y="424656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12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3035520" y="42465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3632760" y="424656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46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3804120" y="42465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4319280" y="425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4376160" y="42544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5031360" y="425448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78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5201640" y="42544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5642280" y="425448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5754240" y="42544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6251400" y="425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6308280" y="42544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6657840" y="4254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6714360" y="42544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1833480" y="4241880"/>
                <a:ext cx="787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2620800" y="424188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2620800" y="424188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1833480" y="4444920"/>
                <a:ext cx="787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2620800" y="444492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2620800" y="444492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1833480" y="4249800"/>
                <a:ext cx="1584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2620800" y="4249800"/>
                <a:ext cx="828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2629080" y="42418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2629080" y="42418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2637000" y="4241880"/>
                <a:ext cx="7524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3389400" y="42418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3389400" y="42418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2629080" y="44449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2629080" y="44449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2637000" y="4444920"/>
                <a:ext cx="7524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3389400" y="44449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3389400" y="44449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2629080" y="4249800"/>
                <a:ext cx="792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3389400" y="4249800"/>
                <a:ext cx="792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3397320" y="42418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3397320" y="42418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3405240" y="4241880"/>
                <a:ext cx="6732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4078440" y="42418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4078440" y="42418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3397320" y="44449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3397320" y="44449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3405240" y="4444920"/>
                <a:ext cx="6732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4078440" y="44449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4078440" y="44449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3397320" y="4249800"/>
                <a:ext cx="792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4078440" y="4249800"/>
                <a:ext cx="792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4086360" y="42418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4086360" y="42418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4094280" y="4241880"/>
                <a:ext cx="6951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4789440" y="42418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4789440" y="42418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4086360" y="44449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4086360" y="44449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4094280" y="4444920"/>
                <a:ext cx="6951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4789440" y="44449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4789440" y="44449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4086360" y="4249800"/>
                <a:ext cx="792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4789440" y="4249800"/>
                <a:ext cx="792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4797360" y="42418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4797360" y="42418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4805280" y="4241880"/>
                <a:ext cx="593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5398920" y="424188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5398920" y="424188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4797360" y="44449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4797360" y="44449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4805280" y="4444920"/>
                <a:ext cx="593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5398920" y="444492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5398920" y="444492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4797360" y="4249800"/>
                <a:ext cx="792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5398920" y="4249800"/>
                <a:ext cx="828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5407200" y="42418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5407200" y="42418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5416560" y="4241880"/>
                <a:ext cx="585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6002280" y="424188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5407200" y="44449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5407200" y="44449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5416560" y="4444920"/>
                <a:ext cx="585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6002280" y="444492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5407200" y="4249800"/>
                <a:ext cx="936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6002280" y="4249800"/>
                <a:ext cx="1584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6018120" y="42418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6018120" y="42418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6026040" y="4241880"/>
                <a:ext cx="3826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6" name=""/>
            <p:cNvGrpSpPr/>
            <p:nvPr/>
          </p:nvGrpSpPr>
          <p:grpSpPr>
            <a:xfrm>
              <a:off x="1833480" y="4241880"/>
              <a:ext cx="5253120" cy="635040"/>
              <a:chOff x="1833480" y="4241880"/>
              <a:chExt cx="5253120" cy="635040"/>
            </a:xfrm>
          </p:grpSpPr>
          <p:sp>
            <p:nvSpPr>
              <p:cNvPr id="1457" name=""/>
              <p:cNvSpPr/>
              <p:nvPr/>
            </p:nvSpPr>
            <p:spPr>
              <a:xfrm>
                <a:off x="6408720" y="424188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6018120" y="44449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6018120" y="44449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6026040" y="4444920"/>
                <a:ext cx="3826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6408720" y="444492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6018120" y="4249800"/>
                <a:ext cx="792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6408720" y="4249800"/>
                <a:ext cx="1584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6424560" y="42418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6424560" y="42418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6432480" y="4241880"/>
                <a:ext cx="6364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7068960" y="4241880"/>
                <a:ext cx="17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6424560" y="44449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6424560" y="44449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6432480" y="4444920"/>
                <a:ext cx="6364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7068960" y="4444920"/>
                <a:ext cx="17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6424560" y="4249800"/>
                <a:ext cx="792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7068960" y="4249800"/>
                <a:ext cx="1764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2073600" y="4465800"/>
                <a:ext cx="375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bruzz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2447280" y="44658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2864520" y="4459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2921400" y="44593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3632760" y="445932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35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3804120" y="44593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4319280" y="4465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4376160" y="44658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5031360" y="446580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0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5201640" y="44658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5641920" y="4465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5698440" y="44658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6251400" y="4465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6308280" y="44658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6657840" y="4465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6714360" y="44658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1833480" y="4452840"/>
                <a:ext cx="787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2620800" y="445284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2620800" y="445284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1833480" y="4656240"/>
                <a:ext cx="787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2620800" y="465624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2620800" y="465624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1833480" y="4460760"/>
                <a:ext cx="1584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2620800" y="4460760"/>
                <a:ext cx="828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2629080" y="44528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2629080" y="44528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2637000" y="4452840"/>
                <a:ext cx="7524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3389400" y="44528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3389400" y="44528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2629080" y="46562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2629080" y="46562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2637000" y="4656240"/>
                <a:ext cx="7524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3389400" y="46562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3389400" y="46562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2629080" y="4460760"/>
                <a:ext cx="792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3389400" y="4460760"/>
                <a:ext cx="792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3397320" y="44528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3397320" y="44528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3405240" y="4452840"/>
                <a:ext cx="6732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4078440" y="44528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4078440" y="44528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3397320" y="46562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3397320" y="46562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3405240" y="4656240"/>
                <a:ext cx="6732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4078440" y="46562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4078440" y="46562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3397320" y="4460760"/>
                <a:ext cx="792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4078440" y="4460760"/>
                <a:ext cx="792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4086360" y="44528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4086360" y="44528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4094280" y="4452840"/>
                <a:ext cx="6951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4789440" y="44528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4789440" y="44528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4086360" y="46562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4086360" y="46562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4094280" y="4656240"/>
                <a:ext cx="6951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4789440" y="46562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4789440" y="46562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4086360" y="4460760"/>
                <a:ext cx="792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4789440" y="4460760"/>
                <a:ext cx="792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4797360" y="44528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4797360" y="44528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4805280" y="4452840"/>
                <a:ext cx="593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5398920" y="445284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5398920" y="445284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4797360" y="46562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4797360" y="46562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4805280" y="4656240"/>
                <a:ext cx="593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5398920" y="465624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5398920" y="465624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4797360" y="4460760"/>
                <a:ext cx="792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5398920" y="4460760"/>
                <a:ext cx="828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5407200" y="44528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5407200" y="44528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5416560" y="4452840"/>
                <a:ext cx="585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6002280" y="445284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5407200" y="46562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5407200" y="46562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5416560" y="4656240"/>
                <a:ext cx="585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6002280" y="465624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5407200" y="4460760"/>
                <a:ext cx="936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6002280" y="4460760"/>
                <a:ext cx="1584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6018120" y="44528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6018120" y="44528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6026040" y="4452840"/>
                <a:ext cx="3826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6408720" y="445284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6018120" y="46562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6018120" y="46562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6026040" y="4656240"/>
                <a:ext cx="3826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6408720" y="465624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6018120" y="4460760"/>
                <a:ext cx="792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6408720" y="4460760"/>
                <a:ext cx="1584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6424560" y="44528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6424560" y="44528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6432480" y="4452840"/>
                <a:ext cx="6364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7068960" y="4452840"/>
                <a:ext cx="17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6424560" y="46562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6424560" y="46562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6432480" y="4656240"/>
                <a:ext cx="6364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7068960" y="4656240"/>
                <a:ext cx="17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6424560" y="4460760"/>
                <a:ext cx="792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7068960" y="4460760"/>
                <a:ext cx="1764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2073600" y="4676760"/>
                <a:ext cx="2962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olis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2368080" y="46767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2864520" y="46702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2921400" y="46702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3632760" y="467028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167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3804120" y="46702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4319280" y="4676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4376160" y="46767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5031360" y="467676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3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5201640" y="46767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5641920" y="4676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5698440" y="46767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6251400" y="4676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6308280" y="46767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6657840" y="4676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6714360" y="46767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1833480" y="4664160"/>
                <a:ext cx="787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2620800" y="466416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2620800" y="466416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1833480" y="4869000"/>
                <a:ext cx="787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2620800" y="486900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2620800" y="486900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1833480" y="4672080"/>
                <a:ext cx="15840" cy="196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2620800" y="4672080"/>
                <a:ext cx="8280" cy="196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2629080" y="46641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2629080" y="46641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2637000" y="4664160"/>
                <a:ext cx="7524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3389400" y="46641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3389400" y="46641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2629080" y="48690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2629080" y="48690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2637000" y="4869000"/>
                <a:ext cx="7524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3389400" y="48690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3389400" y="48690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2629080" y="4672080"/>
                <a:ext cx="7920" cy="196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3389400" y="4672080"/>
                <a:ext cx="7920" cy="196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3397320" y="46641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3397320" y="46641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3405240" y="4664160"/>
                <a:ext cx="6732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4078440" y="46641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4078440" y="46641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3397320" y="48690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3397320" y="48690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3405240" y="4869000"/>
                <a:ext cx="6732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4078440" y="48690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4078440" y="48690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3397320" y="4672080"/>
                <a:ext cx="7920" cy="196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4078440" y="4672080"/>
                <a:ext cx="7920" cy="196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4086360" y="46641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4086360" y="46641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4094280" y="4664160"/>
                <a:ext cx="6951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4789440" y="46641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4789440" y="46641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4086360" y="48690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4086360" y="48690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4094280" y="4869000"/>
                <a:ext cx="6951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4789440" y="48690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4789440" y="48690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4086360" y="4672080"/>
                <a:ext cx="7920" cy="196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4789440" y="4672080"/>
                <a:ext cx="7920" cy="196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4797360" y="46641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4797360" y="46641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4805280" y="4664160"/>
                <a:ext cx="593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5398920" y="466416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5398920" y="466416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4797360" y="48690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4797360" y="48690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4805280" y="4869000"/>
                <a:ext cx="593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5398920" y="486900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5398920" y="486900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4797360" y="4672080"/>
                <a:ext cx="7920" cy="196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5398920" y="4672080"/>
                <a:ext cx="8280" cy="196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5407200" y="46641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5407200" y="46641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5416560" y="4664160"/>
                <a:ext cx="585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6002280" y="466416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5407200" y="48690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5407200" y="48690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5416560" y="4869000"/>
                <a:ext cx="585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6002280" y="486900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5407200" y="4672080"/>
                <a:ext cx="9360" cy="196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7" name=""/>
            <p:cNvGrpSpPr/>
            <p:nvPr/>
          </p:nvGrpSpPr>
          <p:grpSpPr>
            <a:xfrm>
              <a:off x="1833480" y="4664160"/>
              <a:ext cx="5253120" cy="636480"/>
              <a:chOff x="1833480" y="4664160"/>
              <a:chExt cx="5253120" cy="636480"/>
            </a:xfrm>
          </p:grpSpPr>
          <p:sp>
            <p:nvSpPr>
              <p:cNvPr id="1658" name=""/>
              <p:cNvSpPr/>
              <p:nvPr/>
            </p:nvSpPr>
            <p:spPr>
              <a:xfrm>
                <a:off x="6002280" y="4672080"/>
                <a:ext cx="15840" cy="196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6018120" y="46641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6018120" y="46641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6026040" y="4664160"/>
                <a:ext cx="3826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6408720" y="466416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6018120" y="48690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6018120" y="48690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6026040" y="4869000"/>
                <a:ext cx="3826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6408720" y="486900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6018120" y="4672080"/>
                <a:ext cx="7920" cy="196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6408720" y="4672080"/>
                <a:ext cx="15840" cy="196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6424560" y="46641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6424560" y="46641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6432480" y="4664160"/>
                <a:ext cx="6364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7068960" y="4664160"/>
                <a:ext cx="17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6424560" y="48690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6424560" y="48690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6432480" y="4869000"/>
                <a:ext cx="6364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7068960" y="4869000"/>
                <a:ext cx="17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6424560" y="4672080"/>
                <a:ext cx="7920" cy="196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7068960" y="4672080"/>
                <a:ext cx="17640" cy="196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2076120" y="4889520"/>
                <a:ext cx="464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ampani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2539440" y="48895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2864520" y="48830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2921400" y="48830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3632760" y="488304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64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3804120" y="48830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4319280" y="48895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4376160" y="48895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5031360" y="488952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5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5201640" y="48895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5642280" y="488952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5754240" y="48895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6252120" y="488952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6365160" y="48895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6657840" y="48895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6714360" y="48895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1833480" y="4876920"/>
                <a:ext cx="7873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2620800" y="4876920"/>
                <a:ext cx="8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2620800" y="4876920"/>
                <a:ext cx="8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1833480" y="5081760"/>
                <a:ext cx="787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2620800" y="508176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2620800" y="508176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1833480" y="4886280"/>
                <a:ext cx="1584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2620800" y="4886280"/>
                <a:ext cx="828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2629080" y="487692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2629080" y="487692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2637000" y="4876920"/>
                <a:ext cx="752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3389400" y="487692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3389400" y="487692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2629080" y="50817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2629080" y="50817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2637000" y="5081760"/>
                <a:ext cx="7524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3389400" y="50817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3389400" y="50817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2629080" y="4886280"/>
                <a:ext cx="792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3389400" y="4886280"/>
                <a:ext cx="792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3397320" y="487692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3397320" y="487692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3405240" y="4876920"/>
                <a:ext cx="6732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4078440" y="487692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4078440" y="487692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3397320" y="50817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3397320" y="50817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3405240" y="5081760"/>
                <a:ext cx="6732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4078440" y="50817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4078440" y="50817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3397320" y="4886280"/>
                <a:ext cx="792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4078440" y="4886280"/>
                <a:ext cx="792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4086360" y="487692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4086360" y="487692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4094280" y="4876920"/>
                <a:ext cx="695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4789440" y="487692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4789440" y="487692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4086360" y="50817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4086360" y="50817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4094280" y="5081760"/>
                <a:ext cx="6951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4789440" y="50817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4789440" y="50817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4086360" y="4886280"/>
                <a:ext cx="792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4789440" y="4886280"/>
                <a:ext cx="792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4797360" y="487692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4797360" y="487692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4805280" y="4876920"/>
                <a:ext cx="593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5398920" y="4876920"/>
                <a:ext cx="8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5398920" y="4876920"/>
                <a:ext cx="8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4797360" y="50817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4797360" y="50817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4805280" y="5081760"/>
                <a:ext cx="593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5398920" y="508176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5398920" y="508176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4797360" y="4886280"/>
                <a:ext cx="792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5398920" y="4886280"/>
                <a:ext cx="828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5407200" y="487692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5407200" y="487692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5416560" y="4876920"/>
                <a:ext cx="585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6002280" y="487692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5407200" y="50817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5407200" y="50817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5416560" y="5081760"/>
                <a:ext cx="585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6002280" y="508176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5407200" y="4886280"/>
                <a:ext cx="936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6002280" y="4886280"/>
                <a:ext cx="1584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6018120" y="487692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6018120" y="487692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6026040" y="4876920"/>
                <a:ext cx="3826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6408720" y="487692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6018120" y="50817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6018120" y="50817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6026040" y="5081760"/>
                <a:ext cx="3826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6408720" y="508176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6018120" y="4886280"/>
                <a:ext cx="792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6408720" y="4886280"/>
                <a:ext cx="1584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6424560" y="487692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6424560" y="487692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6432480" y="4876920"/>
                <a:ext cx="6364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7068960" y="4876920"/>
                <a:ext cx="17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6424560" y="50817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6424560" y="50817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6432480" y="5081760"/>
                <a:ext cx="6364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7068960" y="5081760"/>
                <a:ext cx="17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6424560" y="4886280"/>
                <a:ext cx="792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7068960" y="4886280"/>
                <a:ext cx="1764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2075760" y="5100480"/>
                <a:ext cx="284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ugli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2358360" y="51004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2864520" y="5094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2921400" y="50943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3632760" y="509436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32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3804120" y="50943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4319280" y="5100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4376160" y="51004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5031360" y="510048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58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5201640" y="51004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5642280" y="510048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5754240" y="51004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6251400" y="5100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6308280" y="51004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6657840" y="5100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6714360" y="51004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1833480" y="5089680"/>
                <a:ext cx="787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2620800" y="508968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2620800" y="508968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1833480" y="5292720"/>
                <a:ext cx="787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2620800" y="529272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2620800" y="529272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1833480" y="5097600"/>
                <a:ext cx="1584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2620800" y="5097600"/>
                <a:ext cx="828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2629080" y="50896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2629080" y="50896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2637000" y="5089680"/>
                <a:ext cx="7524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3389400" y="50896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3389400" y="50896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2629080" y="5292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2629080" y="5292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2637000" y="5292720"/>
                <a:ext cx="7524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3389400" y="5292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3389400" y="5292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2629080" y="5097600"/>
                <a:ext cx="792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3389400" y="5097600"/>
                <a:ext cx="792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3397320" y="50896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3397320" y="50896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3405240" y="5089680"/>
                <a:ext cx="6732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4078440" y="50896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4078440" y="50896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3397320" y="5292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3397320" y="5292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3405240" y="5292720"/>
                <a:ext cx="6732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4078440" y="5292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4078440" y="5292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3397320" y="5097600"/>
                <a:ext cx="792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4078440" y="5097600"/>
                <a:ext cx="792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4086360" y="50896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4086360" y="50896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4094280" y="5089680"/>
                <a:ext cx="6951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4789440" y="50896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4789440" y="50896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4086360" y="5292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4086360" y="5292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4094280" y="5292720"/>
                <a:ext cx="6951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4789440" y="5292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4789440" y="5292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4086360" y="5097600"/>
                <a:ext cx="792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4789440" y="5097600"/>
                <a:ext cx="792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4797360" y="50896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4797360" y="50896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4805280" y="5089680"/>
                <a:ext cx="593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5398920" y="508968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5398920" y="508968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4797360" y="5292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4797360" y="5292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4805280" y="5292720"/>
                <a:ext cx="593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5398920" y="529272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5398920" y="529272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4797360" y="5097600"/>
                <a:ext cx="792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5398920" y="5097600"/>
                <a:ext cx="828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5407200" y="50896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5407200" y="50896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5416560" y="5089680"/>
                <a:ext cx="585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6002280" y="508968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5407200" y="52927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8" name=""/>
            <p:cNvGrpSpPr/>
            <p:nvPr/>
          </p:nvGrpSpPr>
          <p:grpSpPr>
            <a:xfrm>
              <a:off x="1833480" y="5089680"/>
              <a:ext cx="5253120" cy="634680"/>
              <a:chOff x="1833480" y="5089680"/>
              <a:chExt cx="5253120" cy="634680"/>
            </a:xfrm>
          </p:grpSpPr>
          <p:sp>
            <p:nvSpPr>
              <p:cNvPr id="1859" name=""/>
              <p:cNvSpPr/>
              <p:nvPr/>
            </p:nvSpPr>
            <p:spPr>
              <a:xfrm>
                <a:off x="5407200" y="52927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5416560" y="5292720"/>
                <a:ext cx="585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6002280" y="529272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5407200" y="5097600"/>
                <a:ext cx="936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6002280" y="5097600"/>
                <a:ext cx="1584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6018120" y="50896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6018120" y="50896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6026040" y="5089680"/>
                <a:ext cx="3826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6408720" y="508968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6018120" y="5292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6018120" y="5292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6026040" y="5292720"/>
                <a:ext cx="3826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6408720" y="529272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6018120" y="5097600"/>
                <a:ext cx="792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6408720" y="5097600"/>
                <a:ext cx="1584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6424560" y="50896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6424560" y="50896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6432480" y="5089680"/>
                <a:ext cx="6364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7068960" y="5089680"/>
                <a:ext cx="17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6424560" y="5292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6424560" y="5292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6432480" y="5292720"/>
                <a:ext cx="6364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7068960" y="5292720"/>
                <a:ext cx="17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6424560" y="5097600"/>
                <a:ext cx="792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7068960" y="5097600"/>
                <a:ext cx="1764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2075040" y="5313240"/>
                <a:ext cx="439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Basilicat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2510640" y="53132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2864520" y="5305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2921400" y="53053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3632760" y="530532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16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3804120" y="53053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4319280" y="5313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4376160" y="53132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5031360" y="531324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3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5201640" y="53132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5641920" y="5313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5698440" y="53132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6251400" y="5313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6308280" y="53132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6657840" y="5313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6714360" y="53132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1833480" y="5300640"/>
                <a:ext cx="787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2620800" y="530064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2620800" y="530064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1833480" y="5504040"/>
                <a:ext cx="787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2620800" y="550404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2620800" y="550404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1833480" y="5308560"/>
                <a:ext cx="1584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2620800" y="5308560"/>
                <a:ext cx="828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2629080" y="53006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2629080" y="53006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2637000" y="5300640"/>
                <a:ext cx="7524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3389400" y="53006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3389400" y="53006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2629080" y="55040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2629080" y="55040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2637000" y="5504040"/>
                <a:ext cx="7524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3389400" y="55040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3389400" y="55040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2629080" y="5308560"/>
                <a:ext cx="792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3389400" y="5308560"/>
                <a:ext cx="792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3397320" y="53006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3397320" y="53006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3405240" y="5300640"/>
                <a:ext cx="6732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4078440" y="53006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4078440" y="53006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3397320" y="55040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3397320" y="55040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3405240" y="5504040"/>
                <a:ext cx="6732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4078440" y="55040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4078440" y="55040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3397320" y="5308560"/>
                <a:ext cx="792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4078440" y="5308560"/>
                <a:ext cx="792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4086360" y="53006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4086360" y="53006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4094280" y="5300640"/>
                <a:ext cx="6951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4789440" y="53006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4789440" y="53006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4086360" y="55040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4086360" y="55040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4094280" y="5504040"/>
                <a:ext cx="6951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4789440" y="55040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4789440" y="55040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4086360" y="5308560"/>
                <a:ext cx="792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4789440" y="5308560"/>
                <a:ext cx="792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4797360" y="53006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4797360" y="53006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4805280" y="5300640"/>
                <a:ext cx="593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5398920" y="530064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5398920" y="530064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4797360" y="55040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4797360" y="55040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4805280" y="5504040"/>
                <a:ext cx="593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5398920" y="550404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5398920" y="550404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4797360" y="5308560"/>
                <a:ext cx="792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5398920" y="5308560"/>
                <a:ext cx="828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5407200" y="53006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5407200" y="53006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5416560" y="5300640"/>
                <a:ext cx="585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6002280" y="530064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5407200" y="55040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5407200" y="55040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5416560" y="5504040"/>
                <a:ext cx="585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6002280" y="550404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5407200" y="5308560"/>
                <a:ext cx="936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6002280" y="5308560"/>
                <a:ext cx="1584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6018120" y="53006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6018120" y="53006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6026040" y="5300640"/>
                <a:ext cx="3826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6408720" y="530064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6018120" y="55040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6018120" y="55040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6026040" y="5504040"/>
                <a:ext cx="3826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6408720" y="550404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6018120" y="5308560"/>
                <a:ext cx="792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6408720" y="5308560"/>
                <a:ext cx="1584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6424560" y="53006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6424560" y="53006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6432480" y="5300640"/>
                <a:ext cx="6364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7068960" y="5300640"/>
                <a:ext cx="17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6424560" y="55040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6424560" y="55040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6432480" y="5504040"/>
                <a:ext cx="6364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7068960" y="5504040"/>
                <a:ext cx="17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6424560" y="5308560"/>
                <a:ext cx="792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7068960" y="5308560"/>
                <a:ext cx="1764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2076120" y="5524560"/>
                <a:ext cx="378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alabri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2453760" y="55245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2864520" y="55180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2921400" y="55180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3632760" y="551808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477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3804120" y="55180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4319280" y="55245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4376160" y="55245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5031360" y="552456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409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5201640" y="55245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5642280" y="552456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5754240" y="55245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6251400" y="55245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6308280" y="55245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6657840" y="55245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6714360" y="55245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1833480" y="5511960"/>
                <a:ext cx="787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2620800" y="551196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2620800" y="551196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1833480" y="5716440"/>
                <a:ext cx="787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2620800" y="571644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2620800" y="571644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1833480" y="5519880"/>
                <a:ext cx="15840" cy="196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2620800" y="5519880"/>
                <a:ext cx="8280" cy="196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2629080" y="55119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2629080" y="55119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2637000" y="5511960"/>
                <a:ext cx="7524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3389400" y="55119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3389400" y="55119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2629080" y="57164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2629080" y="57164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2637000" y="5716440"/>
                <a:ext cx="7524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3389400" y="57164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3389400" y="57164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2629080" y="5519880"/>
                <a:ext cx="7920" cy="196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3389400" y="5519880"/>
                <a:ext cx="7920" cy="196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3397320" y="55119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3397320" y="55119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3405240" y="5511960"/>
                <a:ext cx="6732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4078440" y="55119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4078440" y="55119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3397320" y="57164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3397320" y="57164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3405240" y="5716440"/>
                <a:ext cx="6732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4078440" y="57164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4078440" y="57164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3397320" y="5519880"/>
                <a:ext cx="7920" cy="196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4078440" y="5519880"/>
                <a:ext cx="7920" cy="196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4086360" y="55119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4086360" y="55119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4094280" y="5511960"/>
                <a:ext cx="6951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4789440" y="55119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4789440" y="55119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4086360" y="57164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4086360" y="57164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4094280" y="5716440"/>
                <a:ext cx="6951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4789440" y="57164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4789440" y="57164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4086360" y="5519880"/>
                <a:ext cx="7920" cy="196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4789440" y="5519880"/>
                <a:ext cx="7920" cy="196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4797360" y="55119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4797360" y="55119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4805280" y="5511960"/>
                <a:ext cx="593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5398920" y="551196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5398920" y="551196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4797360" y="57164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4797360" y="57164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4805280" y="5716440"/>
                <a:ext cx="593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5398920" y="571644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5398920" y="571644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4797360" y="5519880"/>
                <a:ext cx="7920" cy="196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5398920" y="5519880"/>
                <a:ext cx="8280" cy="196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5407200" y="55119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9" name=""/>
            <p:cNvGrpSpPr/>
            <p:nvPr/>
          </p:nvGrpSpPr>
          <p:grpSpPr>
            <a:xfrm>
              <a:off x="1833480" y="5511960"/>
              <a:ext cx="5253120" cy="636480"/>
              <a:chOff x="1833480" y="5511960"/>
              <a:chExt cx="5253120" cy="636480"/>
            </a:xfrm>
          </p:grpSpPr>
          <p:sp>
            <p:nvSpPr>
              <p:cNvPr id="2060" name=""/>
              <p:cNvSpPr/>
              <p:nvPr/>
            </p:nvSpPr>
            <p:spPr>
              <a:xfrm>
                <a:off x="5407200" y="55119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5416560" y="5511960"/>
                <a:ext cx="585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6002280" y="551196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5407200" y="57164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5407200" y="57164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5416560" y="5716440"/>
                <a:ext cx="585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6002280" y="571644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5407200" y="5519880"/>
                <a:ext cx="9360" cy="196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6002280" y="5519880"/>
                <a:ext cx="15840" cy="196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6018120" y="55119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6018120" y="55119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6026040" y="5511960"/>
                <a:ext cx="3826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6408720" y="551196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6018120" y="57164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6018120" y="57164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6026040" y="5716440"/>
                <a:ext cx="3826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6408720" y="571644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6018120" y="5519880"/>
                <a:ext cx="7920" cy="196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6408720" y="5519880"/>
                <a:ext cx="15840" cy="196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6424560" y="55119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6424560" y="55119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6432480" y="5511960"/>
                <a:ext cx="6364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7068960" y="5511960"/>
                <a:ext cx="17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6424560" y="57164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6424560" y="57164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6432480" y="5716440"/>
                <a:ext cx="6364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7068960" y="5716440"/>
                <a:ext cx="17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6424560" y="5519880"/>
                <a:ext cx="7920" cy="196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7068960" y="5519880"/>
                <a:ext cx="17640" cy="196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2074320" y="5737320"/>
                <a:ext cx="268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cili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2341080" y="57373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2864520" y="57308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2921400" y="57308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3632760" y="573084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459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3804120" y="57308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4319280" y="5737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4376160" y="57373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5031360" y="573732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9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5201640" y="57373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5641920" y="5737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5698440" y="57373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6252120" y="573732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6365160" y="57373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6657840" y="5737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6714360" y="57373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1833480" y="5724360"/>
                <a:ext cx="7873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2620800" y="5724360"/>
                <a:ext cx="828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2620800" y="5724360"/>
                <a:ext cx="828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1833480" y="5927760"/>
                <a:ext cx="787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2620800" y="592776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2620800" y="592776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1833480" y="5732640"/>
                <a:ext cx="1584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2620800" y="5732640"/>
                <a:ext cx="828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2629080" y="57243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2629080" y="57243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2637000" y="5724360"/>
                <a:ext cx="75240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3389400" y="57243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3389400" y="57243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2629080" y="59277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2629080" y="59277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2637000" y="5927760"/>
                <a:ext cx="7524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3389400" y="59277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3389400" y="59277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2629080" y="5732640"/>
                <a:ext cx="792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3389400" y="5732640"/>
                <a:ext cx="792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3397320" y="57243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3397320" y="57243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3405240" y="5724360"/>
                <a:ext cx="67320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4078440" y="57243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4078440" y="57243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3397320" y="59277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3397320" y="59277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3405240" y="5927760"/>
                <a:ext cx="6732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4078440" y="59277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4078440" y="59277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3397320" y="5732640"/>
                <a:ext cx="792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4078440" y="5732640"/>
                <a:ext cx="792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4086360" y="57243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4086360" y="57243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4094280" y="5724360"/>
                <a:ext cx="6951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4789440" y="57243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4789440" y="57243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4086360" y="59277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4086360" y="59277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4094280" y="5927760"/>
                <a:ext cx="6951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4789440" y="59277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4789440" y="59277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4086360" y="5732640"/>
                <a:ext cx="792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4789440" y="5732640"/>
                <a:ext cx="792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4797360" y="57243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4797360" y="57243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4805280" y="5724360"/>
                <a:ext cx="5936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5398920" y="5724360"/>
                <a:ext cx="828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5398920" y="5724360"/>
                <a:ext cx="828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4797360" y="59277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4797360" y="59277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4805280" y="5927760"/>
                <a:ext cx="593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5398920" y="592776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>
                <a:off x="5398920" y="592776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4797360" y="5732640"/>
                <a:ext cx="792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5398920" y="5732640"/>
                <a:ext cx="828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>
                <a:off x="5407200" y="572436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5407200" y="572436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>
                <a:off x="5416560" y="5724360"/>
                <a:ext cx="585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>
                <a:off x="6002280" y="5724360"/>
                <a:ext cx="158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5407200" y="59277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5407200" y="59277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>
                <a:off x="5416560" y="5927760"/>
                <a:ext cx="585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6002280" y="592776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5407200" y="5732640"/>
                <a:ext cx="936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>
                <a:off x="6002280" y="5732640"/>
                <a:ext cx="1584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6018120" y="57243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6018120" y="57243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6026040" y="5724360"/>
                <a:ext cx="38268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6408720" y="5724360"/>
                <a:ext cx="158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>
                <a:off x="6018120" y="59277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>
                <a:off x="6018120" y="59277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6026040" y="5927760"/>
                <a:ext cx="3826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6408720" y="592776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6018120" y="5732640"/>
                <a:ext cx="792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6408720" y="5732640"/>
                <a:ext cx="1584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6424560" y="57243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6424560" y="57243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6432480" y="5724360"/>
                <a:ext cx="63648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7068960" y="5724360"/>
                <a:ext cx="176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>
                <a:off x="6424560" y="59277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6424560" y="59277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6432480" y="5927760"/>
                <a:ext cx="6364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7068960" y="5927760"/>
                <a:ext cx="17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6424560" y="5732640"/>
                <a:ext cx="792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7068960" y="5732640"/>
                <a:ext cx="17640" cy="19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2075760" y="5948280"/>
                <a:ext cx="4410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ardegn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2515680" y="59482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2864520" y="59421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2921400" y="59421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3632760" y="594216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44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3804120" y="59421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4319280" y="59482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4376160" y="59482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5031360" y="594828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77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5201640" y="59482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5641920" y="59482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5698440" y="59482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6251400" y="59482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6308280" y="59482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6657840" y="59482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6714360" y="59482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1833480" y="5935680"/>
                <a:ext cx="7873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2620800" y="5935680"/>
                <a:ext cx="8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2620800" y="5935680"/>
                <a:ext cx="8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1833480" y="6140520"/>
                <a:ext cx="787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2620800" y="614052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2620800" y="614052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1833480" y="5945040"/>
                <a:ext cx="1584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2620800" y="5945040"/>
                <a:ext cx="828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2629080" y="593568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2629080" y="593568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2637000" y="5935680"/>
                <a:ext cx="752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3389400" y="593568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3389400" y="593568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2629080" y="61405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2629080" y="61405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2637000" y="6140520"/>
                <a:ext cx="7524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3389400" y="61405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3389400" y="61405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2629080" y="5945040"/>
                <a:ext cx="792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3389400" y="5945040"/>
                <a:ext cx="792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3397320" y="593568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3397320" y="593568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3405240" y="5935680"/>
                <a:ext cx="6732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4078440" y="593568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4078440" y="593568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3397320" y="61405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3397320" y="61405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3405240" y="6140520"/>
                <a:ext cx="6732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4078440" y="61405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4078440" y="61405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3397320" y="5945040"/>
                <a:ext cx="792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4078440" y="5945040"/>
                <a:ext cx="792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4086360" y="593568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4086360" y="593568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4094280" y="5935680"/>
                <a:ext cx="695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4789440" y="593568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4789440" y="593568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4086360" y="61405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4086360" y="61405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4094280" y="6140520"/>
                <a:ext cx="6951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4789440" y="61405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4789440" y="61405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4086360" y="5945040"/>
                <a:ext cx="792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4789440" y="5945040"/>
                <a:ext cx="7920" cy="19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4797360" y="593568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4797360" y="593568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4805280" y="5935680"/>
                <a:ext cx="593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5398920" y="5935680"/>
                <a:ext cx="8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5398920" y="5935680"/>
                <a:ext cx="8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4797360" y="61405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4797360" y="61405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4805280" y="6140520"/>
                <a:ext cx="593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5398920" y="614052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60" name=""/>
            <p:cNvSpPr/>
            <p:nvPr/>
          </p:nvSpPr>
          <p:spPr>
            <a:xfrm>
              <a:off x="5398920" y="6140520"/>
              <a:ext cx="828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4797360" y="5945040"/>
              <a:ext cx="7920" cy="195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5398920" y="5945040"/>
              <a:ext cx="8280" cy="195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5407200" y="5935680"/>
              <a:ext cx="93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5407200" y="5935680"/>
              <a:ext cx="93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5416560" y="5935680"/>
              <a:ext cx="5857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6002280" y="5935680"/>
              <a:ext cx="158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5407200" y="6140520"/>
              <a:ext cx="93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5407200" y="6140520"/>
              <a:ext cx="93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5416560" y="6140520"/>
              <a:ext cx="5857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6002280" y="6140520"/>
              <a:ext cx="1584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5407200" y="5945040"/>
              <a:ext cx="9360" cy="195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6002280" y="5945040"/>
              <a:ext cx="15840" cy="195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6018120" y="5935680"/>
              <a:ext cx="79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6018120" y="5935680"/>
              <a:ext cx="79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6026040" y="5935680"/>
              <a:ext cx="3826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6408720" y="5935680"/>
              <a:ext cx="158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6018120" y="614052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6018120" y="614052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6026040" y="6140520"/>
              <a:ext cx="38268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6408720" y="6140520"/>
              <a:ext cx="1584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6018120" y="5945040"/>
              <a:ext cx="7920" cy="195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6408720" y="5945040"/>
              <a:ext cx="15840" cy="195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6424560" y="5935680"/>
              <a:ext cx="79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6424560" y="5935680"/>
              <a:ext cx="79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6432480" y="5935680"/>
              <a:ext cx="6364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7068960" y="5935680"/>
              <a:ext cx="176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6424560" y="614052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6424560" y="614052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6432480" y="6140520"/>
              <a:ext cx="63648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7068960" y="6140520"/>
              <a:ext cx="1764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6424560" y="5945040"/>
              <a:ext cx="7920" cy="195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7068960" y="5945040"/>
              <a:ext cx="17640" cy="195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2075040" y="6153120"/>
              <a:ext cx="329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ITAL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2403720" y="61531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2864520" y="615312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8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3035520" y="61531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3633120" y="615312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9.51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3889800" y="61531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4321800" y="615312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4492800" y="61531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5033160" y="615312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8.10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5289840" y="61531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5644080" y="615312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9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5813640" y="61531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6253920" y="615312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6424920" y="61531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6660000" y="615312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6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6774120" y="61531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1833480" y="6148440"/>
              <a:ext cx="7873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2620800" y="6148440"/>
              <a:ext cx="828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2620800" y="6148440"/>
              <a:ext cx="828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1833480" y="6351480"/>
              <a:ext cx="1584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1833480" y="6351480"/>
              <a:ext cx="1584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1849320" y="6351480"/>
              <a:ext cx="77148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2620800" y="6351480"/>
              <a:ext cx="828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1833480" y="6156360"/>
              <a:ext cx="15840" cy="19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2620800" y="6156360"/>
              <a:ext cx="8280" cy="19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2629080" y="614844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2629080" y="614844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2637000" y="6148440"/>
              <a:ext cx="75240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3389400" y="614844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3389400" y="614844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2629080" y="6351480"/>
              <a:ext cx="7603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3389400" y="635148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2629080" y="6156360"/>
              <a:ext cx="7920" cy="19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3389400" y="6156360"/>
              <a:ext cx="7920" cy="19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3397320" y="614844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3397320" y="614844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3405240" y="6148440"/>
              <a:ext cx="67320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4078440" y="614844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4078440" y="614844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3397320" y="6351480"/>
              <a:ext cx="681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4078440" y="635148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3397320" y="6156360"/>
              <a:ext cx="7920" cy="19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4078440" y="6156360"/>
              <a:ext cx="7920" cy="19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4086360" y="614844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4086360" y="614844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4094280" y="6148440"/>
              <a:ext cx="6951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4789440" y="614844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4789440" y="614844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4086360" y="6351480"/>
              <a:ext cx="70308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4789440" y="635148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4086360" y="6156360"/>
              <a:ext cx="7920" cy="19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4789440" y="6156360"/>
              <a:ext cx="7920" cy="19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4797360" y="614844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4797360" y="614844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4805280" y="6148440"/>
              <a:ext cx="59364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5398920" y="6148440"/>
              <a:ext cx="828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5398920" y="6148440"/>
              <a:ext cx="828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4797360" y="6351480"/>
              <a:ext cx="60156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5398920" y="6351480"/>
              <a:ext cx="828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4797360" y="6156360"/>
              <a:ext cx="7920" cy="19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5398920" y="6156360"/>
              <a:ext cx="8280" cy="19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5407200" y="6148440"/>
              <a:ext cx="93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5407200" y="6148440"/>
              <a:ext cx="93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5416560" y="6148440"/>
              <a:ext cx="5857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6002280" y="6148440"/>
              <a:ext cx="1584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5407200" y="6351480"/>
              <a:ext cx="59508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6002280" y="6351480"/>
              <a:ext cx="1584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6002280" y="6351480"/>
              <a:ext cx="1584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5407200" y="6156360"/>
              <a:ext cx="9360" cy="19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6002280" y="6156360"/>
              <a:ext cx="15840" cy="19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6018120" y="614844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6018120" y="614844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6026040" y="6148440"/>
              <a:ext cx="38268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6408720" y="6148440"/>
              <a:ext cx="1584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6018120" y="6351480"/>
              <a:ext cx="39060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6408720" y="6351480"/>
              <a:ext cx="1584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6408720" y="6351480"/>
              <a:ext cx="1584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6018120" y="6156360"/>
              <a:ext cx="7920" cy="19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6408720" y="6156360"/>
              <a:ext cx="15840" cy="19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6424560" y="614844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6424560" y="614844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6432480" y="6148440"/>
              <a:ext cx="63648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7068960" y="6148440"/>
              <a:ext cx="1764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6424560" y="6351480"/>
              <a:ext cx="64440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7068960" y="6351480"/>
              <a:ext cx="1764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7068960" y="6351480"/>
              <a:ext cx="1764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6424560" y="6156360"/>
              <a:ext cx="7920" cy="19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7068960" y="6156360"/>
              <a:ext cx="17640" cy="19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1872000" y="63705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7" name="PlaceHolder 1"/>
          <p:cNvSpPr>
            <a:spLocks noGrp="1"/>
          </p:cNvSpPr>
          <p:nvPr>
            <p:ph/>
          </p:nvPr>
        </p:nvSpPr>
        <p:spPr>
          <a:xfrm>
            <a:off x="609120" y="1752480"/>
            <a:ext cx="8153640" cy="46483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Arial"/>
              </a:rPr>
              <a:t>Sono livelli di spesa in qualche modo </a:t>
            </a:r>
            <a:r>
              <a:rPr b="1" i="1" lang="it-IT" sz="1900" spc="-1" strike="noStrike">
                <a:solidFill>
                  <a:srgbClr val="000000"/>
                </a:solidFill>
                <a:latin typeface="Arial"/>
              </a:rPr>
              <a:t>standardizzati e normalizzati</a:t>
            </a:r>
            <a:r>
              <a:rPr b="1" lang="it-IT" sz="1900" spc="-1" strike="noStrike">
                <a:solidFill>
                  <a:srgbClr val="000000"/>
                </a:solidFill>
                <a:latin typeface="Arial"/>
              </a:rPr>
              <a:t>, se pur riferiti alle specificità del territorio regionale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Arial"/>
              </a:rPr>
              <a:t>Le spese necessarie per l’esercizio di funzioni </a:t>
            </a:r>
            <a:r>
              <a:rPr b="1" i="1" lang="it-IT" sz="1900" spc="-1" strike="noStrike">
                <a:solidFill>
                  <a:srgbClr val="000000"/>
                </a:solidFill>
                <a:latin typeface="Arial"/>
              </a:rPr>
              <a:t>per le quali sono stati determinati i livelli essenziali da parte dello stato</a:t>
            </a:r>
            <a:r>
              <a:rPr b="1" lang="it-IT" sz="1900" spc="-1" strike="noStrike">
                <a:solidFill>
                  <a:srgbClr val="000000"/>
                </a:solidFill>
                <a:latin typeface="Arial"/>
              </a:rPr>
              <a:t> sono ricomprese nei livelli di spesa riconosciuti a ciascun territorio 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1" i="1" lang="it-IT" sz="1900" spc="-1" strike="noStrike">
                <a:solidFill>
                  <a:srgbClr val="000000"/>
                </a:solidFill>
                <a:latin typeface="Arial"/>
              </a:rPr>
              <a:t>tutto</a:t>
            </a:r>
            <a:r>
              <a:rPr b="1" lang="it-IT" sz="1900" spc="-1" strike="noStrike">
                <a:solidFill>
                  <a:srgbClr val="000000"/>
                </a:solidFill>
                <a:latin typeface="Arial"/>
              </a:rPr>
              <a:t> è indistintamente finanziato per ciascun territorio regionale nei termini specificati dal 119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Arial"/>
              </a:rPr>
              <a:t>Livelli superiori o inferiori possono essere conseguiti in virtù dell’autonomia di spesa e dovranno essere finanziati adeguando, in virtù dell’autonomia di entrata, le </a:t>
            </a:r>
            <a:r>
              <a:rPr b="1" i="1" lang="it-IT" sz="1900" spc="-1" strike="noStrike">
                <a:solidFill>
                  <a:srgbClr val="000000"/>
                </a:solidFill>
                <a:latin typeface="Arial"/>
              </a:rPr>
              <a:t>aliquote effettive</a:t>
            </a:r>
            <a:r>
              <a:rPr b="1" lang="it-IT" sz="1900" spc="-1" strike="noStrike">
                <a:solidFill>
                  <a:srgbClr val="000000"/>
                </a:solidFill>
                <a:latin typeface="Arial"/>
              </a:rPr>
              <a:t> dei tributi propri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8" name=""/>
          <p:cNvSpPr/>
          <p:nvPr/>
        </p:nvSpPr>
        <p:spPr>
          <a:xfrm>
            <a:off x="0" y="0"/>
            <a:ext cx="9144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A NOZIONE DI SPESE NECESSARIE (“RICONOSCIUTE”) PER L’ESERCIZIO DELLE FUNZIONI NORM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0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FOT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4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4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500"/>
                            </p:stCondLst>
                            <p:childTnLst>
                              <p:par>
                                <p:cTn id="7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4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9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001000" cy="45720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Gettito potenziale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dei tributi propri, delle addizionali e delle compartecipazioni, della Regione e degli enti del sistema regionale delle autonomie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gettito potenziale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è dato dal prodotto di aliquote standard e di basi imponibili locali, se pur in qualche modo standardizzat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La capacità fiscale è ovviamente correlata agli indicatori macroeconomici - in particolare al PIL- del territorio regionale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0" name=""/>
          <p:cNvSpPr/>
          <p:nvPr/>
        </p:nvSpPr>
        <p:spPr>
          <a:xfrm>
            <a:off x="0" y="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 NOZIONE DI CAPACITÀ FISCA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L TERRITORIO REGION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0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FOT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4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4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500"/>
                            </p:stCondLst>
                            <p:childTnLst>
                              <p:par>
                                <p:cTn id="7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9" dur="500"/>
                                        <p:tgtEl>
                                          <p:spTgt spid="4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1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ordinamento nella riforma del Titolo 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02560" cy="4472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llo Stato l’individuazione dei principi generali e la disciplina del </a:t>
            </a: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sistema tributario stat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lle Regioni la disciplina del </a:t>
            </a: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sistema tributario regionale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e l’individuazione dei principi di imposizione loc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istema binario (due  S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’art. 23 (la riserva di legge) è garantito dalla legislazione nazionale e region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500"/>
                                        <p:tgtEl>
                                          <p:spTgt spid="4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9" dur="500"/>
                                        <p:tgtEl>
                                          <p:spTgt spid="4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500"/>
                                        <p:tgtEl>
                                          <p:spTgt spid="4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5" dur="500"/>
                                        <p:tgtEl>
                                          <p:spTgt spid="4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42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3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Il coordinamento del sistema tributario è materia concorr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02560" cy="4400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200" spc="-1" strike="noStrike">
                <a:solidFill>
                  <a:srgbClr val="000000"/>
                </a:solidFill>
                <a:latin typeface="Comic Sans MS"/>
              </a:rPr>
              <a:t>lo stato fissa i principi fondamentali del sistema tributario e della struttura finanziaria per livelli di governo, in particolare progettando e realizzando i sistemi di perequazione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200" spc="-1" strike="noStrike">
                <a:solidFill>
                  <a:srgbClr val="000000"/>
                </a:solidFill>
                <a:latin typeface="Comic Sans MS"/>
              </a:rPr>
              <a:t>le regioni possono istituire tributi propri e “concordare” l’istituzione di tributi propri degli enti locali (nel rispetto di principi fondamentali posti previamente dallo stato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200" spc="-1" strike="noStrike">
                <a:solidFill>
                  <a:srgbClr val="000000"/>
                </a:solidFill>
                <a:latin typeface="Comic Sans MS"/>
              </a:rPr>
              <a:t>il potere di coordinamento delle regioni si svolge all’interno del territorio regionale con riferimento agli enti local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5" dur="500"/>
                                        <p:tgtEl>
                                          <p:spTgt spid="4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0" dur="500"/>
                                        <p:tgtEl>
                                          <p:spTgt spid="4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500"/>
                                        <p:tgtEl>
                                          <p:spTgt spid="4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5" name="PlaceHolder 1"/>
          <p:cNvSpPr>
            <a:spLocks noGrp="1"/>
          </p:cNvSpPr>
          <p:nvPr>
            <p:ph type="title"/>
          </p:nvPr>
        </p:nvSpPr>
        <p:spPr>
          <a:xfrm>
            <a:off x="609480" y="3427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rdinamento nella teoria dell’economia pubbl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Arial"/>
              </a:rPr>
              <a:t>Coordinamento totale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soluzione cooperativa (definizione di politiche a livello centrale con funzione del benessere “benevolente”) che annulla le esternalità fisc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Arial"/>
              </a:rPr>
              <a:t>Coordinamento parziale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(Federalismo fiscale)  </a:t>
            </a:r>
            <a:r>
              <a:rPr b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Soluzione non-cooperativa (con esternalità fiscali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Governo centrale (“leader” )  gioca per primo “Stackelberg” e le regioni sono “follower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Governi benevolenti vs. Governi Leviata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4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4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2" dur="500"/>
                                        <p:tgtEl>
                                          <p:spTgt spid="4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7" dur="500"/>
                                        <p:tgtEl>
                                          <p:spTgt spid="4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7" name="PlaceHolder 1"/>
          <p:cNvSpPr>
            <a:spLocks noGrp="1"/>
          </p:cNvSpPr>
          <p:nvPr>
            <p:ph type="title"/>
          </p:nvPr>
        </p:nvSpPr>
        <p:spPr>
          <a:xfrm>
            <a:off x="685440" y="350640"/>
            <a:ext cx="7823160" cy="140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t. 119: la perequazion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l territorio “regionale”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pretazione 1: estensione del 56/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8" name="PlaceHolder 2"/>
          <p:cNvSpPr>
            <a:spLocks noGrp="1"/>
          </p:cNvSpPr>
          <p:nvPr>
            <p:ph/>
          </p:nvPr>
        </p:nvSpPr>
        <p:spPr>
          <a:xfrm>
            <a:off x="685800" y="2284200"/>
            <a:ext cx="7773840" cy="4313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Regime differenziato tra materie di competenza esclusiva (CE) e materie di competenza concorrente e i diritti fondamentali (C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l’“Autosufficienza” finanziaria (Comma 4, finanziamento delle funzioni normali…) vale per l’aggregato delle Regi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E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esclusivo criterio della Capacità fiscale e perequazione parzi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C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si aggiunge il criterio del fabbisogno (bisogni accertati attraverso standard), in virtù anche del Comma 5 (diritti della persona e squilibri territorial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4" dur="500"/>
                                        <p:tgtEl>
                                          <p:spTgt spid="4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500"/>
                                        <p:tgtEl>
                                          <p:spTgt spid="4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4" dur="500"/>
                                        <p:tgtEl>
                                          <p:spTgt spid="4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9" dur="500"/>
                                        <p:tgtEl>
                                          <p:spTgt spid="4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9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t. 119: la perequazione sul territorio “regionale”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pretazione 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0" name="PlaceHolder 2"/>
          <p:cNvSpPr>
            <a:spLocks noGrp="1"/>
          </p:cNvSpPr>
          <p:nvPr>
            <p:ph/>
          </p:nvPr>
        </p:nvSpPr>
        <p:spPr>
          <a:xfrm>
            <a:off x="685800" y="2050920"/>
            <a:ext cx="7772400" cy="41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l’“Autosufficienza” (Comma 4) deve valere per ogni singola regio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La Perequazione dovrà essere basata sul criterio della capacità fiscale di tipo non-canadese: differenza tra spesa standard (fabbisogno) e entrate proprie standard + compartecipazi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Il Comma 5 vale solo per interventi straordinari e per la spesa in conto capit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6" dur="500"/>
                                        <p:tgtEl>
                                          <p:spTgt spid="4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1" dur="500"/>
                                        <p:tgtEl>
                                          <p:spTgt spid="4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6" dur="500"/>
                                        <p:tgtEl>
                                          <p:spTgt spid="4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2" name=""/>
          <p:cNvSpPr/>
          <p:nvPr/>
        </p:nvSpPr>
        <p:spPr>
          <a:xfrm>
            <a:off x="0" y="2666880"/>
            <a:ext cx="9144000" cy="21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ersonale per ripartizione geografica e livelli di gover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"/>
          <p:cNvSpPr/>
          <p:nvPr/>
        </p:nvSpPr>
        <p:spPr>
          <a:xfrm>
            <a:off x="1487520" y="3892680"/>
            <a:ext cx="7920" cy="372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>
            <a:off x="5668920" y="3892680"/>
            <a:ext cx="9720" cy="372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>
            <a:off x="8991720" y="3892680"/>
            <a:ext cx="7920" cy="372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>
            <a:off x="1487520" y="426564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>
            <a:off x="5668920" y="42656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>
            <a:off x="8991720" y="426564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>
            <a:off x="1487520" y="4275000"/>
            <a:ext cx="7920" cy="184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>
            <a:off x="5668920" y="4275000"/>
            <a:ext cx="9720" cy="184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>
            <a:off x="8991720" y="4275000"/>
            <a:ext cx="7920" cy="184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152280" y="445932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>
            <a:off x="160200" y="4459320"/>
            <a:ext cx="13273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"/>
          <p:cNvSpPr/>
          <p:nvPr/>
        </p:nvSpPr>
        <p:spPr>
          <a:xfrm>
            <a:off x="1487520" y="445932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>
            <a:off x="1495440" y="4459320"/>
            <a:ext cx="90180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>
            <a:off x="2397240" y="445932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>
            <a:off x="2406600" y="4459320"/>
            <a:ext cx="67968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>
            <a:off x="3086280" y="445932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>
            <a:off x="3095640" y="4459320"/>
            <a:ext cx="90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>
            <a:off x="4005360" y="445932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2" name=""/>
          <p:cNvSpPr/>
          <p:nvPr/>
        </p:nvSpPr>
        <p:spPr>
          <a:xfrm>
            <a:off x="4014720" y="4459320"/>
            <a:ext cx="7779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3" name=""/>
          <p:cNvSpPr/>
          <p:nvPr/>
        </p:nvSpPr>
        <p:spPr>
          <a:xfrm>
            <a:off x="4792680" y="445932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>
            <a:off x="4802040" y="4459320"/>
            <a:ext cx="86688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"/>
          <p:cNvSpPr/>
          <p:nvPr/>
        </p:nvSpPr>
        <p:spPr>
          <a:xfrm>
            <a:off x="5668920" y="445932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6" name=""/>
          <p:cNvSpPr/>
          <p:nvPr/>
        </p:nvSpPr>
        <p:spPr>
          <a:xfrm>
            <a:off x="5678640" y="4459320"/>
            <a:ext cx="90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7" name=""/>
          <p:cNvSpPr/>
          <p:nvPr/>
        </p:nvSpPr>
        <p:spPr>
          <a:xfrm>
            <a:off x="6588000" y="445932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8" name=""/>
          <p:cNvSpPr/>
          <p:nvPr/>
        </p:nvSpPr>
        <p:spPr>
          <a:xfrm>
            <a:off x="6597720" y="4459320"/>
            <a:ext cx="903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"/>
          <p:cNvSpPr/>
          <p:nvPr/>
        </p:nvSpPr>
        <p:spPr>
          <a:xfrm>
            <a:off x="7500960" y="445932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0" name=""/>
          <p:cNvSpPr/>
          <p:nvPr/>
        </p:nvSpPr>
        <p:spPr>
          <a:xfrm>
            <a:off x="7510320" y="4459320"/>
            <a:ext cx="55908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1" name=""/>
          <p:cNvSpPr/>
          <p:nvPr/>
        </p:nvSpPr>
        <p:spPr>
          <a:xfrm>
            <a:off x="8069400" y="445932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2" name=""/>
          <p:cNvSpPr/>
          <p:nvPr/>
        </p:nvSpPr>
        <p:spPr>
          <a:xfrm>
            <a:off x="8078760" y="4459320"/>
            <a:ext cx="9129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"/>
          <p:cNvSpPr/>
          <p:nvPr/>
        </p:nvSpPr>
        <p:spPr>
          <a:xfrm>
            <a:off x="8991720" y="445932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>
            <a:off x="1487520" y="4468680"/>
            <a:ext cx="7920" cy="187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"/>
          <p:cNvSpPr/>
          <p:nvPr/>
        </p:nvSpPr>
        <p:spPr>
          <a:xfrm>
            <a:off x="1487520" y="465624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>
            <a:off x="5668920" y="4468680"/>
            <a:ext cx="9720" cy="187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"/>
          <p:cNvSpPr/>
          <p:nvPr/>
        </p:nvSpPr>
        <p:spPr>
          <a:xfrm>
            <a:off x="5668920" y="4656240"/>
            <a:ext cx="97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"/>
          <p:cNvSpPr/>
          <p:nvPr/>
        </p:nvSpPr>
        <p:spPr>
          <a:xfrm>
            <a:off x="8991720" y="4468680"/>
            <a:ext cx="7920" cy="187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>
            <a:off x="8991720" y="465624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>
            <a:off x="8991720" y="465624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1487520" y="274320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>
            <a:off x="5668920" y="2743200"/>
            <a:ext cx="97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>
            <a:off x="8991720" y="274320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"/>
          <p:cNvSpPr/>
          <p:nvPr/>
        </p:nvSpPr>
        <p:spPr>
          <a:xfrm>
            <a:off x="8991720" y="274320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"/>
          <p:cNvSpPr/>
          <p:nvPr/>
        </p:nvSpPr>
        <p:spPr>
          <a:xfrm>
            <a:off x="1487520" y="2751120"/>
            <a:ext cx="7920" cy="18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"/>
          <p:cNvSpPr/>
          <p:nvPr/>
        </p:nvSpPr>
        <p:spPr>
          <a:xfrm>
            <a:off x="5668920" y="2751120"/>
            <a:ext cx="9720" cy="18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"/>
          <p:cNvSpPr/>
          <p:nvPr/>
        </p:nvSpPr>
        <p:spPr>
          <a:xfrm>
            <a:off x="8991720" y="2751120"/>
            <a:ext cx="7920" cy="18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8" name=""/>
          <p:cNvSpPr/>
          <p:nvPr/>
        </p:nvSpPr>
        <p:spPr>
          <a:xfrm>
            <a:off x="152280" y="293832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9" name=""/>
          <p:cNvSpPr/>
          <p:nvPr/>
        </p:nvSpPr>
        <p:spPr>
          <a:xfrm>
            <a:off x="160200" y="2938320"/>
            <a:ext cx="13273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0" name=""/>
          <p:cNvSpPr/>
          <p:nvPr/>
        </p:nvSpPr>
        <p:spPr>
          <a:xfrm>
            <a:off x="1487520" y="293832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1" name=""/>
          <p:cNvSpPr/>
          <p:nvPr/>
        </p:nvSpPr>
        <p:spPr>
          <a:xfrm>
            <a:off x="1495440" y="2938320"/>
            <a:ext cx="90180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>
            <a:off x="2397240" y="293832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"/>
          <p:cNvSpPr/>
          <p:nvPr/>
        </p:nvSpPr>
        <p:spPr>
          <a:xfrm>
            <a:off x="2406600" y="2938320"/>
            <a:ext cx="67968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"/>
          <p:cNvSpPr/>
          <p:nvPr/>
        </p:nvSpPr>
        <p:spPr>
          <a:xfrm>
            <a:off x="3086280" y="293832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"/>
          <p:cNvSpPr/>
          <p:nvPr/>
        </p:nvSpPr>
        <p:spPr>
          <a:xfrm>
            <a:off x="3095640" y="2938320"/>
            <a:ext cx="90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"/>
          <p:cNvSpPr/>
          <p:nvPr/>
        </p:nvSpPr>
        <p:spPr>
          <a:xfrm>
            <a:off x="4005360" y="293832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"/>
          <p:cNvSpPr/>
          <p:nvPr/>
        </p:nvSpPr>
        <p:spPr>
          <a:xfrm>
            <a:off x="4014720" y="2938320"/>
            <a:ext cx="7779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>
            <a:off x="4792680" y="293832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"/>
          <p:cNvSpPr/>
          <p:nvPr/>
        </p:nvSpPr>
        <p:spPr>
          <a:xfrm>
            <a:off x="4802040" y="2938320"/>
            <a:ext cx="86688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0" name=""/>
          <p:cNvSpPr/>
          <p:nvPr/>
        </p:nvSpPr>
        <p:spPr>
          <a:xfrm>
            <a:off x="5668920" y="293832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1" name=""/>
          <p:cNvSpPr/>
          <p:nvPr/>
        </p:nvSpPr>
        <p:spPr>
          <a:xfrm>
            <a:off x="5678640" y="2938320"/>
            <a:ext cx="90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2" name=""/>
          <p:cNvSpPr/>
          <p:nvPr/>
        </p:nvSpPr>
        <p:spPr>
          <a:xfrm>
            <a:off x="6588000" y="293832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"/>
          <p:cNvSpPr/>
          <p:nvPr/>
        </p:nvSpPr>
        <p:spPr>
          <a:xfrm>
            <a:off x="6597720" y="2938320"/>
            <a:ext cx="90324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>
            <a:off x="7500960" y="293832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"/>
          <p:cNvSpPr/>
          <p:nvPr/>
        </p:nvSpPr>
        <p:spPr>
          <a:xfrm>
            <a:off x="7510320" y="2938320"/>
            <a:ext cx="55908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"/>
          <p:cNvSpPr/>
          <p:nvPr/>
        </p:nvSpPr>
        <p:spPr>
          <a:xfrm>
            <a:off x="8069400" y="293832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"/>
          <p:cNvSpPr/>
          <p:nvPr/>
        </p:nvSpPr>
        <p:spPr>
          <a:xfrm>
            <a:off x="8078760" y="2938320"/>
            <a:ext cx="9129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"/>
          <p:cNvSpPr/>
          <p:nvPr/>
        </p:nvSpPr>
        <p:spPr>
          <a:xfrm>
            <a:off x="8991720" y="293832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>
            <a:off x="1487520" y="2948040"/>
            <a:ext cx="7920" cy="55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"/>
          <p:cNvSpPr/>
          <p:nvPr/>
        </p:nvSpPr>
        <p:spPr>
          <a:xfrm>
            <a:off x="5668920" y="2948040"/>
            <a:ext cx="9720" cy="55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"/>
          <p:cNvSpPr/>
          <p:nvPr/>
        </p:nvSpPr>
        <p:spPr>
          <a:xfrm>
            <a:off x="8991720" y="2948040"/>
            <a:ext cx="7920" cy="55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"/>
          <p:cNvSpPr/>
          <p:nvPr/>
        </p:nvSpPr>
        <p:spPr>
          <a:xfrm>
            <a:off x="152280" y="350532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"/>
          <p:cNvSpPr/>
          <p:nvPr/>
        </p:nvSpPr>
        <p:spPr>
          <a:xfrm>
            <a:off x="160200" y="3505320"/>
            <a:ext cx="13273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"/>
          <p:cNvSpPr/>
          <p:nvPr/>
        </p:nvSpPr>
        <p:spPr>
          <a:xfrm>
            <a:off x="1487520" y="350532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"/>
          <p:cNvSpPr/>
          <p:nvPr/>
        </p:nvSpPr>
        <p:spPr>
          <a:xfrm>
            <a:off x="1495440" y="3505320"/>
            <a:ext cx="90180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2397240" y="350532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"/>
          <p:cNvSpPr/>
          <p:nvPr/>
        </p:nvSpPr>
        <p:spPr>
          <a:xfrm>
            <a:off x="2406600" y="3505320"/>
            <a:ext cx="67968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>
            <a:off x="3086280" y="350532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"/>
          <p:cNvSpPr/>
          <p:nvPr/>
        </p:nvSpPr>
        <p:spPr>
          <a:xfrm>
            <a:off x="3095640" y="3505320"/>
            <a:ext cx="90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>
            <a:off x="4005360" y="350532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>
            <a:off x="4014720" y="3505320"/>
            <a:ext cx="7779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4792680" y="350532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"/>
          <p:cNvSpPr/>
          <p:nvPr/>
        </p:nvSpPr>
        <p:spPr>
          <a:xfrm>
            <a:off x="4802040" y="3505320"/>
            <a:ext cx="86688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5668920" y="350532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>
            <a:off x="5678640" y="3505320"/>
            <a:ext cx="90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6588000" y="350532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>
            <a:off x="6597720" y="3505320"/>
            <a:ext cx="903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>
            <a:off x="7500960" y="350532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>
            <a:off x="7510320" y="3505320"/>
            <a:ext cx="55908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>
            <a:off x="8069400" y="350532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>
            <a:off x="8078760" y="3505320"/>
            <a:ext cx="9129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2" name=""/>
          <p:cNvSpPr/>
          <p:nvPr/>
        </p:nvSpPr>
        <p:spPr>
          <a:xfrm>
            <a:off x="8991720" y="350532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>
            <a:off x="1487520" y="3514680"/>
            <a:ext cx="7920" cy="370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5668920" y="3514680"/>
            <a:ext cx="9720" cy="370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8991720" y="3514680"/>
            <a:ext cx="7920" cy="370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"/>
          <p:cNvSpPr/>
          <p:nvPr/>
        </p:nvSpPr>
        <p:spPr>
          <a:xfrm>
            <a:off x="152280" y="388476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"/>
          <p:cNvSpPr/>
          <p:nvPr/>
        </p:nvSpPr>
        <p:spPr>
          <a:xfrm>
            <a:off x="160200" y="3884760"/>
            <a:ext cx="13273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8" name=""/>
          <p:cNvSpPr/>
          <p:nvPr/>
        </p:nvSpPr>
        <p:spPr>
          <a:xfrm>
            <a:off x="1487520" y="388476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"/>
          <p:cNvSpPr/>
          <p:nvPr/>
        </p:nvSpPr>
        <p:spPr>
          <a:xfrm>
            <a:off x="1495440" y="3884760"/>
            <a:ext cx="9018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>
            <a:off x="2397240" y="3884760"/>
            <a:ext cx="93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1" name=""/>
          <p:cNvSpPr/>
          <p:nvPr/>
        </p:nvSpPr>
        <p:spPr>
          <a:xfrm>
            <a:off x="2406600" y="3884760"/>
            <a:ext cx="6796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"/>
          <p:cNvSpPr/>
          <p:nvPr/>
        </p:nvSpPr>
        <p:spPr>
          <a:xfrm>
            <a:off x="3086280" y="3884760"/>
            <a:ext cx="93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"/>
          <p:cNvSpPr/>
          <p:nvPr/>
        </p:nvSpPr>
        <p:spPr>
          <a:xfrm>
            <a:off x="3095640" y="3884760"/>
            <a:ext cx="9097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4" name=""/>
          <p:cNvSpPr/>
          <p:nvPr/>
        </p:nvSpPr>
        <p:spPr>
          <a:xfrm>
            <a:off x="4005360" y="3884760"/>
            <a:ext cx="93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"/>
          <p:cNvSpPr/>
          <p:nvPr/>
        </p:nvSpPr>
        <p:spPr>
          <a:xfrm>
            <a:off x="4014720" y="3884760"/>
            <a:ext cx="777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6" name=""/>
          <p:cNvSpPr/>
          <p:nvPr/>
        </p:nvSpPr>
        <p:spPr>
          <a:xfrm>
            <a:off x="4792680" y="3884760"/>
            <a:ext cx="93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"/>
          <p:cNvSpPr/>
          <p:nvPr/>
        </p:nvSpPr>
        <p:spPr>
          <a:xfrm>
            <a:off x="4802040" y="3884760"/>
            <a:ext cx="8668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"/>
          <p:cNvSpPr/>
          <p:nvPr/>
        </p:nvSpPr>
        <p:spPr>
          <a:xfrm>
            <a:off x="5668920" y="3884760"/>
            <a:ext cx="97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"/>
          <p:cNvSpPr/>
          <p:nvPr/>
        </p:nvSpPr>
        <p:spPr>
          <a:xfrm>
            <a:off x="5678640" y="3884760"/>
            <a:ext cx="9093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>
            <a:off x="6588000" y="3884760"/>
            <a:ext cx="97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"/>
          <p:cNvSpPr/>
          <p:nvPr/>
        </p:nvSpPr>
        <p:spPr>
          <a:xfrm>
            <a:off x="6597720" y="3884760"/>
            <a:ext cx="9032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"/>
          <p:cNvSpPr/>
          <p:nvPr/>
        </p:nvSpPr>
        <p:spPr>
          <a:xfrm>
            <a:off x="7500960" y="3884760"/>
            <a:ext cx="93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"/>
          <p:cNvSpPr/>
          <p:nvPr/>
        </p:nvSpPr>
        <p:spPr>
          <a:xfrm>
            <a:off x="7510320" y="3884760"/>
            <a:ext cx="5590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"/>
          <p:cNvSpPr/>
          <p:nvPr/>
        </p:nvSpPr>
        <p:spPr>
          <a:xfrm>
            <a:off x="8069400" y="3884760"/>
            <a:ext cx="93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"/>
          <p:cNvSpPr/>
          <p:nvPr/>
        </p:nvSpPr>
        <p:spPr>
          <a:xfrm>
            <a:off x="8078760" y="3884760"/>
            <a:ext cx="912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"/>
          <p:cNvSpPr/>
          <p:nvPr/>
        </p:nvSpPr>
        <p:spPr>
          <a:xfrm>
            <a:off x="8991720" y="388476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7" name=""/>
          <p:cNvGrpSpPr/>
          <p:nvPr/>
        </p:nvGrpSpPr>
        <p:grpSpPr>
          <a:xfrm>
            <a:off x="152280" y="2743200"/>
            <a:ext cx="8839440" cy="2135880"/>
            <a:chOff x="152280" y="2743200"/>
            <a:chExt cx="8839440" cy="2135880"/>
          </a:xfrm>
        </p:grpSpPr>
        <p:sp>
          <p:nvSpPr>
            <p:cNvPr id="2498" name=""/>
            <p:cNvSpPr/>
            <p:nvPr/>
          </p:nvSpPr>
          <p:spPr>
            <a:xfrm>
              <a:off x="253800" y="275760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1587600" y="275760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2498760" y="2757600"/>
              <a:ext cx="485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NOR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2971800" y="275760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3189240" y="275760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4108320" y="275760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4894920" y="2757600"/>
              <a:ext cx="695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ENTR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5575320" y="275760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5772240" y="275760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6691320" y="275760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7602480" y="2757600"/>
              <a:ext cx="348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U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7942320" y="275760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8172360" y="275760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152280" y="274320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152280" y="274320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160200" y="2743200"/>
              <a:ext cx="13273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1495440" y="2743200"/>
              <a:ext cx="90180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2406600" y="2743200"/>
              <a:ext cx="67968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3086280" y="2743200"/>
              <a:ext cx="93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3095640" y="2743200"/>
              <a:ext cx="9097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4005360" y="2743200"/>
              <a:ext cx="93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4014720" y="2743200"/>
              <a:ext cx="7779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4792680" y="2743200"/>
              <a:ext cx="93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4802040" y="2743200"/>
              <a:ext cx="86688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5678640" y="2743200"/>
              <a:ext cx="9093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6588000" y="2743200"/>
              <a:ext cx="97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6597720" y="2743200"/>
              <a:ext cx="90324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7500960" y="2743200"/>
              <a:ext cx="93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7510320" y="2743200"/>
              <a:ext cx="55908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8069400" y="2743200"/>
              <a:ext cx="93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8078760" y="2743200"/>
              <a:ext cx="9129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152280" y="2751120"/>
              <a:ext cx="7920" cy="187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3086280" y="2751120"/>
              <a:ext cx="9360" cy="187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4005360" y="2751120"/>
              <a:ext cx="9360" cy="187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4792680" y="2751120"/>
              <a:ext cx="9360" cy="187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6588000" y="2751120"/>
              <a:ext cx="9720" cy="187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7500960" y="2751120"/>
              <a:ext cx="9360" cy="187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8069400" y="2751120"/>
              <a:ext cx="9360" cy="187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253800" y="295416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1588680" y="2954160"/>
              <a:ext cx="457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Total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2038320" y="295416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2498400" y="2954160"/>
              <a:ext cx="146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2643120" y="295416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3191040" y="2954160"/>
              <a:ext cx="786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ersonale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3191400" y="3139920"/>
              <a:ext cx="695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er 1000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3190320" y="3324240"/>
              <a:ext cx="531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bitant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3713040" y="332424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4109400" y="2954160"/>
              <a:ext cx="457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Total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4559400" y="295416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4893840" y="2954160"/>
              <a:ext cx="146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5038560" y="295416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5774040" y="2954160"/>
              <a:ext cx="786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ersonale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5774400" y="3139920"/>
              <a:ext cx="695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er 1000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5773320" y="3324240"/>
              <a:ext cx="531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bitant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6296040" y="332424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6692400" y="2954160"/>
              <a:ext cx="457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Total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7142040" y="295416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7602120" y="2954160"/>
              <a:ext cx="146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7746840" y="295416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8174160" y="2954160"/>
              <a:ext cx="786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ersonale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8174520" y="3139920"/>
              <a:ext cx="695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er 1000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8173440" y="3324240"/>
              <a:ext cx="531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bitant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8696160" y="332424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152280" y="2948040"/>
              <a:ext cx="7920" cy="55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3086280" y="2948040"/>
              <a:ext cx="9360" cy="55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4005360" y="2948040"/>
              <a:ext cx="9360" cy="55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4792680" y="2948040"/>
              <a:ext cx="9360" cy="55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6588000" y="2948040"/>
              <a:ext cx="9720" cy="55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7500960" y="2948040"/>
              <a:ext cx="9360" cy="55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8069400" y="2948040"/>
              <a:ext cx="9360" cy="55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256680" y="3521160"/>
              <a:ext cx="1207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mministrazioni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255240" y="3705120"/>
              <a:ext cx="531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entral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776160" y="370512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1589040" y="3521160"/>
              <a:ext cx="595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690.75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2173320" y="352116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2499480" y="3521160"/>
              <a:ext cx="320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49,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2814480" y="352116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3189960" y="3521160"/>
              <a:ext cx="320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6,8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3506760" y="352116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4110120" y="3521160"/>
              <a:ext cx="595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493.593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4694040" y="352116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4894920" y="3521160"/>
              <a:ext cx="320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60,4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5211720" y="352116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5772960" y="3521160"/>
              <a:ext cx="320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45,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6089760" y="352116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6692760" y="3521160"/>
              <a:ext cx="595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804.728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7277040" y="352116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7603200" y="3521160"/>
              <a:ext cx="320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60,7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7918560" y="352116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8173080" y="3521160"/>
              <a:ext cx="320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39,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8489880" y="352116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152280" y="3514680"/>
              <a:ext cx="7920" cy="370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3086280" y="3514680"/>
              <a:ext cx="9360" cy="370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4005360" y="3514680"/>
              <a:ext cx="9360" cy="370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4792680" y="3514680"/>
              <a:ext cx="9360" cy="370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6588000" y="3514680"/>
              <a:ext cx="9720" cy="370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7500960" y="3514680"/>
              <a:ext cx="9360" cy="370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8069400" y="3514680"/>
              <a:ext cx="9360" cy="370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256680" y="3900600"/>
              <a:ext cx="1207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mministrazioni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254520" y="4087800"/>
              <a:ext cx="375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local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623880" y="408780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1589040" y="3900600"/>
              <a:ext cx="595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683.334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2173320" y="390060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2499480" y="3900600"/>
              <a:ext cx="320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49,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2814480" y="390060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3189960" y="3900600"/>
              <a:ext cx="320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6,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3506760" y="390060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4110120" y="3900600"/>
              <a:ext cx="595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302.156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4694040" y="390060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4894920" y="3900600"/>
              <a:ext cx="320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37,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5211720" y="390060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5772960" y="3900600"/>
              <a:ext cx="320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7,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6089760" y="390060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6692760" y="3900600"/>
              <a:ext cx="595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03.88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7277040" y="390060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7603200" y="3900600"/>
              <a:ext cx="320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38,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7918560" y="390060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8173080" y="3900600"/>
              <a:ext cx="320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4,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8489880" y="390060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152280" y="3892680"/>
              <a:ext cx="7920" cy="37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3086280" y="3892680"/>
              <a:ext cx="9360" cy="37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4005360" y="3892680"/>
              <a:ext cx="9360" cy="37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4792680" y="3892680"/>
              <a:ext cx="9360" cy="37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6588000" y="3892680"/>
              <a:ext cx="9720" cy="37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7500960" y="3892680"/>
              <a:ext cx="9360" cy="37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8069400" y="3892680"/>
              <a:ext cx="9360" cy="37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256320" y="4281480"/>
              <a:ext cx="1152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nti Previdenz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1386000" y="428148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1588680" y="4281480"/>
              <a:ext cx="503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0.854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2082600" y="428148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2499120" y="428148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,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2724120" y="428148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3189600" y="428148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0,8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3416400" y="428148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4109760" y="4281480"/>
              <a:ext cx="503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0.898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4603680" y="428148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4894560" y="428148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,6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5121360" y="428148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5772600" y="428148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,9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5999040" y="428148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6692760" y="4281480"/>
              <a:ext cx="503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7.198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7186680" y="428148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7602840" y="428148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,3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7827840" y="428148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8172720" y="428148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0,8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8399520" y="428148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152280" y="4265640"/>
              <a:ext cx="79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160200" y="4265640"/>
              <a:ext cx="13273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1495440" y="4265640"/>
              <a:ext cx="90180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2406600" y="4265640"/>
              <a:ext cx="6796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3086280" y="4265640"/>
              <a:ext cx="93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3095640" y="4265640"/>
              <a:ext cx="9097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4005360" y="4265640"/>
              <a:ext cx="93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4014720" y="4265640"/>
              <a:ext cx="7779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4792680" y="4265640"/>
              <a:ext cx="93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4802040" y="4265640"/>
              <a:ext cx="8668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5678640" y="4265640"/>
              <a:ext cx="9093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6588000" y="4265640"/>
              <a:ext cx="97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6597720" y="4265640"/>
              <a:ext cx="9032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7500960" y="4265640"/>
              <a:ext cx="93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7510320" y="4265640"/>
              <a:ext cx="5590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8069400" y="4265640"/>
              <a:ext cx="93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8078760" y="4265640"/>
              <a:ext cx="9129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152280" y="4275000"/>
              <a:ext cx="7920" cy="184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3086280" y="4275000"/>
              <a:ext cx="9360" cy="184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4005360" y="4275000"/>
              <a:ext cx="9360" cy="184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4792680" y="4275000"/>
              <a:ext cx="9360" cy="184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6588000" y="4275000"/>
              <a:ext cx="9720" cy="184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7500960" y="4275000"/>
              <a:ext cx="9360" cy="184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8069400" y="4275000"/>
              <a:ext cx="9360" cy="184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255240" y="4464000"/>
              <a:ext cx="659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TOTAL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896760" y="446400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1589760" y="4464000"/>
              <a:ext cx="732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.394.76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2306520" y="446400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2499120" y="4464000"/>
              <a:ext cx="27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2770200" y="446400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3189960" y="4464000"/>
              <a:ext cx="320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54,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3506760" y="446400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4110120" y="4464000"/>
              <a:ext cx="595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816.647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4694040" y="446400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4894560" y="4464000"/>
              <a:ext cx="27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5165640" y="446400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5772960" y="4464000"/>
              <a:ext cx="320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74,4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6089760" y="446400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6693480" y="4464000"/>
              <a:ext cx="732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.325.80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7410240" y="446400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7602840" y="4464000"/>
              <a:ext cx="27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7873920" y="446400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8173080" y="4464000"/>
              <a:ext cx="320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64.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8489880" y="446400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152280" y="4468680"/>
              <a:ext cx="7920" cy="187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152280" y="465624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152280" y="465624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160200" y="4656240"/>
              <a:ext cx="13273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1495440" y="4656240"/>
              <a:ext cx="90180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2406600" y="4656240"/>
              <a:ext cx="67968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3086280" y="4468680"/>
              <a:ext cx="9360" cy="187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3086280" y="4656240"/>
              <a:ext cx="93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3095640" y="4656240"/>
              <a:ext cx="9097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4005360" y="4468680"/>
              <a:ext cx="9360" cy="187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4005360" y="4656240"/>
              <a:ext cx="93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4014720" y="4656240"/>
              <a:ext cx="7779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4792680" y="4468680"/>
              <a:ext cx="9360" cy="187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4792680" y="4656240"/>
              <a:ext cx="93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4802040" y="4656240"/>
              <a:ext cx="86688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5678640" y="4656240"/>
              <a:ext cx="9093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6588000" y="4468680"/>
              <a:ext cx="9720" cy="187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6588000" y="4656240"/>
              <a:ext cx="97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6597720" y="4656240"/>
              <a:ext cx="90324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7500960" y="4468680"/>
              <a:ext cx="9360" cy="187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7500960" y="4656240"/>
              <a:ext cx="93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7510320" y="4656240"/>
              <a:ext cx="55908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8069400" y="4468680"/>
              <a:ext cx="9360" cy="187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8069400" y="4656240"/>
              <a:ext cx="93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8078760" y="4656240"/>
              <a:ext cx="9129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253800" y="46656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1523880" y="2743200"/>
              <a:ext cx="0" cy="1905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2362320" y="2743200"/>
              <a:ext cx="0" cy="1905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6" name=""/>
          <p:cNvSpPr/>
          <p:nvPr/>
        </p:nvSpPr>
        <p:spPr>
          <a:xfrm>
            <a:off x="1981080" y="1371600"/>
            <a:ext cx="4191120" cy="5486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7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ersonale Amm. Centrale e locale per regioni per 1000 abitanti reside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8" name=""/>
          <p:cNvSpPr/>
          <p:nvPr/>
        </p:nvSpPr>
        <p:spPr>
          <a:xfrm>
            <a:off x="2928960" y="648828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9" name=""/>
          <p:cNvSpPr/>
          <p:nvPr/>
        </p:nvSpPr>
        <p:spPr>
          <a:xfrm>
            <a:off x="2928960" y="648828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0" name=""/>
          <p:cNvSpPr/>
          <p:nvPr/>
        </p:nvSpPr>
        <p:spPr>
          <a:xfrm>
            <a:off x="2928960" y="6703920"/>
            <a:ext cx="792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1" name=""/>
          <p:cNvSpPr/>
          <p:nvPr/>
        </p:nvSpPr>
        <p:spPr>
          <a:xfrm>
            <a:off x="2928960" y="6497640"/>
            <a:ext cx="7920" cy="206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2" name=""/>
          <p:cNvSpPr/>
          <p:nvPr/>
        </p:nvSpPr>
        <p:spPr>
          <a:xfrm>
            <a:off x="3679920" y="648828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3" name=""/>
          <p:cNvSpPr/>
          <p:nvPr/>
        </p:nvSpPr>
        <p:spPr>
          <a:xfrm>
            <a:off x="3679920" y="648828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4" name=""/>
          <p:cNvSpPr/>
          <p:nvPr/>
        </p:nvSpPr>
        <p:spPr>
          <a:xfrm>
            <a:off x="3679920" y="6703920"/>
            <a:ext cx="936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5" name=""/>
          <p:cNvSpPr/>
          <p:nvPr/>
        </p:nvSpPr>
        <p:spPr>
          <a:xfrm>
            <a:off x="3679920" y="6497640"/>
            <a:ext cx="9360" cy="206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6" name=""/>
          <p:cNvSpPr/>
          <p:nvPr/>
        </p:nvSpPr>
        <p:spPr>
          <a:xfrm>
            <a:off x="4538520" y="648828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7" name=""/>
          <p:cNvSpPr/>
          <p:nvPr/>
        </p:nvSpPr>
        <p:spPr>
          <a:xfrm>
            <a:off x="4538520" y="648828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8" name=""/>
          <p:cNvSpPr/>
          <p:nvPr/>
        </p:nvSpPr>
        <p:spPr>
          <a:xfrm>
            <a:off x="4538520" y="6703920"/>
            <a:ext cx="792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9" name=""/>
          <p:cNvSpPr/>
          <p:nvPr/>
        </p:nvSpPr>
        <p:spPr>
          <a:xfrm>
            <a:off x="4538520" y="6497640"/>
            <a:ext cx="7920" cy="206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0" name=""/>
          <p:cNvGrpSpPr/>
          <p:nvPr/>
        </p:nvGrpSpPr>
        <p:grpSpPr>
          <a:xfrm>
            <a:off x="2062080" y="1409760"/>
            <a:ext cx="3987720" cy="5450760"/>
            <a:chOff x="2062080" y="1409760"/>
            <a:chExt cx="3987720" cy="5450760"/>
          </a:xfrm>
        </p:grpSpPr>
        <p:grpSp>
          <p:nvGrpSpPr>
            <p:cNvPr id="2731" name=""/>
            <p:cNvGrpSpPr/>
            <p:nvPr/>
          </p:nvGrpSpPr>
          <p:grpSpPr>
            <a:xfrm>
              <a:off x="2062080" y="1409760"/>
              <a:ext cx="3987720" cy="1054080"/>
              <a:chOff x="2062080" y="1409760"/>
              <a:chExt cx="3987720" cy="1054080"/>
            </a:xfrm>
          </p:grpSpPr>
          <p:sp>
            <p:nvSpPr>
              <p:cNvPr id="2732" name=""/>
              <p:cNvSpPr/>
              <p:nvPr/>
            </p:nvSpPr>
            <p:spPr>
              <a:xfrm>
                <a:off x="2315520" y="14288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2342520" y="14288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3181320" y="1428840"/>
                <a:ext cx="284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otal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3449160" y="14288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3714840" y="1428840"/>
                <a:ext cx="785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mministrazione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3717720" y="1538280"/>
                <a:ext cx="392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entrale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4087080" y="15382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>
                <a:off x="4573800" y="1428840"/>
                <a:ext cx="785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mministrazione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>
                <a:off x="4577040" y="1538280"/>
                <a:ext cx="267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ocal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4828680" y="15382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>
                <a:off x="5435280" y="1428840"/>
                <a:ext cx="2354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nti 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5433120" y="1538280"/>
                <a:ext cx="511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revidenz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>
                <a:off x="5912640" y="15382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>
                <a:off x="2062080" y="1409760"/>
                <a:ext cx="176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2062080" y="1409760"/>
                <a:ext cx="176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>
                <a:off x="2079720" y="1409760"/>
                <a:ext cx="849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2928960" y="1409760"/>
                <a:ext cx="792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>
                <a:off x="2062080" y="1784520"/>
                <a:ext cx="8668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>
                <a:off x="2928960" y="178452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2928960" y="178452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>
                <a:off x="2062080" y="1427040"/>
                <a:ext cx="17640" cy="357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2928960" y="1427040"/>
                <a:ext cx="7920" cy="357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>
                <a:off x="2936880" y="1409760"/>
                <a:ext cx="7430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>
                <a:off x="3679920" y="1409760"/>
                <a:ext cx="936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2936880" y="178452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>
                <a:off x="2936880" y="178452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2946240" y="1784520"/>
                <a:ext cx="7336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>
                <a:off x="3679920" y="178452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>
                <a:off x="3679920" y="178452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2936880" y="1427040"/>
                <a:ext cx="9360" cy="357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3679920" y="1427040"/>
                <a:ext cx="9360" cy="357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3689280" y="1409760"/>
                <a:ext cx="849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>
                <a:off x="4538520" y="1409760"/>
                <a:ext cx="792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>
                <a:off x="3689280" y="178452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3689280" y="178452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>
                <a:off x="3697200" y="1784520"/>
                <a:ext cx="8413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4538520" y="178452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>
                <a:off x="4538520" y="178452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>
                <a:off x="3689280" y="1427040"/>
                <a:ext cx="7920" cy="357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4538520" y="1427040"/>
                <a:ext cx="7920" cy="357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>
                <a:off x="4546440" y="1409760"/>
                <a:ext cx="8510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5397480" y="1409760"/>
                <a:ext cx="792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>
                <a:off x="4546440" y="178452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>
                <a:off x="4546440" y="178452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4556160" y="1784520"/>
                <a:ext cx="8413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>
                <a:off x="5397480" y="178452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5397480" y="178452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>
                <a:off x="4546440" y="1427040"/>
                <a:ext cx="9720" cy="357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>
                <a:off x="5397480" y="1427040"/>
                <a:ext cx="7920" cy="357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5405400" y="1409760"/>
                <a:ext cx="62712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>
                <a:off x="6032520" y="1409760"/>
                <a:ext cx="1728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6032520" y="1409760"/>
                <a:ext cx="1728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>
                <a:off x="5405400" y="178452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>
                <a:off x="5405400" y="178452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5415120" y="1784520"/>
                <a:ext cx="617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>
                <a:off x="6032520" y="178452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>
                <a:off x="5405400" y="1427040"/>
                <a:ext cx="9720" cy="357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>
                <a:off x="6032520" y="1427040"/>
                <a:ext cx="17280" cy="357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>
                <a:off x="2313720" y="1803240"/>
                <a:ext cx="4320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iemont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>
                <a:off x="2720520" y="18032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>
                <a:off x="3181320" y="1803240"/>
                <a:ext cx="198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4,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>
                <a:off x="3368160" y="18032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>
                <a:off x="3931920" y="1803240"/>
                <a:ext cx="198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7,7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>
                <a:off x="4118760" y="18032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>
                <a:off x="4790880" y="1803240"/>
                <a:ext cx="198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5,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>
                <a:off x="4977720" y="18032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>
                <a:off x="5649840" y="1803240"/>
                <a:ext cx="14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,8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>
                <a:off x="5784120" y="18032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>
                <a:off x="2062080" y="1793880"/>
                <a:ext cx="8668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>
                <a:off x="2928960" y="17938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>
                <a:off x="2928960" y="17938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>
                <a:off x="2062080" y="2008080"/>
                <a:ext cx="8668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>
                <a:off x="2928960" y="20080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>
                <a:off x="2928960" y="20080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2062080" y="1801800"/>
                <a:ext cx="1764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2928960" y="1801800"/>
                <a:ext cx="792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2936880" y="17938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>
                <a:off x="2936880" y="17938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2946240" y="1793880"/>
                <a:ext cx="7336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3679920" y="17938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>
                <a:off x="3679920" y="17938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>
                <a:off x="2936880" y="20080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>
                <a:off x="2936880" y="20080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5" name=""/>
              <p:cNvSpPr/>
              <p:nvPr/>
            </p:nvSpPr>
            <p:spPr>
              <a:xfrm>
                <a:off x="2946240" y="2008080"/>
                <a:ext cx="7336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>
                <a:off x="3679920" y="20080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>
                <a:off x="3679920" y="20080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>
                <a:off x="2936880" y="1801800"/>
                <a:ext cx="936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>
                <a:off x="3679920" y="1801800"/>
                <a:ext cx="936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>
                <a:off x="3689280" y="17938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1" name=""/>
              <p:cNvSpPr/>
              <p:nvPr/>
            </p:nvSpPr>
            <p:spPr>
              <a:xfrm>
                <a:off x="3689280" y="17938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2" name=""/>
              <p:cNvSpPr/>
              <p:nvPr/>
            </p:nvSpPr>
            <p:spPr>
              <a:xfrm>
                <a:off x="3697200" y="1793880"/>
                <a:ext cx="841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3" name=""/>
              <p:cNvSpPr/>
              <p:nvPr/>
            </p:nvSpPr>
            <p:spPr>
              <a:xfrm>
                <a:off x="4538520" y="17938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4" name=""/>
              <p:cNvSpPr/>
              <p:nvPr/>
            </p:nvSpPr>
            <p:spPr>
              <a:xfrm>
                <a:off x="4538520" y="17938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5" name=""/>
              <p:cNvSpPr/>
              <p:nvPr/>
            </p:nvSpPr>
            <p:spPr>
              <a:xfrm>
                <a:off x="3689280" y="20080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6" name=""/>
              <p:cNvSpPr/>
              <p:nvPr/>
            </p:nvSpPr>
            <p:spPr>
              <a:xfrm>
                <a:off x="3689280" y="20080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7" name=""/>
              <p:cNvSpPr/>
              <p:nvPr/>
            </p:nvSpPr>
            <p:spPr>
              <a:xfrm>
                <a:off x="3697200" y="2008080"/>
                <a:ext cx="841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8" name=""/>
              <p:cNvSpPr/>
              <p:nvPr/>
            </p:nvSpPr>
            <p:spPr>
              <a:xfrm>
                <a:off x="4538520" y="20080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9" name=""/>
              <p:cNvSpPr/>
              <p:nvPr/>
            </p:nvSpPr>
            <p:spPr>
              <a:xfrm>
                <a:off x="4538520" y="20080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0" name=""/>
              <p:cNvSpPr/>
              <p:nvPr/>
            </p:nvSpPr>
            <p:spPr>
              <a:xfrm>
                <a:off x="3689280" y="1801800"/>
                <a:ext cx="792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1" name=""/>
              <p:cNvSpPr/>
              <p:nvPr/>
            </p:nvSpPr>
            <p:spPr>
              <a:xfrm>
                <a:off x="4538520" y="1801800"/>
                <a:ext cx="792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2" name=""/>
              <p:cNvSpPr/>
              <p:nvPr/>
            </p:nvSpPr>
            <p:spPr>
              <a:xfrm>
                <a:off x="4546440" y="179388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3" name=""/>
              <p:cNvSpPr/>
              <p:nvPr/>
            </p:nvSpPr>
            <p:spPr>
              <a:xfrm>
                <a:off x="4546440" y="179388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4" name=""/>
              <p:cNvSpPr/>
              <p:nvPr/>
            </p:nvSpPr>
            <p:spPr>
              <a:xfrm>
                <a:off x="4556160" y="1793880"/>
                <a:ext cx="841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5" name=""/>
              <p:cNvSpPr/>
              <p:nvPr/>
            </p:nvSpPr>
            <p:spPr>
              <a:xfrm>
                <a:off x="5397480" y="17938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6" name=""/>
              <p:cNvSpPr/>
              <p:nvPr/>
            </p:nvSpPr>
            <p:spPr>
              <a:xfrm>
                <a:off x="5397480" y="17938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7" name=""/>
              <p:cNvSpPr/>
              <p:nvPr/>
            </p:nvSpPr>
            <p:spPr>
              <a:xfrm>
                <a:off x="4546440" y="200808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8" name=""/>
              <p:cNvSpPr/>
              <p:nvPr/>
            </p:nvSpPr>
            <p:spPr>
              <a:xfrm>
                <a:off x="4546440" y="200808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9" name=""/>
              <p:cNvSpPr/>
              <p:nvPr/>
            </p:nvSpPr>
            <p:spPr>
              <a:xfrm>
                <a:off x="4556160" y="2008080"/>
                <a:ext cx="841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0" name=""/>
              <p:cNvSpPr/>
              <p:nvPr/>
            </p:nvSpPr>
            <p:spPr>
              <a:xfrm>
                <a:off x="5397480" y="20080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1" name=""/>
              <p:cNvSpPr/>
              <p:nvPr/>
            </p:nvSpPr>
            <p:spPr>
              <a:xfrm>
                <a:off x="5397480" y="20080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2" name=""/>
              <p:cNvSpPr/>
              <p:nvPr/>
            </p:nvSpPr>
            <p:spPr>
              <a:xfrm>
                <a:off x="4546440" y="1801800"/>
                <a:ext cx="972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3" name=""/>
              <p:cNvSpPr/>
              <p:nvPr/>
            </p:nvSpPr>
            <p:spPr>
              <a:xfrm>
                <a:off x="5397480" y="1801800"/>
                <a:ext cx="792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4" name=""/>
              <p:cNvSpPr/>
              <p:nvPr/>
            </p:nvSpPr>
            <p:spPr>
              <a:xfrm>
                <a:off x="5405400" y="179388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5" name=""/>
              <p:cNvSpPr/>
              <p:nvPr/>
            </p:nvSpPr>
            <p:spPr>
              <a:xfrm>
                <a:off x="5405400" y="179388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6" name=""/>
              <p:cNvSpPr/>
              <p:nvPr/>
            </p:nvSpPr>
            <p:spPr>
              <a:xfrm>
                <a:off x="5415120" y="1793880"/>
                <a:ext cx="6174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7" name=""/>
              <p:cNvSpPr/>
              <p:nvPr/>
            </p:nvSpPr>
            <p:spPr>
              <a:xfrm>
                <a:off x="6032520" y="1793880"/>
                <a:ext cx="17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8" name=""/>
              <p:cNvSpPr/>
              <p:nvPr/>
            </p:nvSpPr>
            <p:spPr>
              <a:xfrm>
                <a:off x="5405400" y="200808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9" name=""/>
              <p:cNvSpPr/>
              <p:nvPr/>
            </p:nvSpPr>
            <p:spPr>
              <a:xfrm>
                <a:off x="5405400" y="200808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0" name=""/>
              <p:cNvSpPr/>
              <p:nvPr/>
            </p:nvSpPr>
            <p:spPr>
              <a:xfrm>
                <a:off x="5415120" y="2008080"/>
                <a:ext cx="6174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1" name=""/>
              <p:cNvSpPr/>
              <p:nvPr/>
            </p:nvSpPr>
            <p:spPr>
              <a:xfrm>
                <a:off x="6032520" y="2008080"/>
                <a:ext cx="17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2" name=""/>
              <p:cNvSpPr/>
              <p:nvPr/>
            </p:nvSpPr>
            <p:spPr>
              <a:xfrm>
                <a:off x="5405400" y="1801800"/>
                <a:ext cx="972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3" name=""/>
              <p:cNvSpPr/>
              <p:nvPr/>
            </p:nvSpPr>
            <p:spPr>
              <a:xfrm>
                <a:off x="6032520" y="1801800"/>
                <a:ext cx="1728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4" name=""/>
              <p:cNvSpPr/>
              <p:nvPr/>
            </p:nvSpPr>
            <p:spPr>
              <a:xfrm>
                <a:off x="2312640" y="2025720"/>
                <a:ext cx="6148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Valle D’Aost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5" name=""/>
              <p:cNvSpPr/>
              <p:nvPr/>
            </p:nvSpPr>
            <p:spPr>
              <a:xfrm>
                <a:off x="2888640" y="20257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6" name=""/>
              <p:cNvSpPr/>
              <p:nvPr/>
            </p:nvSpPr>
            <p:spPr>
              <a:xfrm>
                <a:off x="3181320" y="2025720"/>
                <a:ext cx="198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5,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7" name=""/>
              <p:cNvSpPr/>
              <p:nvPr/>
            </p:nvSpPr>
            <p:spPr>
              <a:xfrm>
                <a:off x="3368160" y="20257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8" name=""/>
              <p:cNvSpPr/>
              <p:nvPr/>
            </p:nvSpPr>
            <p:spPr>
              <a:xfrm>
                <a:off x="3931920" y="2025720"/>
                <a:ext cx="198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6,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9" name=""/>
              <p:cNvSpPr/>
              <p:nvPr/>
            </p:nvSpPr>
            <p:spPr>
              <a:xfrm>
                <a:off x="4118760" y="20257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0" name=""/>
              <p:cNvSpPr/>
              <p:nvPr/>
            </p:nvSpPr>
            <p:spPr>
              <a:xfrm>
                <a:off x="4790880" y="2025720"/>
                <a:ext cx="198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67,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1" name=""/>
              <p:cNvSpPr/>
              <p:nvPr/>
            </p:nvSpPr>
            <p:spPr>
              <a:xfrm>
                <a:off x="4977720" y="20257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2" name=""/>
              <p:cNvSpPr/>
              <p:nvPr/>
            </p:nvSpPr>
            <p:spPr>
              <a:xfrm>
                <a:off x="5649840" y="2025720"/>
                <a:ext cx="14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,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3" name=""/>
              <p:cNvSpPr/>
              <p:nvPr/>
            </p:nvSpPr>
            <p:spPr>
              <a:xfrm>
                <a:off x="5784120" y="20257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4" name=""/>
              <p:cNvSpPr/>
              <p:nvPr/>
            </p:nvSpPr>
            <p:spPr>
              <a:xfrm>
                <a:off x="2062080" y="2016000"/>
                <a:ext cx="8668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5" name=""/>
              <p:cNvSpPr/>
              <p:nvPr/>
            </p:nvSpPr>
            <p:spPr>
              <a:xfrm>
                <a:off x="2928960" y="201600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6" name=""/>
              <p:cNvSpPr/>
              <p:nvPr/>
            </p:nvSpPr>
            <p:spPr>
              <a:xfrm>
                <a:off x="2928960" y="201600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7" name=""/>
              <p:cNvSpPr/>
              <p:nvPr/>
            </p:nvSpPr>
            <p:spPr>
              <a:xfrm>
                <a:off x="2062080" y="2232000"/>
                <a:ext cx="8668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>
                <a:off x="2928960" y="223200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>
                <a:off x="2928960" y="223200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>
                <a:off x="2062080" y="2025720"/>
                <a:ext cx="1764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>
                <a:off x="2928960" y="2025720"/>
                <a:ext cx="792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>
                <a:off x="2936880" y="201600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>
                <a:off x="2936880" y="201600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>
                <a:off x="2946240" y="2016000"/>
                <a:ext cx="7336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>
                <a:off x="3679920" y="201600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6" name=""/>
              <p:cNvSpPr/>
              <p:nvPr/>
            </p:nvSpPr>
            <p:spPr>
              <a:xfrm>
                <a:off x="3679920" y="201600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7" name=""/>
              <p:cNvSpPr/>
              <p:nvPr/>
            </p:nvSpPr>
            <p:spPr>
              <a:xfrm>
                <a:off x="2936880" y="223200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>
                <a:off x="2936880" y="223200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>
                <a:off x="2946240" y="2232000"/>
                <a:ext cx="7336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>
                <a:off x="3679920" y="223200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>
                <a:off x="3679920" y="223200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>
                <a:off x="2936880" y="2025720"/>
                <a:ext cx="936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>
                <a:off x="3679920" y="2025720"/>
                <a:ext cx="936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>
                <a:off x="3689280" y="201600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>
                <a:off x="3689280" y="201600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>
                <a:off x="3697200" y="2016000"/>
                <a:ext cx="8413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>
                <a:off x="4538520" y="201600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>
                <a:off x="4538520" y="201600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>
                <a:off x="3689280" y="223200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>
                <a:off x="3689280" y="223200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>
                <a:off x="3697200" y="2232000"/>
                <a:ext cx="8413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>
                <a:off x="4538520" y="223200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>
                <a:off x="4538520" y="223200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>
                <a:off x="3689280" y="2025720"/>
                <a:ext cx="792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>
                <a:off x="4538520" y="2025720"/>
                <a:ext cx="792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>
                <a:off x="4546440" y="201600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>
                <a:off x="4546440" y="201600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>
                <a:off x="4556160" y="2016000"/>
                <a:ext cx="8413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>
                <a:off x="5397480" y="201600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>
                <a:off x="5397480" y="201600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>
                <a:off x="4546440" y="223200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>
                <a:off x="4546440" y="223200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>
                <a:off x="4556160" y="2232000"/>
                <a:ext cx="8413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>
                <a:off x="5397480" y="223200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>
                <a:off x="5397480" y="223200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>
                <a:off x="4546440" y="2025720"/>
                <a:ext cx="972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>
                <a:off x="5397480" y="2025720"/>
                <a:ext cx="792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>
                <a:off x="5405400" y="201600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>
                <a:off x="5405400" y="201600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>
                <a:off x="5415120" y="2016000"/>
                <a:ext cx="617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>
                <a:off x="6032520" y="201600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>
                <a:off x="5405400" y="223200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>
                <a:off x="5405400" y="223200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>
                <a:off x="5415120" y="2232000"/>
                <a:ext cx="617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>
                <a:off x="6032520" y="223200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>
                <a:off x="5405400" y="2025720"/>
                <a:ext cx="972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>
                <a:off x="6032520" y="2025720"/>
                <a:ext cx="1728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>
                <a:off x="2313720" y="2251080"/>
                <a:ext cx="4809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ombardi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>
                <a:off x="2768040" y="22510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>
                <a:off x="3181320" y="2251080"/>
                <a:ext cx="198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46,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>
                <a:off x="3368160" y="22510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>
                <a:off x="3931920" y="2251080"/>
                <a:ext cx="198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4,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>
                <a:off x="4118760" y="22510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>
                <a:off x="4790880" y="2251080"/>
                <a:ext cx="198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1,8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>
                <a:off x="4977720" y="22510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>
                <a:off x="5649840" y="2251080"/>
                <a:ext cx="14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,7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>
                <a:off x="5784120" y="22510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>
                <a:off x="2062080" y="2241720"/>
                <a:ext cx="8668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>
                <a:off x="2928960" y="2241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>
                <a:off x="2928960" y="2241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>
                <a:off x="2062080" y="2455920"/>
                <a:ext cx="8668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32" name=""/>
            <p:cNvGrpSpPr/>
            <p:nvPr/>
          </p:nvGrpSpPr>
          <p:grpSpPr>
            <a:xfrm>
              <a:off x="2062080" y="2241720"/>
              <a:ext cx="3987720" cy="893520"/>
              <a:chOff x="2062080" y="2241720"/>
              <a:chExt cx="3987720" cy="893520"/>
            </a:xfrm>
          </p:grpSpPr>
          <p:sp>
            <p:nvSpPr>
              <p:cNvPr id="2933" name=""/>
              <p:cNvSpPr/>
              <p:nvPr/>
            </p:nvSpPr>
            <p:spPr>
              <a:xfrm>
                <a:off x="2928960" y="24559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>
                <a:off x="2928960" y="24559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>
                <a:off x="2062080" y="2249640"/>
                <a:ext cx="1764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>
                <a:off x="2928960" y="2249640"/>
                <a:ext cx="792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>
                <a:off x="2936880" y="22417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>
                <a:off x="2936880" y="22417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>
                <a:off x="2946240" y="2241720"/>
                <a:ext cx="7336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>
                <a:off x="3679920" y="22417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>
                <a:off x="3679920" y="22417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>
                <a:off x="2936880" y="24559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>
                <a:off x="2936880" y="24559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2946240" y="2455920"/>
                <a:ext cx="7336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3679920" y="24559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>
                <a:off x="3679920" y="24559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>
                <a:off x="2936880" y="2249640"/>
                <a:ext cx="936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>
                <a:off x="3679920" y="2249640"/>
                <a:ext cx="936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>
                <a:off x="3689280" y="2241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>
                <a:off x="3689280" y="2241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>
                <a:off x="3697200" y="2241720"/>
                <a:ext cx="841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>
                <a:off x="4538520" y="2241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>
                <a:off x="4538520" y="2241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3689280" y="24559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>
                <a:off x="3689280" y="24559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>
                <a:off x="3697200" y="2455920"/>
                <a:ext cx="841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>
                <a:off x="4538520" y="24559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>
                <a:off x="4538520" y="24559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>
                <a:off x="3689280" y="2249640"/>
                <a:ext cx="792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>
                <a:off x="4538520" y="2249640"/>
                <a:ext cx="792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4546440" y="22417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4546440" y="22417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>
                <a:off x="4556160" y="2241720"/>
                <a:ext cx="841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>
                <a:off x="5397480" y="2241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>
                <a:off x="5397480" y="2241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>
                <a:off x="4546440" y="24559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>
                <a:off x="4546440" y="24559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>
                <a:off x="4556160" y="2455920"/>
                <a:ext cx="841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>
                <a:off x="5397480" y="24559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>
                <a:off x="5397480" y="24559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>
                <a:off x="4546440" y="2249640"/>
                <a:ext cx="972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>
                <a:off x="5397480" y="2249640"/>
                <a:ext cx="792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>
                <a:off x="5405400" y="22417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>
                <a:off x="5405400" y="22417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>
                <a:off x="5415120" y="2241720"/>
                <a:ext cx="6174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>
                <a:off x="6032520" y="2241720"/>
                <a:ext cx="17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>
                <a:off x="5405400" y="24559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>
                <a:off x="5405400" y="24559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>
                <a:off x="5415120" y="2455920"/>
                <a:ext cx="6174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>
                <a:off x="6032520" y="2455920"/>
                <a:ext cx="17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>
                <a:off x="5405400" y="2249640"/>
                <a:ext cx="972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>
                <a:off x="6032520" y="2249640"/>
                <a:ext cx="1728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>
                <a:off x="2313000" y="2475000"/>
                <a:ext cx="3693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Bolzan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>
                <a:off x="2660040" y="24750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>
                <a:off x="3181320" y="2475000"/>
                <a:ext cx="198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3,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>
                <a:off x="3368160" y="24750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3933360" y="24750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4790880" y="2475000"/>
                <a:ext cx="198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3,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>
                <a:off x="4977720" y="24750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>
                <a:off x="5650920" y="24750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>
                <a:off x="2062080" y="2463840"/>
                <a:ext cx="8668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>
                <a:off x="2928960" y="246384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>
                <a:off x="2928960" y="246384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>
                <a:off x="2062080" y="2679840"/>
                <a:ext cx="8668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>
                <a:off x="2928960" y="26798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>
                <a:off x="2928960" y="26798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>
                <a:off x="2062080" y="2473200"/>
                <a:ext cx="17640" cy="206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>
                <a:off x="2928960" y="2473200"/>
                <a:ext cx="7920" cy="206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>
                <a:off x="2936880" y="24638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>
                <a:off x="2936880" y="24638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>
                <a:off x="2946240" y="2463840"/>
                <a:ext cx="7336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>
                <a:off x="3679920" y="24638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>
                <a:off x="3679920" y="24638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>
                <a:off x="2936880" y="26798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>
                <a:off x="2936880" y="26798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>
                <a:off x="2946240" y="2679840"/>
                <a:ext cx="7336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>
                <a:off x="3679920" y="26798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>
                <a:off x="3679920" y="26798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>
                <a:off x="2936880" y="2473200"/>
                <a:ext cx="9360" cy="206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>
                <a:off x="3679920" y="2473200"/>
                <a:ext cx="9360" cy="206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>
                <a:off x="3689280" y="246384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>
                <a:off x="3689280" y="246384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>
                <a:off x="3697200" y="2463840"/>
                <a:ext cx="8413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>
                <a:off x="4538520" y="246384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>
                <a:off x="4538520" y="246384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>
                <a:off x="3689280" y="26798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>
                <a:off x="3689280" y="26798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>
                <a:off x="3697200" y="2679840"/>
                <a:ext cx="841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>
                <a:off x="4538520" y="26798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>
                <a:off x="4538520" y="26798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3689280" y="2473200"/>
                <a:ext cx="7920" cy="206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>
                <a:off x="4538520" y="2473200"/>
                <a:ext cx="7920" cy="206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>
                <a:off x="4546440" y="246384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>
                <a:off x="4546440" y="246384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>
                <a:off x="4556160" y="2463840"/>
                <a:ext cx="8413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>
                <a:off x="5397480" y="246384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>
                <a:off x="5397480" y="246384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>
                <a:off x="4546440" y="267984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>
                <a:off x="4546440" y="267984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>
                <a:off x="4556160" y="2679840"/>
                <a:ext cx="841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5397480" y="26798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>
                <a:off x="5397480" y="26798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>
                <a:off x="4546440" y="2473200"/>
                <a:ext cx="9720" cy="206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>
                <a:off x="5397480" y="2473200"/>
                <a:ext cx="7920" cy="206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>
                <a:off x="5405400" y="246384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>
                <a:off x="5405400" y="246384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>
                <a:off x="5415120" y="2463840"/>
                <a:ext cx="617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>
                <a:off x="6032520" y="246384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>
                <a:off x="5405400" y="267984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>
                <a:off x="5405400" y="267984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>
                <a:off x="5415120" y="2679840"/>
                <a:ext cx="6174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>
                <a:off x="6032520" y="2679840"/>
                <a:ext cx="17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>
                <a:off x="5405400" y="2473200"/>
                <a:ext cx="9720" cy="206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>
                <a:off x="6032520" y="2473200"/>
                <a:ext cx="17280" cy="206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>
                <a:off x="2314800" y="2697120"/>
                <a:ext cx="2948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rent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>
                <a:off x="2591640" y="26971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>
                <a:off x="3181320" y="2697120"/>
                <a:ext cx="198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0,8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>
                <a:off x="3368160" y="26971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>
                <a:off x="3933360" y="26971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>
                <a:off x="4790880" y="2697120"/>
                <a:ext cx="198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0,8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>
                <a:off x="4977720" y="26971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>
                <a:off x="5650920" y="26971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>
                <a:off x="2062080" y="2687760"/>
                <a:ext cx="8668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>
                <a:off x="2928960" y="26877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>
                <a:off x="2928960" y="26877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>
                <a:off x="2062080" y="2901960"/>
                <a:ext cx="8668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>
                <a:off x="2928960" y="290196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2928960" y="290196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2062080" y="2695680"/>
                <a:ext cx="1764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>
                <a:off x="2928960" y="2695680"/>
                <a:ext cx="792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>
                <a:off x="2936880" y="26877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>
                <a:off x="2936880" y="26877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2946240" y="2687760"/>
                <a:ext cx="7336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3679920" y="26877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>
                <a:off x="3679920" y="26877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>
                <a:off x="2936880" y="290196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>
                <a:off x="2936880" y="290196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>
                <a:off x="2946240" y="2901960"/>
                <a:ext cx="7336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>
                <a:off x="3679920" y="290196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>
                <a:off x="3679920" y="290196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>
                <a:off x="2936880" y="2695680"/>
                <a:ext cx="936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>
                <a:off x="3679920" y="2695680"/>
                <a:ext cx="936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>
                <a:off x="3689280" y="26877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>
                <a:off x="3689280" y="26877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>
                <a:off x="3697200" y="2687760"/>
                <a:ext cx="841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>
                <a:off x="4538520" y="26877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7" name=""/>
              <p:cNvSpPr/>
              <p:nvPr/>
            </p:nvSpPr>
            <p:spPr>
              <a:xfrm>
                <a:off x="4538520" y="26877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8" name=""/>
              <p:cNvSpPr/>
              <p:nvPr/>
            </p:nvSpPr>
            <p:spPr>
              <a:xfrm>
                <a:off x="3689280" y="290196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9" name=""/>
              <p:cNvSpPr/>
              <p:nvPr/>
            </p:nvSpPr>
            <p:spPr>
              <a:xfrm>
                <a:off x="3689280" y="290196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>
                <a:off x="3697200" y="2901960"/>
                <a:ext cx="8413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1" name=""/>
              <p:cNvSpPr/>
              <p:nvPr/>
            </p:nvSpPr>
            <p:spPr>
              <a:xfrm>
                <a:off x="4538520" y="290196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2" name=""/>
              <p:cNvSpPr/>
              <p:nvPr/>
            </p:nvSpPr>
            <p:spPr>
              <a:xfrm>
                <a:off x="4538520" y="290196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3" name=""/>
              <p:cNvSpPr/>
              <p:nvPr/>
            </p:nvSpPr>
            <p:spPr>
              <a:xfrm>
                <a:off x="3689280" y="2695680"/>
                <a:ext cx="792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4" name=""/>
              <p:cNvSpPr/>
              <p:nvPr/>
            </p:nvSpPr>
            <p:spPr>
              <a:xfrm>
                <a:off x="4538520" y="2695680"/>
                <a:ext cx="792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5" name=""/>
              <p:cNvSpPr/>
              <p:nvPr/>
            </p:nvSpPr>
            <p:spPr>
              <a:xfrm>
                <a:off x="4546440" y="268776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6" name=""/>
              <p:cNvSpPr/>
              <p:nvPr/>
            </p:nvSpPr>
            <p:spPr>
              <a:xfrm>
                <a:off x="4546440" y="268776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7" name=""/>
              <p:cNvSpPr/>
              <p:nvPr/>
            </p:nvSpPr>
            <p:spPr>
              <a:xfrm>
                <a:off x="4556160" y="2687760"/>
                <a:ext cx="841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8" name=""/>
              <p:cNvSpPr/>
              <p:nvPr/>
            </p:nvSpPr>
            <p:spPr>
              <a:xfrm>
                <a:off x="5397480" y="26877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9" name=""/>
              <p:cNvSpPr/>
              <p:nvPr/>
            </p:nvSpPr>
            <p:spPr>
              <a:xfrm>
                <a:off x="5397480" y="26877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>
                <a:off x="4546440" y="290196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1" name=""/>
              <p:cNvSpPr/>
              <p:nvPr/>
            </p:nvSpPr>
            <p:spPr>
              <a:xfrm>
                <a:off x="4546440" y="290196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2" name=""/>
              <p:cNvSpPr/>
              <p:nvPr/>
            </p:nvSpPr>
            <p:spPr>
              <a:xfrm>
                <a:off x="4556160" y="2901960"/>
                <a:ext cx="8413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3" name=""/>
              <p:cNvSpPr/>
              <p:nvPr/>
            </p:nvSpPr>
            <p:spPr>
              <a:xfrm>
                <a:off x="5397480" y="290196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4" name=""/>
              <p:cNvSpPr/>
              <p:nvPr/>
            </p:nvSpPr>
            <p:spPr>
              <a:xfrm>
                <a:off x="5397480" y="290196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5" name=""/>
              <p:cNvSpPr/>
              <p:nvPr/>
            </p:nvSpPr>
            <p:spPr>
              <a:xfrm>
                <a:off x="4546440" y="2695680"/>
                <a:ext cx="972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6" name=""/>
              <p:cNvSpPr/>
              <p:nvPr/>
            </p:nvSpPr>
            <p:spPr>
              <a:xfrm>
                <a:off x="5397480" y="2695680"/>
                <a:ext cx="792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7" name=""/>
              <p:cNvSpPr/>
              <p:nvPr/>
            </p:nvSpPr>
            <p:spPr>
              <a:xfrm>
                <a:off x="5405400" y="268776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8" name=""/>
              <p:cNvSpPr/>
              <p:nvPr/>
            </p:nvSpPr>
            <p:spPr>
              <a:xfrm>
                <a:off x="5405400" y="268776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9" name=""/>
              <p:cNvSpPr/>
              <p:nvPr/>
            </p:nvSpPr>
            <p:spPr>
              <a:xfrm>
                <a:off x="5415120" y="2687760"/>
                <a:ext cx="6174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>
                <a:off x="6032520" y="2687760"/>
                <a:ext cx="17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1" name=""/>
              <p:cNvSpPr/>
              <p:nvPr/>
            </p:nvSpPr>
            <p:spPr>
              <a:xfrm>
                <a:off x="5405400" y="290196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2" name=""/>
              <p:cNvSpPr/>
              <p:nvPr/>
            </p:nvSpPr>
            <p:spPr>
              <a:xfrm>
                <a:off x="5405400" y="290196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3" name=""/>
              <p:cNvSpPr/>
              <p:nvPr/>
            </p:nvSpPr>
            <p:spPr>
              <a:xfrm>
                <a:off x="5415120" y="2901960"/>
                <a:ext cx="617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4" name=""/>
              <p:cNvSpPr/>
              <p:nvPr/>
            </p:nvSpPr>
            <p:spPr>
              <a:xfrm>
                <a:off x="6032520" y="290196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>
                <a:off x="5405400" y="2695680"/>
                <a:ext cx="972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6" name=""/>
              <p:cNvSpPr/>
              <p:nvPr/>
            </p:nvSpPr>
            <p:spPr>
              <a:xfrm>
                <a:off x="6032520" y="2695680"/>
                <a:ext cx="1728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7" name=""/>
              <p:cNvSpPr/>
              <p:nvPr/>
            </p:nvSpPr>
            <p:spPr>
              <a:xfrm>
                <a:off x="2313720" y="2921040"/>
                <a:ext cx="323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Venet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8" name=""/>
              <p:cNvSpPr/>
              <p:nvPr/>
            </p:nvSpPr>
            <p:spPr>
              <a:xfrm>
                <a:off x="2618640" y="29210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9" name=""/>
              <p:cNvSpPr/>
              <p:nvPr/>
            </p:nvSpPr>
            <p:spPr>
              <a:xfrm>
                <a:off x="3181320" y="2921040"/>
                <a:ext cx="198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2,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0" name=""/>
              <p:cNvSpPr/>
              <p:nvPr/>
            </p:nvSpPr>
            <p:spPr>
              <a:xfrm>
                <a:off x="3368160" y="29210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1" name=""/>
              <p:cNvSpPr/>
              <p:nvPr/>
            </p:nvSpPr>
            <p:spPr>
              <a:xfrm>
                <a:off x="3931920" y="2921040"/>
                <a:ext cx="198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7,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>
                <a:off x="4118760" y="29210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>
                <a:off x="4790880" y="2921040"/>
                <a:ext cx="198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3,8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4" name=""/>
              <p:cNvSpPr/>
              <p:nvPr/>
            </p:nvSpPr>
            <p:spPr>
              <a:xfrm>
                <a:off x="4977720" y="29210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5" name=""/>
              <p:cNvSpPr/>
              <p:nvPr/>
            </p:nvSpPr>
            <p:spPr>
              <a:xfrm>
                <a:off x="5649840" y="2921040"/>
                <a:ext cx="14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,7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>
                <a:off x="5784120" y="29210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7" name=""/>
              <p:cNvSpPr/>
              <p:nvPr/>
            </p:nvSpPr>
            <p:spPr>
              <a:xfrm>
                <a:off x="2062080" y="2911320"/>
                <a:ext cx="8668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8" name=""/>
              <p:cNvSpPr/>
              <p:nvPr/>
            </p:nvSpPr>
            <p:spPr>
              <a:xfrm>
                <a:off x="2928960" y="29113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>
                <a:off x="2928960" y="29113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0" name=""/>
              <p:cNvSpPr/>
              <p:nvPr/>
            </p:nvSpPr>
            <p:spPr>
              <a:xfrm>
                <a:off x="2062080" y="3127320"/>
                <a:ext cx="8668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1" name=""/>
              <p:cNvSpPr/>
              <p:nvPr/>
            </p:nvSpPr>
            <p:spPr>
              <a:xfrm>
                <a:off x="2928960" y="31273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2" name=""/>
              <p:cNvSpPr/>
              <p:nvPr/>
            </p:nvSpPr>
            <p:spPr>
              <a:xfrm>
                <a:off x="2928960" y="31273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3" name=""/>
              <p:cNvSpPr/>
              <p:nvPr/>
            </p:nvSpPr>
            <p:spPr>
              <a:xfrm>
                <a:off x="2062080" y="2919240"/>
                <a:ext cx="17640" cy="208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4" name=""/>
              <p:cNvSpPr/>
              <p:nvPr/>
            </p:nvSpPr>
            <p:spPr>
              <a:xfrm>
                <a:off x="2928960" y="2919240"/>
                <a:ext cx="7920" cy="208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5" name=""/>
              <p:cNvSpPr/>
              <p:nvPr/>
            </p:nvSpPr>
            <p:spPr>
              <a:xfrm>
                <a:off x="2936880" y="29113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6" name=""/>
              <p:cNvSpPr/>
              <p:nvPr/>
            </p:nvSpPr>
            <p:spPr>
              <a:xfrm>
                <a:off x="2936880" y="29113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>
                <a:off x="2946240" y="2911320"/>
                <a:ext cx="7336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8" name=""/>
              <p:cNvSpPr/>
              <p:nvPr/>
            </p:nvSpPr>
            <p:spPr>
              <a:xfrm>
                <a:off x="3679920" y="29113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>
                <a:off x="3679920" y="29113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0" name=""/>
              <p:cNvSpPr/>
              <p:nvPr/>
            </p:nvSpPr>
            <p:spPr>
              <a:xfrm>
                <a:off x="2936880" y="31273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1" name=""/>
              <p:cNvSpPr/>
              <p:nvPr/>
            </p:nvSpPr>
            <p:spPr>
              <a:xfrm>
                <a:off x="2936880" y="31273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2" name=""/>
              <p:cNvSpPr/>
              <p:nvPr/>
            </p:nvSpPr>
            <p:spPr>
              <a:xfrm>
                <a:off x="2946240" y="3127320"/>
                <a:ext cx="7336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33" name=""/>
            <p:cNvGrpSpPr/>
            <p:nvPr/>
          </p:nvGrpSpPr>
          <p:grpSpPr>
            <a:xfrm>
              <a:off x="2062080" y="2911320"/>
              <a:ext cx="3987720" cy="893880"/>
              <a:chOff x="2062080" y="2911320"/>
              <a:chExt cx="3987720" cy="893880"/>
            </a:xfrm>
          </p:grpSpPr>
          <p:sp>
            <p:nvSpPr>
              <p:cNvPr id="3134" name=""/>
              <p:cNvSpPr/>
              <p:nvPr/>
            </p:nvSpPr>
            <p:spPr>
              <a:xfrm>
                <a:off x="3679920" y="31273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5" name=""/>
              <p:cNvSpPr/>
              <p:nvPr/>
            </p:nvSpPr>
            <p:spPr>
              <a:xfrm>
                <a:off x="3679920" y="31273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6" name=""/>
              <p:cNvSpPr/>
              <p:nvPr/>
            </p:nvSpPr>
            <p:spPr>
              <a:xfrm>
                <a:off x="2936880" y="2919240"/>
                <a:ext cx="9360" cy="208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7" name=""/>
              <p:cNvSpPr/>
              <p:nvPr/>
            </p:nvSpPr>
            <p:spPr>
              <a:xfrm>
                <a:off x="3679920" y="2919240"/>
                <a:ext cx="9360" cy="208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8" name=""/>
              <p:cNvSpPr/>
              <p:nvPr/>
            </p:nvSpPr>
            <p:spPr>
              <a:xfrm>
                <a:off x="3689280" y="29113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9" name=""/>
              <p:cNvSpPr/>
              <p:nvPr/>
            </p:nvSpPr>
            <p:spPr>
              <a:xfrm>
                <a:off x="3689280" y="29113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0" name=""/>
              <p:cNvSpPr/>
              <p:nvPr/>
            </p:nvSpPr>
            <p:spPr>
              <a:xfrm>
                <a:off x="3697200" y="2911320"/>
                <a:ext cx="841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1" name=""/>
              <p:cNvSpPr/>
              <p:nvPr/>
            </p:nvSpPr>
            <p:spPr>
              <a:xfrm>
                <a:off x="4538520" y="29113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2" name=""/>
              <p:cNvSpPr/>
              <p:nvPr/>
            </p:nvSpPr>
            <p:spPr>
              <a:xfrm>
                <a:off x="4538520" y="29113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3" name=""/>
              <p:cNvSpPr/>
              <p:nvPr/>
            </p:nvSpPr>
            <p:spPr>
              <a:xfrm>
                <a:off x="3689280" y="31273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4" name=""/>
              <p:cNvSpPr/>
              <p:nvPr/>
            </p:nvSpPr>
            <p:spPr>
              <a:xfrm>
                <a:off x="3689280" y="31273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5" name=""/>
              <p:cNvSpPr/>
              <p:nvPr/>
            </p:nvSpPr>
            <p:spPr>
              <a:xfrm>
                <a:off x="3697200" y="3127320"/>
                <a:ext cx="841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6" name=""/>
              <p:cNvSpPr/>
              <p:nvPr/>
            </p:nvSpPr>
            <p:spPr>
              <a:xfrm>
                <a:off x="4538520" y="31273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7" name=""/>
              <p:cNvSpPr/>
              <p:nvPr/>
            </p:nvSpPr>
            <p:spPr>
              <a:xfrm>
                <a:off x="4538520" y="31273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8" name=""/>
              <p:cNvSpPr/>
              <p:nvPr/>
            </p:nvSpPr>
            <p:spPr>
              <a:xfrm>
                <a:off x="3689280" y="2919240"/>
                <a:ext cx="7920" cy="208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9" name=""/>
              <p:cNvSpPr/>
              <p:nvPr/>
            </p:nvSpPr>
            <p:spPr>
              <a:xfrm>
                <a:off x="4538520" y="2919240"/>
                <a:ext cx="7920" cy="208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0" name=""/>
              <p:cNvSpPr/>
              <p:nvPr/>
            </p:nvSpPr>
            <p:spPr>
              <a:xfrm>
                <a:off x="4546440" y="29113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1" name=""/>
              <p:cNvSpPr/>
              <p:nvPr/>
            </p:nvSpPr>
            <p:spPr>
              <a:xfrm>
                <a:off x="4546440" y="29113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2" name=""/>
              <p:cNvSpPr/>
              <p:nvPr/>
            </p:nvSpPr>
            <p:spPr>
              <a:xfrm>
                <a:off x="4556160" y="2911320"/>
                <a:ext cx="841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3" name=""/>
              <p:cNvSpPr/>
              <p:nvPr/>
            </p:nvSpPr>
            <p:spPr>
              <a:xfrm>
                <a:off x="5397480" y="29113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4" name=""/>
              <p:cNvSpPr/>
              <p:nvPr/>
            </p:nvSpPr>
            <p:spPr>
              <a:xfrm>
                <a:off x="5397480" y="29113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5" name=""/>
              <p:cNvSpPr/>
              <p:nvPr/>
            </p:nvSpPr>
            <p:spPr>
              <a:xfrm>
                <a:off x="4546440" y="31273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6" name=""/>
              <p:cNvSpPr/>
              <p:nvPr/>
            </p:nvSpPr>
            <p:spPr>
              <a:xfrm>
                <a:off x="4546440" y="31273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7" name=""/>
              <p:cNvSpPr/>
              <p:nvPr/>
            </p:nvSpPr>
            <p:spPr>
              <a:xfrm>
                <a:off x="4556160" y="3127320"/>
                <a:ext cx="841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8" name=""/>
              <p:cNvSpPr/>
              <p:nvPr/>
            </p:nvSpPr>
            <p:spPr>
              <a:xfrm>
                <a:off x="5397480" y="31273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9" name=""/>
              <p:cNvSpPr/>
              <p:nvPr/>
            </p:nvSpPr>
            <p:spPr>
              <a:xfrm>
                <a:off x="5397480" y="31273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0" name=""/>
              <p:cNvSpPr/>
              <p:nvPr/>
            </p:nvSpPr>
            <p:spPr>
              <a:xfrm>
                <a:off x="4546440" y="2919240"/>
                <a:ext cx="9720" cy="208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1" name=""/>
              <p:cNvSpPr/>
              <p:nvPr/>
            </p:nvSpPr>
            <p:spPr>
              <a:xfrm>
                <a:off x="5397480" y="2919240"/>
                <a:ext cx="7920" cy="208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2" name=""/>
              <p:cNvSpPr/>
              <p:nvPr/>
            </p:nvSpPr>
            <p:spPr>
              <a:xfrm>
                <a:off x="5405400" y="29113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3" name=""/>
              <p:cNvSpPr/>
              <p:nvPr/>
            </p:nvSpPr>
            <p:spPr>
              <a:xfrm>
                <a:off x="5405400" y="29113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4" name=""/>
              <p:cNvSpPr/>
              <p:nvPr/>
            </p:nvSpPr>
            <p:spPr>
              <a:xfrm>
                <a:off x="5415120" y="2911320"/>
                <a:ext cx="6174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5" name=""/>
              <p:cNvSpPr/>
              <p:nvPr/>
            </p:nvSpPr>
            <p:spPr>
              <a:xfrm>
                <a:off x="6032520" y="2911320"/>
                <a:ext cx="17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6" name=""/>
              <p:cNvSpPr/>
              <p:nvPr/>
            </p:nvSpPr>
            <p:spPr>
              <a:xfrm>
                <a:off x="5405400" y="31273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7" name=""/>
              <p:cNvSpPr/>
              <p:nvPr/>
            </p:nvSpPr>
            <p:spPr>
              <a:xfrm>
                <a:off x="5405400" y="31273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8" name=""/>
              <p:cNvSpPr/>
              <p:nvPr/>
            </p:nvSpPr>
            <p:spPr>
              <a:xfrm>
                <a:off x="5415120" y="3127320"/>
                <a:ext cx="6174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9" name=""/>
              <p:cNvSpPr/>
              <p:nvPr/>
            </p:nvSpPr>
            <p:spPr>
              <a:xfrm>
                <a:off x="6032520" y="3127320"/>
                <a:ext cx="17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0" name=""/>
              <p:cNvSpPr/>
              <p:nvPr/>
            </p:nvSpPr>
            <p:spPr>
              <a:xfrm>
                <a:off x="5405400" y="2919240"/>
                <a:ext cx="9720" cy="208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1" name=""/>
              <p:cNvSpPr/>
              <p:nvPr/>
            </p:nvSpPr>
            <p:spPr>
              <a:xfrm>
                <a:off x="6032520" y="2919240"/>
                <a:ext cx="17280" cy="208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2" name=""/>
              <p:cNvSpPr/>
              <p:nvPr/>
            </p:nvSpPr>
            <p:spPr>
              <a:xfrm>
                <a:off x="2315520" y="3144960"/>
                <a:ext cx="221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riul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3" name=""/>
              <p:cNvSpPr/>
              <p:nvPr/>
            </p:nvSpPr>
            <p:spPr>
              <a:xfrm>
                <a:off x="2521800" y="31449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4" name=""/>
              <p:cNvSpPr/>
              <p:nvPr/>
            </p:nvSpPr>
            <p:spPr>
              <a:xfrm>
                <a:off x="3181320" y="3144960"/>
                <a:ext cx="198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2,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5" name=""/>
              <p:cNvSpPr/>
              <p:nvPr/>
            </p:nvSpPr>
            <p:spPr>
              <a:xfrm>
                <a:off x="3368160" y="31449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6" name=""/>
              <p:cNvSpPr/>
              <p:nvPr/>
            </p:nvSpPr>
            <p:spPr>
              <a:xfrm>
                <a:off x="3931920" y="3144960"/>
                <a:ext cx="198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7,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7" name=""/>
              <p:cNvSpPr/>
              <p:nvPr/>
            </p:nvSpPr>
            <p:spPr>
              <a:xfrm>
                <a:off x="4118760" y="31449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8" name=""/>
              <p:cNvSpPr/>
              <p:nvPr/>
            </p:nvSpPr>
            <p:spPr>
              <a:xfrm>
                <a:off x="4790880" y="3144960"/>
                <a:ext cx="198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4,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9" name=""/>
              <p:cNvSpPr/>
              <p:nvPr/>
            </p:nvSpPr>
            <p:spPr>
              <a:xfrm>
                <a:off x="4977720" y="31449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0" name=""/>
              <p:cNvSpPr/>
              <p:nvPr/>
            </p:nvSpPr>
            <p:spPr>
              <a:xfrm>
                <a:off x="5649840" y="3144960"/>
                <a:ext cx="14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,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1" name=""/>
              <p:cNvSpPr/>
              <p:nvPr/>
            </p:nvSpPr>
            <p:spPr>
              <a:xfrm>
                <a:off x="5784120" y="31449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2" name=""/>
              <p:cNvSpPr/>
              <p:nvPr/>
            </p:nvSpPr>
            <p:spPr>
              <a:xfrm>
                <a:off x="2062080" y="3135240"/>
                <a:ext cx="8668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3" name=""/>
              <p:cNvSpPr/>
              <p:nvPr/>
            </p:nvSpPr>
            <p:spPr>
              <a:xfrm>
                <a:off x="2928960" y="313524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4" name=""/>
              <p:cNvSpPr/>
              <p:nvPr/>
            </p:nvSpPr>
            <p:spPr>
              <a:xfrm>
                <a:off x="2928960" y="313524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5" name=""/>
              <p:cNvSpPr/>
              <p:nvPr/>
            </p:nvSpPr>
            <p:spPr>
              <a:xfrm>
                <a:off x="2062080" y="3349800"/>
                <a:ext cx="8668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6" name=""/>
              <p:cNvSpPr/>
              <p:nvPr/>
            </p:nvSpPr>
            <p:spPr>
              <a:xfrm>
                <a:off x="2928960" y="334980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7" name=""/>
              <p:cNvSpPr/>
              <p:nvPr/>
            </p:nvSpPr>
            <p:spPr>
              <a:xfrm>
                <a:off x="2928960" y="334980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8" name=""/>
              <p:cNvSpPr/>
              <p:nvPr/>
            </p:nvSpPr>
            <p:spPr>
              <a:xfrm>
                <a:off x="2062080" y="3144960"/>
                <a:ext cx="17640" cy="204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9" name=""/>
              <p:cNvSpPr/>
              <p:nvPr/>
            </p:nvSpPr>
            <p:spPr>
              <a:xfrm>
                <a:off x="2928960" y="3144960"/>
                <a:ext cx="7920" cy="204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0" name=""/>
              <p:cNvSpPr/>
              <p:nvPr/>
            </p:nvSpPr>
            <p:spPr>
              <a:xfrm>
                <a:off x="2936880" y="31352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1" name=""/>
              <p:cNvSpPr/>
              <p:nvPr/>
            </p:nvSpPr>
            <p:spPr>
              <a:xfrm>
                <a:off x="2936880" y="31352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2" name=""/>
              <p:cNvSpPr/>
              <p:nvPr/>
            </p:nvSpPr>
            <p:spPr>
              <a:xfrm>
                <a:off x="2946240" y="3135240"/>
                <a:ext cx="7336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3" name=""/>
              <p:cNvSpPr/>
              <p:nvPr/>
            </p:nvSpPr>
            <p:spPr>
              <a:xfrm>
                <a:off x="3679920" y="31352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4" name=""/>
              <p:cNvSpPr/>
              <p:nvPr/>
            </p:nvSpPr>
            <p:spPr>
              <a:xfrm>
                <a:off x="3679920" y="31352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5" name=""/>
              <p:cNvSpPr/>
              <p:nvPr/>
            </p:nvSpPr>
            <p:spPr>
              <a:xfrm>
                <a:off x="2936880" y="334980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6" name=""/>
              <p:cNvSpPr/>
              <p:nvPr/>
            </p:nvSpPr>
            <p:spPr>
              <a:xfrm>
                <a:off x="2936880" y="334980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7" name=""/>
              <p:cNvSpPr/>
              <p:nvPr/>
            </p:nvSpPr>
            <p:spPr>
              <a:xfrm>
                <a:off x="2946240" y="3349800"/>
                <a:ext cx="7336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8" name=""/>
              <p:cNvSpPr/>
              <p:nvPr/>
            </p:nvSpPr>
            <p:spPr>
              <a:xfrm>
                <a:off x="3679920" y="334980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9" name=""/>
              <p:cNvSpPr/>
              <p:nvPr/>
            </p:nvSpPr>
            <p:spPr>
              <a:xfrm>
                <a:off x="3679920" y="334980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0" name=""/>
              <p:cNvSpPr/>
              <p:nvPr/>
            </p:nvSpPr>
            <p:spPr>
              <a:xfrm>
                <a:off x="2936880" y="3144960"/>
                <a:ext cx="9360" cy="204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1" name=""/>
              <p:cNvSpPr/>
              <p:nvPr/>
            </p:nvSpPr>
            <p:spPr>
              <a:xfrm>
                <a:off x="3679920" y="3144960"/>
                <a:ext cx="9360" cy="204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2" name=""/>
              <p:cNvSpPr/>
              <p:nvPr/>
            </p:nvSpPr>
            <p:spPr>
              <a:xfrm>
                <a:off x="3689280" y="313524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3" name=""/>
              <p:cNvSpPr/>
              <p:nvPr/>
            </p:nvSpPr>
            <p:spPr>
              <a:xfrm>
                <a:off x="3689280" y="313524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4" name=""/>
              <p:cNvSpPr/>
              <p:nvPr/>
            </p:nvSpPr>
            <p:spPr>
              <a:xfrm>
                <a:off x="3697200" y="3135240"/>
                <a:ext cx="8413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5" name=""/>
              <p:cNvSpPr/>
              <p:nvPr/>
            </p:nvSpPr>
            <p:spPr>
              <a:xfrm>
                <a:off x="4538520" y="313524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6" name=""/>
              <p:cNvSpPr/>
              <p:nvPr/>
            </p:nvSpPr>
            <p:spPr>
              <a:xfrm>
                <a:off x="4538520" y="313524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7" name=""/>
              <p:cNvSpPr/>
              <p:nvPr/>
            </p:nvSpPr>
            <p:spPr>
              <a:xfrm>
                <a:off x="3689280" y="334980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8" name=""/>
              <p:cNvSpPr/>
              <p:nvPr/>
            </p:nvSpPr>
            <p:spPr>
              <a:xfrm>
                <a:off x="3689280" y="334980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9" name=""/>
              <p:cNvSpPr/>
              <p:nvPr/>
            </p:nvSpPr>
            <p:spPr>
              <a:xfrm>
                <a:off x="3697200" y="3349800"/>
                <a:ext cx="8413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0" name=""/>
              <p:cNvSpPr/>
              <p:nvPr/>
            </p:nvSpPr>
            <p:spPr>
              <a:xfrm>
                <a:off x="4538520" y="334980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1" name=""/>
              <p:cNvSpPr/>
              <p:nvPr/>
            </p:nvSpPr>
            <p:spPr>
              <a:xfrm>
                <a:off x="4538520" y="334980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2" name=""/>
              <p:cNvSpPr/>
              <p:nvPr/>
            </p:nvSpPr>
            <p:spPr>
              <a:xfrm>
                <a:off x="3689280" y="3144960"/>
                <a:ext cx="7920" cy="204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3" name=""/>
              <p:cNvSpPr/>
              <p:nvPr/>
            </p:nvSpPr>
            <p:spPr>
              <a:xfrm>
                <a:off x="4538520" y="3144960"/>
                <a:ext cx="7920" cy="204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4" name=""/>
              <p:cNvSpPr/>
              <p:nvPr/>
            </p:nvSpPr>
            <p:spPr>
              <a:xfrm>
                <a:off x="4546440" y="31352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5" name=""/>
              <p:cNvSpPr/>
              <p:nvPr/>
            </p:nvSpPr>
            <p:spPr>
              <a:xfrm>
                <a:off x="4546440" y="31352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6" name=""/>
              <p:cNvSpPr/>
              <p:nvPr/>
            </p:nvSpPr>
            <p:spPr>
              <a:xfrm>
                <a:off x="4556160" y="3135240"/>
                <a:ext cx="8413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7" name=""/>
              <p:cNvSpPr/>
              <p:nvPr/>
            </p:nvSpPr>
            <p:spPr>
              <a:xfrm>
                <a:off x="5397480" y="313524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8" name=""/>
              <p:cNvSpPr/>
              <p:nvPr/>
            </p:nvSpPr>
            <p:spPr>
              <a:xfrm>
                <a:off x="5397480" y="313524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9" name=""/>
              <p:cNvSpPr/>
              <p:nvPr/>
            </p:nvSpPr>
            <p:spPr>
              <a:xfrm>
                <a:off x="4546440" y="334980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0" name=""/>
              <p:cNvSpPr/>
              <p:nvPr/>
            </p:nvSpPr>
            <p:spPr>
              <a:xfrm>
                <a:off x="4546440" y="334980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1" name=""/>
              <p:cNvSpPr/>
              <p:nvPr/>
            </p:nvSpPr>
            <p:spPr>
              <a:xfrm>
                <a:off x="4556160" y="3349800"/>
                <a:ext cx="8413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2" name=""/>
              <p:cNvSpPr/>
              <p:nvPr/>
            </p:nvSpPr>
            <p:spPr>
              <a:xfrm>
                <a:off x="5397480" y="334980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3" name=""/>
              <p:cNvSpPr/>
              <p:nvPr/>
            </p:nvSpPr>
            <p:spPr>
              <a:xfrm>
                <a:off x="5397480" y="334980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4" name=""/>
              <p:cNvSpPr/>
              <p:nvPr/>
            </p:nvSpPr>
            <p:spPr>
              <a:xfrm>
                <a:off x="4546440" y="3144960"/>
                <a:ext cx="9720" cy="204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5" name=""/>
              <p:cNvSpPr/>
              <p:nvPr/>
            </p:nvSpPr>
            <p:spPr>
              <a:xfrm>
                <a:off x="5397480" y="3144960"/>
                <a:ext cx="7920" cy="204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6" name=""/>
              <p:cNvSpPr/>
              <p:nvPr/>
            </p:nvSpPr>
            <p:spPr>
              <a:xfrm>
                <a:off x="5405400" y="31352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7" name=""/>
              <p:cNvSpPr/>
              <p:nvPr/>
            </p:nvSpPr>
            <p:spPr>
              <a:xfrm>
                <a:off x="5405400" y="31352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8" name=""/>
              <p:cNvSpPr/>
              <p:nvPr/>
            </p:nvSpPr>
            <p:spPr>
              <a:xfrm>
                <a:off x="5415120" y="3135240"/>
                <a:ext cx="617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9" name=""/>
              <p:cNvSpPr/>
              <p:nvPr/>
            </p:nvSpPr>
            <p:spPr>
              <a:xfrm>
                <a:off x="6032520" y="313524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0" name=""/>
              <p:cNvSpPr/>
              <p:nvPr/>
            </p:nvSpPr>
            <p:spPr>
              <a:xfrm>
                <a:off x="5405400" y="334980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1" name=""/>
              <p:cNvSpPr/>
              <p:nvPr/>
            </p:nvSpPr>
            <p:spPr>
              <a:xfrm>
                <a:off x="5405400" y="334980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2" name=""/>
              <p:cNvSpPr/>
              <p:nvPr/>
            </p:nvSpPr>
            <p:spPr>
              <a:xfrm>
                <a:off x="5415120" y="3349800"/>
                <a:ext cx="617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3" name=""/>
              <p:cNvSpPr/>
              <p:nvPr/>
            </p:nvSpPr>
            <p:spPr>
              <a:xfrm>
                <a:off x="6032520" y="334980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4" name=""/>
              <p:cNvSpPr/>
              <p:nvPr/>
            </p:nvSpPr>
            <p:spPr>
              <a:xfrm>
                <a:off x="5405400" y="3144960"/>
                <a:ext cx="9720" cy="204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5" name=""/>
              <p:cNvSpPr/>
              <p:nvPr/>
            </p:nvSpPr>
            <p:spPr>
              <a:xfrm>
                <a:off x="6032520" y="3144960"/>
                <a:ext cx="17280" cy="204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6" name=""/>
              <p:cNvSpPr/>
              <p:nvPr/>
            </p:nvSpPr>
            <p:spPr>
              <a:xfrm>
                <a:off x="2314800" y="3368520"/>
                <a:ext cx="305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guri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7" name=""/>
              <p:cNvSpPr/>
              <p:nvPr/>
            </p:nvSpPr>
            <p:spPr>
              <a:xfrm>
                <a:off x="2601360" y="33685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8" name=""/>
              <p:cNvSpPr/>
              <p:nvPr/>
            </p:nvSpPr>
            <p:spPr>
              <a:xfrm>
                <a:off x="3181320" y="3368520"/>
                <a:ext cx="198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0,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9" name=""/>
              <p:cNvSpPr/>
              <p:nvPr/>
            </p:nvSpPr>
            <p:spPr>
              <a:xfrm>
                <a:off x="3368160" y="33685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0" name=""/>
              <p:cNvSpPr/>
              <p:nvPr/>
            </p:nvSpPr>
            <p:spPr>
              <a:xfrm>
                <a:off x="3931920" y="3368520"/>
                <a:ext cx="198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7,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1" name=""/>
              <p:cNvSpPr/>
              <p:nvPr/>
            </p:nvSpPr>
            <p:spPr>
              <a:xfrm>
                <a:off x="4118760" y="33685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2" name=""/>
              <p:cNvSpPr/>
              <p:nvPr/>
            </p:nvSpPr>
            <p:spPr>
              <a:xfrm>
                <a:off x="4790880" y="3368520"/>
                <a:ext cx="198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2,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3" name=""/>
              <p:cNvSpPr/>
              <p:nvPr/>
            </p:nvSpPr>
            <p:spPr>
              <a:xfrm>
                <a:off x="4977720" y="33685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4" name=""/>
              <p:cNvSpPr/>
              <p:nvPr/>
            </p:nvSpPr>
            <p:spPr>
              <a:xfrm>
                <a:off x="5649840" y="3368520"/>
                <a:ext cx="14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,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5" name=""/>
              <p:cNvSpPr/>
              <p:nvPr/>
            </p:nvSpPr>
            <p:spPr>
              <a:xfrm>
                <a:off x="5784120" y="33685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6" name=""/>
              <p:cNvSpPr/>
              <p:nvPr/>
            </p:nvSpPr>
            <p:spPr>
              <a:xfrm>
                <a:off x="2062080" y="3359160"/>
                <a:ext cx="8668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7" name=""/>
              <p:cNvSpPr/>
              <p:nvPr/>
            </p:nvSpPr>
            <p:spPr>
              <a:xfrm>
                <a:off x="2928960" y="33591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8" name=""/>
              <p:cNvSpPr/>
              <p:nvPr/>
            </p:nvSpPr>
            <p:spPr>
              <a:xfrm>
                <a:off x="2928960" y="33591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9" name=""/>
              <p:cNvSpPr/>
              <p:nvPr/>
            </p:nvSpPr>
            <p:spPr>
              <a:xfrm>
                <a:off x="2062080" y="3573360"/>
                <a:ext cx="8668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0" name=""/>
              <p:cNvSpPr/>
              <p:nvPr/>
            </p:nvSpPr>
            <p:spPr>
              <a:xfrm>
                <a:off x="2928960" y="35733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1" name=""/>
              <p:cNvSpPr/>
              <p:nvPr/>
            </p:nvSpPr>
            <p:spPr>
              <a:xfrm>
                <a:off x="2928960" y="35733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2" name=""/>
              <p:cNvSpPr/>
              <p:nvPr/>
            </p:nvSpPr>
            <p:spPr>
              <a:xfrm>
                <a:off x="2062080" y="3367080"/>
                <a:ext cx="1764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3" name=""/>
              <p:cNvSpPr/>
              <p:nvPr/>
            </p:nvSpPr>
            <p:spPr>
              <a:xfrm>
                <a:off x="2928960" y="3367080"/>
                <a:ext cx="792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4" name=""/>
              <p:cNvSpPr/>
              <p:nvPr/>
            </p:nvSpPr>
            <p:spPr>
              <a:xfrm>
                <a:off x="2936880" y="33591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5" name=""/>
              <p:cNvSpPr/>
              <p:nvPr/>
            </p:nvSpPr>
            <p:spPr>
              <a:xfrm>
                <a:off x="2936880" y="33591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6" name=""/>
              <p:cNvSpPr/>
              <p:nvPr/>
            </p:nvSpPr>
            <p:spPr>
              <a:xfrm>
                <a:off x="2946240" y="3359160"/>
                <a:ext cx="7336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7" name=""/>
              <p:cNvSpPr/>
              <p:nvPr/>
            </p:nvSpPr>
            <p:spPr>
              <a:xfrm>
                <a:off x="3679920" y="33591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8" name=""/>
              <p:cNvSpPr/>
              <p:nvPr/>
            </p:nvSpPr>
            <p:spPr>
              <a:xfrm>
                <a:off x="3679920" y="33591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9" name=""/>
              <p:cNvSpPr/>
              <p:nvPr/>
            </p:nvSpPr>
            <p:spPr>
              <a:xfrm>
                <a:off x="2936880" y="35733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0" name=""/>
              <p:cNvSpPr/>
              <p:nvPr/>
            </p:nvSpPr>
            <p:spPr>
              <a:xfrm>
                <a:off x="2936880" y="35733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1" name=""/>
              <p:cNvSpPr/>
              <p:nvPr/>
            </p:nvSpPr>
            <p:spPr>
              <a:xfrm>
                <a:off x="2946240" y="3573360"/>
                <a:ext cx="7336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2" name=""/>
              <p:cNvSpPr/>
              <p:nvPr/>
            </p:nvSpPr>
            <p:spPr>
              <a:xfrm>
                <a:off x="3679920" y="35733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3" name=""/>
              <p:cNvSpPr/>
              <p:nvPr/>
            </p:nvSpPr>
            <p:spPr>
              <a:xfrm>
                <a:off x="3679920" y="35733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4" name=""/>
              <p:cNvSpPr/>
              <p:nvPr/>
            </p:nvSpPr>
            <p:spPr>
              <a:xfrm>
                <a:off x="2936880" y="3367080"/>
                <a:ext cx="936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5" name=""/>
              <p:cNvSpPr/>
              <p:nvPr/>
            </p:nvSpPr>
            <p:spPr>
              <a:xfrm>
                <a:off x="3679920" y="3367080"/>
                <a:ext cx="936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6" name=""/>
              <p:cNvSpPr/>
              <p:nvPr/>
            </p:nvSpPr>
            <p:spPr>
              <a:xfrm>
                <a:off x="3689280" y="33591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7" name=""/>
              <p:cNvSpPr/>
              <p:nvPr/>
            </p:nvSpPr>
            <p:spPr>
              <a:xfrm>
                <a:off x="3689280" y="33591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8" name=""/>
              <p:cNvSpPr/>
              <p:nvPr/>
            </p:nvSpPr>
            <p:spPr>
              <a:xfrm>
                <a:off x="3697200" y="3359160"/>
                <a:ext cx="841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9" name=""/>
              <p:cNvSpPr/>
              <p:nvPr/>
            </p:nvSpPr>
            <p:spPr>
              <a:xfrm>
                <a:off x="4538520" y="33591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0" name=""/>
              <p:cNvSpPr/>
              <p:nvPr/>
            </p:nvSpPr>
            <p:spPr>
              <a:xfrm>
                <a:off x="4538520" y="33591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1" name=""/>
              <p:cNvSpPr/>
              <p:nvPr/>
            </p:nvSpPr>
            <p:spPr>
              <a:xfrm>
                <a:off x="3689280" y="35733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2" name=""/>
              <p:cNvSpPr/>
              <p:nvPr/>
            </p:nvSpPr>
            <p:spPr>
              <a:xfrm>
                <a:off x="3689280" y="35733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3" name=""/>
              <p:cNvSpPr/>
              <p:nvPr/>
            </p:nvSpPr>
            <p:spPr>
              <a:xfrm>
                <a:off x="3697200" y="3573360"/>
                <a:ext cx="841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4" name=""/>
              <p:cNvSpPr/>
              <p:nvPr/>
            </p:nvSpPr>
            <p:spPr>
              <a:xfrm>
                <a:off x="4538520" y="35733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5" name=""/>
              <p:cNvSpPr/>
              <p:nvPr/>
            </p:nvSpPr>
            <p:spPr>
              <a:xfrm>
                <a:off x="4538520" y="35733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6" name=""/>
              <p:cNvSpPr/>
              <p:nvPr/>
            </p:nvSpPr>
            <p:spPr>
              <a:xfrm>
                <a:off x="3689280" y="3367080"/>
                <a:ext cx="792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7" name=""/>
              <p:cNvSpPr/>
              <p:nvPr/>
            </p:nvSpPr>
            <p:spPr>
              <a:xfrm>
                <a:off x="4538520" y="3367080"/>
                <a:ext cx="792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8" name=""/>
              <p:cNvSpPr/>
              <p:nvPr/>
            </p:nvSpPr>
            <p:spPr>
              <a:xfrm>
                <a:off x="4546440" y="335916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9" name=""/>
              <p:cNvSpPr/>
              <p:nvPr/>
            </p:nvSpPr>
            <p:spPr>
              <a:xfrm>
                <a:off x="4546440" y="335916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0" name=""/>
              <p:cNvSpPr/>
              <p:nvPr/>
            </p:nvSpPr>
            <p:spPr>
              <a:xfrm>
                <a:off x="4556160" y="3359160"/>
                <a:ext cx="841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1" name=""/>
              <p:cNvSpPr/>
              <p:nvPr/>
            </p:nvSpPr>
            <p:spPr>
              <a:xfrm>
                <a:off x="5397480" y="33591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2" name=""/>
              <p:cNvSpPr/>
              <p:nvPr/>
            </p:nvSpPr>
            <p:spPr>
              <a:xfrm>
                <a:off x="5397480" y="33591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3" name=""/>
              <p:cNvSpPr/>
              <p:nvPr/>
            </p:nvSpPr>
            <p:spPr>
              <a:xfrm>
                <a:off x="4546440" y="357336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4" name=""/>
              <p:cNvSpPr/>
              <p:nvPr/>
            </p:nvSpPr>
            <p:spPr>
              <a:xfrm>
                <a:off x="4546440" y="357336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5" name=""/>
              <p:cNvSpPr/>
              <p:nvPr/>
            </p:nvSpPr>
            <p:spPr>
              <a:xfrm>
                <a:off x="4556160" y="3573360"/>
                <a:ext cx="841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6" name=""/>
              <p:cNvSpPr/>
              <p:nvPr/>
            </p:nvSpPr>
            <p:spPr>
              <a:xfrm>
                <a:off x="5397480" y="35733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7" name=""/>
              <p:cNvSpPr/>
              <p:nvPr/>
            </p:nvSpPr>
            <p:spPr>
              <a:xfrm>
                <a:off x="5397480" y="35733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8" name=""/>
              <p:cNvSpPr/>
              <p:nvPr/>
            </p:nvSpPr>
            <p:spPr>
              <a:xfrm>
                <a:off x="4546440" y="3367080"/>
                <a:ext cx="972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9" name=""/>
              <p:cNvSpPr/>
              <p:nvPr/>
            </p:nvSpPr>
            <p:spPr>
              <a:xfrm>
                <a:off x="5397480" y="3367080"/>
                <a:ext cx="792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0" name=""/>
              <p:cNvSpPr/>
              <p:nvPr/>
            </p:nvSpPr>
            <p:spPr>
              <a:xfrm>
                <a:off x="5405400" y="335916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1" name=""/>
              <p:cNvSpPr/>
              <p:nvPr/>
            </p:nvSpPr>
            <p:spPr>
              <a:xfrm>
                <a:off x="5405400" y="335916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2" name=""/>
              <p:cNvSpPr/>
              <p:nvPr/>
            </p:nvSpPr>
            <p:spPr>
              <a:xfrm>
                <a:off x="5415120" y="3359160"/>
                <a:ext cx="6174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3" name=""/>
              <p:cNvSpPr/>
              <p:nvPr/>
            </p:nvSpPr>
            <p:spPr>
              <a:xfrm>
                <a:off x="6032520" y="3359160"/>
                <a:ext cx="17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4" name=""/>
              <p:cNvSpPr/>
              <p:nvPr/>
            </p:nvSpPr>
            <p:spPr>
              <a:xfrm>
                <a:off x="5405400" y="357336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5" name=""/>
              <p:cNvSpPr/>
              <p:nvPr/>
            </p:nvSpPr>
            <p:spPr>
              <a:xfrm>
                <a:off x="5405400" y="357336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6" name=""/>
              <p:cNvSpPr/>
              <p:nvPr/>
            </p:nvSpPr>
            <p:spPr>
              <a:xfrm>
                <a:off x="5415120" y="3573360"/>
                <a:ext cx="6174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7" name=""/>
              <p:cNvSpPr/>
              <p:nvPr/>
            </p:nvSpPr>
            <p:spPr>
              <a:xfrm>
                <a:off x="6032520" y="3573360"/>
                <a:ext cx="17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8" name=""/>
              <p:cNvSpPr/>
              <p:nvPr/>
            </p:nvSpPr>
            <p:spPr>
              <a:xfrm>
                <a:off x="5405400" y="3367080"/>
                <a:ext cx="972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9" name=""/>
              <p:cNvSpPr/>
              <p:nvPr/>
            </p:nvSpPr>
            <p:spPr>
              <a:xfrm>
                <a:off x="6032520" y="3367080"/>
                <a:ext cx="1728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0" name=""/>
              <p:cNvSpPr/>
              <p:nvPr/>
            </p:nvSpPr>
            <p:spPr>
              <a:xfrm>
                <a:off x="2314440" y="3592440"/>
                <a:ext cx="279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mili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1" name=""/>
              <p:cNvSpPr/>
              <p:nvPr/>
            </p:nvSpPr>
            <p:spPr>
              <a:xfrm>
                <a:off x="2575800" y="35924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2" name=""/>
              <p:cNvSpPr/>
              <p:nvPr/>
            </p:nvSpPr>
            <p:spPr>
              <a:xfrm>
                <a:off x="3181320" y="3592440"/>
                <a:ext cx="198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7,7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3" name=""/>
              <p:cNvSpPr/>
              <p:nvPr/>
            </p:nvSpPr>
            <p:spPr>
              <a:xfrm>
                <a:off x="3368160" y="35924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4" name=""/>
              <p:cNvSpPr/>
              <p:nvPr/>
            </p:nvSpPr>
            <p:spPr>
              <a:xfrm>
                <a:off x="3931920" y="3592440"/>
                <a:ext cx="198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7,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5" name=""/>
              <p:cNvSpPr/>
              <p:nvPr/>
            </p:nvSpPr>
            <p:spPr>
              <a:xfrm>
                <a:off x="4118760" y="35924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6" name=""/>
              <p:cNvSpPr/>
              <p:nvPr/>
            </p:nvSpPr>
            <p:spPr>
              <a:xfrm>
                <a:off x="4790880" y="3592440"/>
                <a:ext cx="198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9,7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7" name=""/>
              <p:cNvSpPr/>
              <p:nvPr/>
            </p:nvSpPr>
            <p:spPr>
              <a:xfrm>
                <a:off x="4977720" y="35924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8" name=""/>
              <p:cNvSpPr/>
              <p:nvPr/>
            </p:nvSpPr>
            <p:spPr>
              <a:xfrm>
                <a:off x="5649840" y="3592440"/>
                <a:ext cx="14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,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9" name=""/>
              <p:cNvSpPr/>
              <p:nvPr/>
            </p:nvSpPr>
            <p:spPr>
              <a:xfrm>
                <a:off x="5784120" y="35924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0" name=""/>
              <p:cNvSpPr/>
              <p:nvPr/>
            </p:nvSpPr>
            <p:spPr>
              <a:xfrm>
                <a:off x="2062080" y="3581280"/>
                <a:ext cx="8668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1" name=""/>
              <p:cNvSpPr/>
              <p:nvPr/>
            </p:nvSpPr>
            <p:spPr>
              <a:xfrm>
                <a:off x="2928960" y="358128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2" name=""/>
              <p:cNvSpPr/>
              <p:nvPr/>
            </p:nvSpPr>
            <p:spPr>
              <a:xfrm>
                <a:off x="2928960" y="358128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3" name=""/>
              <p:cNvSpPr/>
              <p:nvPr/>
            </p:nvSpPr>
            <p:spPr>
              <a:xfrm>
                <a:off x="2062080" y="3797280"/>
                <a:ext cx="8668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4" name=""/>
              <p:cNvSpPr/>
              <p:nvPr/>
            </p:nvSpPr>
            <p:spPr>
              <a:xfrm>
                <a:off x="2928960" y="37972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5" name=""/>
              <p:cNvSpPr/>
              <p:nvPr/>
            </p:nvSpPr>
            <p:spPr>
              <a:xfrm>
                <a:off x="2928960" y="37972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6" name=""/>
              <p:cNvSpPr/>
              <p:nvPr/>
            </p:nvSpPr>
            <p:spPr>
              <a:xfrm>
                <a:off x="2062080" y="3591000"/>
                <a:ext cx="1764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7" name=""/>
              <p:cNvSpPr/>
              <p:nvPr/>
            </p:nvSpPr>
            <p:spPr>
              <a:xfrm>
                <a:off x="2928960" y="3591000"/>
                <a:ext cx="792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8" name=""/>
              <p:cNvSpPr/>
              <p:nvPr/>
            </p:nvSpPr>
            <p:spPr>
              <a:xfrm>
                <a:off x="2936880" y="358128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9" name=""/>
              <p:cNvSpPr/>
              <p:nvPr/>
            </p:nvSpPr>
            <p:spPr>
              <a:xfrm>
                <a:off x="2936880" y="358128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0" name=""/>
              <p:cNvSpPr/>
              <p:nvPr/>
            </p:nvSpPr>
            <p:spPr>
              <a:xfrm>
                <a:off x="2946240" y="3581280"/>
                <a:ext cx="7336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1" name=""/>
              <p:cNvSpPr/>
              <p:nvPr/>
            </p:nvSpPr>
            <p:spPr>
              <a:xfrm>
                <a:off x="3679920" y="358128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2" name=""/>
              <p:cNvSpPr/>
              <p:nvPr/>
            </p:nvSpPr>
            <p:spPr>
              <a:xfrm>
                <a:off x="3679920" y="358128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3" name=""/>
              <p:cNvSpPr/>
              <p:nvPr/>
            </p:nvSpPr>
            <p:spPr>
              <a:xfrm>
                <a:off x="2936880" y="37972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4" name=""/>
              <p:cNvSpPr/>
              <p:nvPr/>
            </p:nvSpPr>
            <p:spPr>
              <a:xfrm>
                <a:off x="2936880" y="37972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5" name=""/>
              <p:cNvSpPr/>
              <p:nvPr/>
            </p:nvSpPr>
            <p:spPr>
              <a:xfrm>
                <a:off x="2946240" y="3797280"/>
                <a:ext cx="7336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6" name=""/>
              <p:cNvSpPr/>
              <p:nvPr/>
            </p:nvSpPr>
            <p:spPr>
              <a:xfrm>
                <a:off x="3679920" y="37972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7" name=""/>
              <p:cNvSpPr/>
              <p:nvPr/>
            </p:nvSpPr>
            <p:spPr>
              <a:xfrm>
                <a:off x="3679920" y="37972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8" name=""/>
              <p:cNvSpPr/>
              <p:nvPr/>
            </p:nvSpPr>
            <p:spPr>
              <a:xfrm>
                <a:off x="2936880" y="3591000"/>
                <a:ext cx="936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9" name=""/>
              <p:cNvSpPr/>
              <p:nvPr/>
            </p:nvSpPr>
            <p:spPr>
              <a:xfrm>
                <a:off x="3679920" y="3591000"/>
                <a:ext cx="936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0" name=""/>
              <p:cNvSpPr/>
              <p:nvPr/>
            </p:nvSpPr>
            <p:spPr>
              <a:xfrm>
                <a:off x="3689280" y="358128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1" name=""/>
              <p:cNvSpPr/>
              <p:nvPr/>
            </p:nvSpPr>
            <p:spPr>
              <a:xfrm>
                <a:off x="3689280" y="358128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2" name=""/>
              <p:cNvSpPr/>
              <p:nvPr/>
            </p:nvSpPr>
            <p:spPr>
              <a:xfrm>
                <a:off x="3697200" y="3581280"/>
                <a:ext cx="8413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3" name=""/>
              <p:cNvSpPr/>
              <p:nvPr/>
            </p:nvSpPr>
            <p:spPr>
              <a:xfrm>
                <a:off x="4538520" y="358128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4" name=""/>
            <p:cNvGrpSpPr/>
            <p:nvPr/>
          </p:nvGrpSpPr>
          <p:grpSpPr>
            <a:xfrm>
              <a:off x="2062080" y="3581280"/>
              <a:ext cx="3987720" cy="895320"/>
              <a:chOff x="2062080" y="3581280"/>
              <a:chExt cx="3987720" cy="895320"/>
            </a:xfrm>
          </p:grpSpPr>
          <p:sp>
            <p:nvSpPr>
              <p:cNvPr id="3335" name=""/>
              <p:cNvSpPr/>
              <p:nvPr/>
            </p:nvSpPr>
            <p:spPr>
              <a:xfrm>
                <a:off x="4538520" y="358128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6" name=""/>
              <p:cNvSpPr/>
              <p:nvPr/>
            </p:nvSpPr>
            <p:spPr>
              <a:xfrm>
                <a:off x="3689280" y="37972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7" name=""/>
              <p:cNvSpPr/>
              <p:nvPr/>
            </p:nvSpPr>
            <p:spPr>
              <a:xfrm>
                <a:off x="3689280" y="37972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8" name=""/>
              <p:cNvSpPr/>
              <p:nvPr/>
            </p:nvSpPr>
            <p:spPr>
              <a:xfrm>
                <a:off x="3697200" y="3797280"/>
                <a:ext cx="841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9" name=""/>
              <p:cNvSpPr/>
              <p:nvPr/>
            </p:nvSpPr>
            <p:spPr>
              <a:xfrm>
                <a:off x="4538520" y="37972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0" name=""/>
              <p:cNvSpPr/>
              <p:nvPr/>
            </p:nvSpPr>
            <p:spPr>
              <a:xfrm>
                <a:off x="4538520" y="37972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1" name=""/>
              <p:cNvSpPr/>
              <p:nvPr/>
            </p:nvSpPr>
            <p:spPr>
              <a:xfrm>
                <a:off x="3689280" y="3591000"/>
                <a:ext cx="792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2" name=""/>
              <p:cNvSpPr/>
              <p:nvPr/>
            </p:nvSpPr>
            <p:spPr>
              <a:xfrm>
                <a:off x="4538520" y="3591000"/>
                <a:ext cx="792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3" name=""/>
              <p:cNvSpPr/>
              <p:nvPr/>
            </p:nvSpPr>
            <p:spPr>
              <a:xfrm>
                <a:off x="4546440" y="358128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4" name=""/>
              <p:cNvSpPr/>
              <p:nvPr/>
            </p:nvSpPr>
            <p:spPr>
              <a:xfrm>
                <a:off x="4546440" y="358128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5" name=""/>
              <p:cNvSpPr/>
              <p:nvPr/>
            </p:nvSpPr>
            <p:spPr>
              <a:xfrm>
                <a:off x="4556160" y="3581280"/>
                <a:ext cx="8413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6" name=""/>
              <p:cNvSpPr/>
              <p:nvPr/>
            </p:nvSpPr>
            <p:spPr>
              <a:xfrm>
                <a:off x="5397480" y="358128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7" name=""/>
              <p:cNvSpPr/>
              <p:nvPr/>
            </p:nvSpPr>
            <p:spPr>
              <a:xfrm>
                <a:off x="5397480" y="358128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8" name=""/>
              <p:cNvSpPr/>
              <p:nvPr/>
            </p:nvSpPr>
            <p:spPr>
              <a:xfrm>
                <a:off x="4546440" y="379728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9" name=""/>
              <p:cNvSpPr/>
              <p:nvPr/>
            </p:nvSpPr>
            <p:spPr>
              <a:xfrm>
                <a:off x="4546440" y="379728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0" name=""/>
              <p:cNvSpPr/>
              <p:nvPr/>
            </p:nvSpPr>
            <p:spPr>
              <a:xfrm>
                <a:off x="4556160" y="3797280"/>
                <a:ext cx="841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1" name=""/>
              <p:cNvSpPr/>
              <p:nvPr/>
            </p:nvSpPr>
            <p:spPr>
              <a:xfrm>
                <a:off x="5397480" y="37972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2" name=""/>
              <p:cNvSpPr/>
              <p:nvPr/>
            </p:nvSpPr>
            <p:spPr>
              <a:xfrm>
                <a:off x="5397480" y="37972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3" name=""/>
              <p:cNvSpPr/>
              <p:nvPr/>
            </p:nvSpPr>
            <p:spPr>
              <a:xfrm>
                <a:off x="4546440" y="3591000"/>
                <a:ext cx="972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4" name=""/>
              <p:cNvSpPr/>
              <p:nvPr/>
            </p:nvSpPr>
            <p:spPr>
              <a:xfrm>
                <a:off x="5397480" y="3591000"/>
                <a:ext cx="792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5" name=""/>
              <p:cNvSpPr/>
              <p:nvPr/>
            </p:nvSpPr>
            <p:spPr>
              <a:xfrm>
                <a:off x="5405400" y="358128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6" name=""/>
              <p:cNvSpPr/>
              <p:nvPr/>
            </p:nvSpPr>
            <p:spPr>
              <a:xfrm>
                <a:off x="5405400" y="358128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7" name=""/>
              <p:cNvSpPr/>
              <p:nvPr/>
            </p:nvSpPr>
            <p:spPr>
              <a:xfrm>
                <a:off x="5415120" y="3581280"/>
                <a:ext cx="617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8" name=""/>
              <p:cNvSpPr/>
              <p:nvPr/>
            </p:nvSpPr>
            <p:spPr>
              <a:xfrm>
                <a:off x="6032520" y="358128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9" name=""/>
              <p:cNvSpPr/>
              <p:nvPr/>
            </p:nvSpPr>
            <p:spPr>
              <a:xfrm>
                <a:off x="5405400" y="379728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0" name=""/>
              <p:cNvSpPr/>
              <p:nvPr/>
            </p:nvSpPr>
            <p:spPr>
              <a:xfrm>
                <a:off x="5405400" y="379728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1" name=""/>
              <p:cNvSpPr/>
              <p:nvPr/>
            </p:nvSpPr>
            <p:spPr>
              <a:xfrm>
                <a:off x="5415120" y="3797280"/>
                <a:ext cx="6174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2" name=""/>
              <p:cNvSpPr/>
              <p:nvPr/>
            </p:nvSpPr>
            <p:spPr>
              <a:xfrm>
                <a:off x="6032520" y="3797280"/>
                <a:ext cx="17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3" name=""/>
              <p:cNvSpPr/>
              <p:nvPr/>
            </p:nvSpPr>
            <p:spPr>
              <a:xfrm>
                <a:off x="5405400" y="3591000"/>
                <a:ext cx="972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4" name=""/>
              <p:cNvSpPr/>
              <p:nvPr/>
            </p:nvSpPr>
            <p:spPr>
              <a:xfrm>
                <a:off x="6032520" y="3591000"/>
                <a:ext cx="1728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5" name=""/>
              <p:cNvSpPr/>
              <p:nvPr/>
            </p:nvSpPr>
            <p:spPr>
              <a:xfrm>
                <a:off x="2313360" y="3814920"/>
                <a:ext cx="392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oscan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6" name=""/>
              <p:cNvSpPr/>
              <p:nvPr/>
            </p:nvSpPr>
            <p:spPr>
              <a:xfrm>
                <a:off x="2680560" y="38149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7" name=""/>
              <p:cNvSpPr/>
              <p:nvPr/>
            </p:nvSpPr>
            <p:spPr>
              <a:xfrm>
                <a:off x="3181320" y="3814920"/>
                <a:ext cx="198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63,8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8" name=""/>
              <p:cNvSpPr/>
              <p:nvPr/>
            </p:nvSpPr>
            <p:spPr>
              <a:xfrm>
                <a:off x="3368160" y="38149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9" name=""/>
              <p:cNvSpPr/>
              <p:nvPr/>
            </p:nvSpPr>
            <p:spPr>
              <a:xfrm>
                <a:off x="3931920" y="3814920"/>
                <a:ext cx="198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2,7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0" name=""/>
              <p:cNvSpPr/>
              <p:nvPr/>
            </p:nvSpPr>
            <p:spPr>
              <a:xfrm>
                <a:off x="4118760" y="38149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1" name=""/>
              <p:cNvSpPr/>
              <p:nvPr/>
            </p:nvSpPr>
            <p:spPr>
              <a:xfrm>
                <a:off x="4790880" y="3814920"/>
                <a:ext cx="198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0,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2" name=""/>
              <p:cNvSpPr/>
              <p:nvPr/>
            </p:nvSpPr>
            <p:spPr>
              <a:xfrm>
                <a:off x="4977720" y="38149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3" name=""/>
              <p:cNvSpPr/>
              <p:nvPr/>
            </p:nvSpPr>
            <p:spPr>
              <a:xfrm>
                <a:off x="5649840" y="3814920"/>
                <a:ext cx="14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,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4" name=""/>
              <p:cNvSpPr/>
              <p:nvPr/>
            </p:nvSpPr>
            <p:spPr>
              <a:xfrm>
                <a:off x="5784120" y="38149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5" name=""/>
              <p:cNvSpPr/>
              <p:nvPr/>
            </p:nvSpPr>
            <p:spPr>
              <a:xfrm>
                <a:off x="2062080" y="3805200"/>
                <a:ext cx="8668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6" name=""/>
              <p:cNvSpPr/>
              <p:nvPr/>
            </p:nvSpPr>
            <p:spPr>
              <a:xfrm>
                <a:off x="2928960" y="38052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7" name=""/>
              <p:cNvSpPr/>
              <p:nvPr/>
            </p:nvSpPr>
            <p:spPr>
              <a:xfrm>
                <a:off x="2928960" y="38052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8" name=""/>
              <p:cNvSpPr/>
              <p:nvPr/>
            </p:nvSpPr>
            <p:spPr>
              <a:xfrm>
                <a:off x="2062080" y="4021200"/>
                <a:ext cx="8668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9" name=""/>
              <p:cNvSpPr/>
              <p:nvPr/>
            </p:nvSpPr>
            <p:spPr>
              <a:xfrm>
                <a:off x="2928960" y="402120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0" name=""/>
              <p:cNvSpPr/>
              <p:nvPr/>
            </p:nvSpPr>
            <p:spPr>
              <a:xfrm>
                <a:off x="2928960" y="402120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1" name=""/>
              <p:cNvSpPr/>
              <p:nvPr/>
            </p:nvSpPr>
            <p:spPr>
              <a:xfrm>
                <a:off x="2062080" y="3813120"/>
                <a:ext cx="17640" cy="208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2" name=""/>
              <p:cNvSpPr/>
              <p:nvPr/>
            </p:nvSpPr>
            <p:spPr>
              <a:xfrm>
                <a:off x="2928960" y="3813120"/>
                <a:ext cx="7920" cy="208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3" name=""/>
              <p:cNvSpPr/>
              <p:nvPr/>
            </p:nvSpPr>
            <p:spPr>
              <a:xfrm>
                <a:off x="2936880" y="38052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4" name=""/>
              <p:cNvSpPr/>
              <p:nvPr/>
            </p:nvSpPr>
            <p:spPr>
              <a:xfrm>
                <a:off x="2936880" y="38052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5" name=""/>
              <p:cNvSpPr/>
              <p:nvPr/>
            </p:nvSpPr>
            <p:spPr>
              <a:xfrm>
                <a:off x="2946240" y="3805200"/>
                <a:ext cx="7336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6" name=""/>
              <p:cNvSpPr/>
              <p:nvPr/>
            </p:nvSpPr>
            <p:spPr>
              <a:xfrm>
                <a:off x="3679920" y="38052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7" name=""/>
              <p:cNvSpPr/>
              <p:nvPr/>
            </p:nvSpPr>
            <p:spPr>
              <a:xfrm>
                <a:off x="3679920" y="38052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8" name=""/>
              <p:cNvSpPr/>
              <p:nvPr/>
            </p:nvSpPr>
            <p:spPr>
              <a:xfrm>
                <a:off x="2936880" y="402120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9" name=""/>
              <p:cNvSpPr/>
              <p:nvPr/>
            </p:nvSpPr>
            <p:spPr>
              <a:xfrm>
                <a:off x="2936880" y="402120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0" name=""/>
              <p:cNvSpPr/>
              <p:nvPr/>
            </p:nvSpPr>
            <p:spPr>
              <a:xfrm>
                <a:off x="2946240" y="4021200"/>
                <a:ext cx="7336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1" name=""/>
              <p:cNvSpPr/>
              <p:nvPr/>
            </p:nvSpPr>
            <p:spPr>
              <a:xfrm>
                <a:off x="3679920" y="402120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2" name=""/>
              <p:cNvSpPr/>
              <p:nvPr/>
            </p:nvSpPr>
            <p:spPr>
              <a:xfrm>
                <a:off x="3679920" y="402120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3" name=""/>
              <p:cNvSpPr/>
              <p:nvPr/>
            </p:nvSpPr>
            <p:spPr>
              <a:xfrm>
                <a:off x="2936880" y="3813120"/>
                <a:ext cx="9360" cy="208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4" name=""/>
              <p:cNvSpPr/>
              <p:nvPr/>
            </p:nvSpPr>
            <p:spPr>
              <a:xfrm>
                <a:off x="3679920" y="3813120"/>
                <a:ext cx="9360" cy="208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5" name=""/>
              <p:cNvSpPr/>
              <p:nvPr/>
            </p:nvSpPr>
            <p:spPr>
              <a:xfrm>
                <a:off x="3689280" y="38052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6" name=""/>
              <p:cNvSpPr/>
              <p:nvPr/>
            </p:nvSpPr>
            <p:spPr>
              <a:xfrm>
                <a:off x="3689280" y="38052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7" name=""/>
              <p:cNvSpPr/>
              <p:nvPr/>
            </p:nvSpPr>
            <p:spPr>
              <a:xfrm>
                <a:off x="3697200" y="3805200"/>
                <a:ext cx="841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8" name=""/>
              <p:cNvSpPr/>
              <p:nvPr/>
            </p:nvSpPr>
            <p:spPr>
              <a:xfrm>
                <a:off x="4538520" y="38052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9" name=""/>
              <p:cNvSpPr/>
              <p:nvPr/>
            </p:nvSpPr>
            <p:spPr>
              <a:xfrm>
                <a:off x="4538520" y="38052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0" name=""/>
              <p:cNvSpPr/>
              <p:nvPr/>
            </p:nvSpPr>
            <p:spPr>
              <a:xfrm>
                <a:off x="3689280" y="402120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1" name=""/>
              <p:cNvSpPr/>
              <p:nvPr/>
            </p:nvSpPr>
            <p:spPr>
              <a:xfrm>
                <a:off x="3689280" y="402120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2" name=""/>
              <p:cNvSpPr/>
              <p:nvPr/>
            </p:nvSpPr>
            <p:spPr>
              <a:xfrm>
                <a:off x="3697200" y="4021200"/>
                <a:ext cx="8413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3" name=""/>
              <p:cNvSpPr/>
              <p:nvPr/>
            </p:nvSpPr>
            <p:spPr>
              <a:xfrm>
                <a:off x="4538520" y="402120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4" name=""/>
              <p:cNvSpPr/>
              <p:nvPr/>
            </p:nvSpPr>
            <p:spPr>
              <a:xfrm>
                <a:off x="4538520" y="402120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5" name=""/>
              <p:cNvSpPr/>
              <p:nvPr/>
            </p:nvSpPr>
            <p:spPr>
              <a:xfrm>
                <a:off x="3689280" y="3813120"/>
                <a:ext cx="7920" cy="208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6" name=""/>
              <p:cNvSpPr/>
              <p:nvPr/>
            </p:nvSpPr>
            <p:spPr>
              <a:xfrm>
                <a:off x="4538520" y="3813120"/>
                <a:ext cx="7920" cy="208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7" name=""/>
              <p:cNvSpPr/>
              <p:nvPr/>
            </p:nvSpPr>
            <p:spPr>
              <a:xfrm>
                <a:off x="4546440" y="380520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8" name=""/>
              <p:cNvSpPr/>
              <p:nvPr/>
            </p:nvSpPr>
            <p:spPr>
              <a:xfrm>
                <a:off x="4546440" y="380520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9" name=""/>
              <p:cNvSpPr/>
              <p:nvPr/>
            </p:nvSpPr>
            <p:spPr>
              <a:xfrm>
                <a:off x="4556160" y="3805200"/>
                <a:ext cx="841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0" name=""/>
              <p:cNvSpPr/>
              <p:nvPr/>
            </p:nvSpPr>
            <p:spPr>
              <a:xfrm>
                <a:off x="5397480" y="38052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1" name=""/>
              <p:cNvSpPr/>
              <p:nvPr/>
            </p:nvSpPr>
            <p:spPr>
              <a:xfrm>
                <a:off x="5397480" y="38052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2" name=""/>
              <p:cNvSpPr/>
              <p:nvPr/>
            </p:nvSpPr>
            <p:spPr>
              <a:xfrm>
                <a:off x="4546440" y="402120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3" name=""/>
              <p:cNvSpPr/>
              <p:nvPr/>
            </p:nvSpPr>
            <p:spPr>
              <a:xfrm>
                <a:off x="4546440" y="402120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4" name=""/>
              <p:cNvSpPr/>
              <p:nvPr/>
            </p:nvSpPr>
            <p:spPr>
              <a:xfrm>
                <a:off x="4556160" y="4021200"/>
                <a:ext cx="8413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5" name=""/>
              <p:cNvSpPr/>
              <p:nvPr/>
            </p:nvSpPr>
            <p:spPr>
              <a:xfrm>
                <a:off x="5397480" y="402120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6" name=""/>
              <p:cNvSpPr/>
              <p:nvPr/>
            </p:nvSpPr>
            <p:spPr>
              <a:xfrm>
                <a:off x="5397480" y="402120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7" name=""/>
              <p:cNvSpPr/>
              <p:nvPr/>
            </p:nvSpPr>
            <p:spPr>
              <a:xfrm>
                <a:off x="4546440" y="3813120"/>
                <a:ext cx="9720" cy="208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8" name=""/>
              <p:cNvSpPr/>
              <p:nvPr/>
            </p:nvSpPr>
            <p:spPr>
              <a:xfrm>
                <a:off x="5397480" y="3813120"/>
                <a:ext cx="7920" cy="208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9" name=""/>
              <p:cNvSpPr/>
              <p:nvPr/>
            </p:nvSpPr>
            <p:spPr>
              <a:xfrm>
                <a:off x="5405400" y="380520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0" name=""/>
              <p:cNvSpPr/>
              <p:nvPr/>
            </p:nvSpPr>
            <p:spPr>
              <a:xfrm>
                <a:off x="5405400" y="380520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1" name=""/>
              <p:cNvSpPr/>
              <p:nvPr/>
            </p:nvSpPr>
            <p:spPr>
              <a:xfrm>
                <a:off x="5415120" y="3805200"/>
                <a:ext cx="6174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2" name=""/>
              <p:cNvSpPr/>
              <p:nvPr/>
            </p:nvSpPr>
            <p:spPr>
              <a:xfrm>
                <a:off x="6032520" y="3805200"/>
                <a:ext cx="17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3" name=""/>
              <p:cNvSpPr/>
              <p:nvPr/>
            </p:nvSpPr>
            <p:spPr>
              <a:xfrm>
                <a:off x="5405400" y="402120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4" name=""/>
              <p:cNvSpPr/>
              <p:nvPr/>
            </p:nvSpPr>
            <p:spPr>
              <a:xfrm>
                <a:off x="5405400" y="402120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5" name=""/>
              <p:cNvSpPr/>
              <p:nvPr/>
            </p:nvSpPr>
            <p:spPr>
              <a:xfrm>
                <a:off x="5415120" y="4021200"/>
                <a:ext cx="617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6" name=""/>
              <p:cNvSpPr/>
              <p:nvPr/>
            </p:nvSpPr>
            <p:spPr>
              <a:xfrm>
                <a:off x="6032520" y="402120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7" name=""/>
              <p:cNvSpPr/>
              <p:nvPr/>
            </p:nvSpPr>
            <p:spPr>
              <a:xfrm>
                <a:off x="5405400" y="3813120"/>
                <a:ext cx="9720" cy="208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8" name=""/>
              <p:cNvSpPr/>
              <p:nvPr/>
            </p:nvSpPr>
            <p:spPr>
              <a:xfrm>
                <a:off x="6032520" y="3813120"/>
                <a:ext cx="17280" cy="208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9" name=""/>
              <p:cNvSpPr/>
              <p:nvPr/>
            </p:nvSpPr>
            <p:spPr>
              <a:xfrm>
                <a:off x="2314800" y="4040280"/>
                <a:ext cx="3283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mbri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0" name=""/>
              <p:cNvSpPr/>
              <p:nvPr/>
            </p:nvSpPr>
            <p:spPr>
              <a:xfrm>
                <a:off x="2623680" y="40402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1" name=""/>
              <p:cNvSpPr/>
              <p:nvPr/>
            </p:nvSpPr>
            <p:spPr>
              <a:xfrm>
                <a:off x="3181320" y="4040280"/>
                <a:ext cx="198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67,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2" name=""/>
              <p:cNvSpPr/>
              <p:nvPr/>
            </p:nvSpPr>
            <p:spPr>
              <a:xfrm>
                <a:off x="3368160" y="40402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3" name=""/>
              <p:cNvSpPr/>
              <p:nvPr/>
            </p:nvSpPr>
            <p:spPr>
              <a:xfrm>
                <a:off x="3931920" y="4040280"/>
                <a:ext cx="198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4,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4" name=""/>
              <p:cNvSpPr/>
              <p:nvPr/>
            </p:nvSpPr>
            <p:spPr>
              <a:xfrm>
                <a:off x="4118760" y="40402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5" name=""/>
              <p:cNvSpPr/>
              <p:nvPr/>
            </p:nvSpPr>
            <p:spPr>
              <a:xfrm>
                <a:off x="4790880" y="4040280"/>
                <a:ext cx="198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1,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6" name=""/>
              <p:cNvSpPr/>
              <p:nvPr/>
            </p:nvSpPr>
            <p:spPr>
              <a:xfrm>
                <a:off x="4977720" y="40402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7" name=""/>
              <p:cNvSpPr/>
              <p:nvPr/>
            </p:nvSpPr>
            <p:spPr>
              <a:xfrm>
                <a:off x="5649840" y="4040280"/>
                <a:ext cx="14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,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8" name=""/>
              <p:cNvSpPr/>
              <p:nvPr/>
            </p:nvSpPr>
            <p:spPr>
              <a:xfrm>
                <a:off x="5784120" y="40402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9" name=""/>
              <p:cNvSpPr/>
              <p:nvPr/>
            </p:nvSpPr>
            <p:spPr>
              <a:xfrm>
                <a:off x="2062080" y="4030560"/>
                <a:ext cx="8668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0" name=""/>
              <p:cNvSpPr/>
              <p:nvPr/>
            </p:nvSpPr>
            <p:spPr>
              <a:xfrm>
                <a:off x="2928960" y="40305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1" name=""/>
              <p:cNvSpPr/>
              <p:nvPr/>
            </p:nvSpPr>
            <p:spPr>
              <a:xfrm>
                <a:off x="2928960" y="40305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2" name=""/>
              <p:cNvSpPr/>
              <p:nvPr/>
            </p:nvSpPr>
            <p:spPr>
              <a:xfrm>
                <a:off x="2062080" y="4245120"/>
                <a:ext cx="8668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3" name=""/>
              <p:cNvSpPr/>
              <p:nvPr/>
            </p:nvSpPr>
            <p:spPr>
              <a:xfrm>
                <a:off x="2928960" y="42451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4" name=""/>
              <p:cNvSpPr/>
              <p:nvPr/>
            </p:nvSpPr>
            <p:spPr>
              <a:xfrm>
                <a:off x="2928960" y="42451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5" name=""/>
              <p:cNvSpPr/>
              <p:nvPr/>
            </p:nvSpPr>
            <p:spPr>
              <a:xfrm>
                <a:off x="2062080" y="4038480"/>
                <a:ext cx="17640" cy="206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6" name=""/>
              <p:cNvSpPr/>
              <p:nvPr/>
            </p:nvSpPr>
            <p:spPr>
              <a:xfrm>
                <a:off x="2928960" y="4038480"/>
                <a:ext cx="7920" cy="206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7" name=""/>
              <p:cNvSpPr/>
              <p:nvPr/>
            </p:nvSpPr>
            <p:spPr>
              <a:xfrm>
                <a:off x="2936880" y="40305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8" name=""/>
              <p:cNvSpPr/>
              <p:nvPr/>
            </p:nvSpPr>
            <p:spPr>
              <a:xfrm>
                <a:off x="2936880" y="40305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9" name=""/>
              <p:cNvSpPr/>
              <p:nvPr/>
            </p:nvSpPr>
            <p:spPr>
              <a:xfrm>
                <a:off x="2946240" y="4030560"/>
                <a:ext cx="7336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0" name=""/>
              <p:cNvSpPr/>
              <p:nvPr/>
            </p:nvSpPr>
            <p:spPr>
              <a:xfrm>
                <a:off x="3679920" y="40305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1" name=""/>
              <p:cNvSpPr/>
              <p:nvPr/>
            </p:nvSpPr>
            <p:spPr>
              <a:xfrm>
                <a:off x="3679920" y="40305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2" name=""/>
              <p:cNvSpPr/>
              <p:nvPr/>
            </p:nvSpPr>
            <p:spPr>
              <a:xfrm>
                <a:off x="2936880" y="42451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3" name=""/>
              <p:cNvSpPr/>
              <p:nvPr/>
            </p:nvSpPr>
            <p:spPr>
              <a:xfrm>
                <a:off x="2936880" y="42451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4" name=""/>
              <p:cNvSpPr/>
              <p:nvPr/>
            </p:nvSpPr>
            <p:spPr>
              <a:xfrm>
                <a:off x="2946240" y="4245120"/>
                <a:ext cx="7336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5" name=""/>
              <p:cNvSpPr/>
              <p:nvPr/>
            </p:nvSpPr>
            <p:spPr>
              <a:xfrm>
                <a:off x="3679920" y="42451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6" name=""/>
              <p:cNvSpPr/>
              <p:nvPr/>
            </p:nvSpPr>
            <p:spPr>
              <a:xfrm>
                <a:off x="3679920" y="42451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7" name=""/>
              <p:cNvSpPr/>
              <p:nvPr/>
            </p:nvSpPr>
            <p:spPr>
              <a:xfrm>
                <a:off x="2936880" y="4038480"/>
                <a:ext cx="9360" cy="206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8" name=""/>
              <p:cNvSpPr/>
              <p:nvPr/>
            </p:nvSpPr>
            <p:spPr>
              <a:xfrm>
                <a:off x="3679920" y="4038480"/>
                <a:ext cx="9360" cy="206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9" name=""/>
              <p:cNvSpPr/>
              <p:nvPr/>
            </p:nvSpPr>
            <p:spPr>
              <a:xfrm>
                <a:off x="3689280" y="40305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0" name=""/>
              <p:cNvSpPr/>
              <p:nvPr/>
            </p:nvSpPr>
            <p:spPr>
              <a:xfrm>
                <a:off x="3689280" y="40305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1" name=""/>
              <p:cNvSpPr/>
              <p:nvPr/>
            </p:nvSpPr>
            <p:spPr>
              <a:xfrm>
                <a:off x="3697200" y="4030560"/>
                <a:ext cx="841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2" name=""/>
              <p:cNvSpPr/>
              <p:nvPr/>
            </p:nvSpPr>
            <p:spPr>
              <a:xfrm>
                <a:off x="4538520" y="40305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3" name=""/>
              <p:cNvSpPr/>
              <p:nvPr/>
            </p:nvSpPr>
            <p:spPr>
              <a:xfrm>
                <a:off x="4538520" y="40305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4" name=""/>
              <p:cNvSpPr/>
              <p:nvPr/>
            </p:nvSpPr>
            <p:spPr>
              <a:xfrm>
                <a:off x="3689280" y="42451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5" name=""/>
              <p:cNvSpPr/>
              <p:nvPr/>
            </p:nvSpPr>
            <p:spPr>
              <a:xfrm>
                <a:off x="3689280" y="42451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6" name=""/>
              <p:cNvSpPr/>
              <p:nvPr/>
            </p:nvSpPr>
            <p:spPr>
              <a:xfrm>
                <a:off x="3697200" y="4245120"/>
                <a:ext cx="841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7" name=""/>
              <p:cNvSpPr/>
              <p:nvPr/>
            </p:nvSpPr>
            <p:spPr>
              <a:xfrm>
                <a:off x="4538520" y="42451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8" name=""/>
              <p:cNvSpPr/>
              <p:nvPr/>
            </p:nvSpPr>
            <p:spPr>
              <a:xfrm>
                <a:off x="4538520" y="42451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9" name=""/>
              <p:cNvSpPr/>
              <p:nvPr/>
            </p:nvSpPr>
            <p:spPr>
              <a:xfrm>
                <a:off x="3689280" y="4038480"/>
                <a:ext cx="7920" cy="206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0" name=""/>
              <p:cNvSpPr/>
              <p:nvPr/>
            </p:nvSpPr>
            <p:spPr>
              <a:xfrm>
                <a:off x="4538520" y="4038480"/>
                <a:ext cx="7920" cy="206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1" name=""/>
              <p:cNvSpPr/>
              <p:nvPr/>
            </p:nvSpPr>
            <p:spPr>
              <a:xfrm>
                <a:off x="4546440" y="403056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2" name=""/>
              <p:cNvSpPr/>
              <p:nvPr/>
            </p:nvSpPr>
            <p:spPr>
              <a:xfrm>
                <a:off x="4546440" y="403056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3" name=""/>
              <p:cNvSpPr/>
              <p:nvPr/>
            </p:nvSpPr>
            <p:spPr>
              <a:xfrm>
                <a:off x="4556160" y="4030560"/>
                <a:ext cx="841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4" name=""/>
              <p:cNvSpPr/>
              <p:nvPr/>
            </p:nvSpPr>
            <p:spPr>
              <a:xfrm>
                <a:off x="5397480" y="40305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5" name=""/>
              <p:cNvSpPr/>
              <p:nvPr/>
            </p:nvSpPr>
            <p:spPr>
              <a:xfrm>
                <a:off x="5397480" y="40305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6" name=""/>
              <p:cNvSpPr/>
              <p:nvPr/>
            </p:nvSpPr>
            <p:spPr>
              <a:xfrm>
                <a:off x="4546440" y="42451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7" name=""/>
              <p:cNvSpPr/>
              <p:nvPr/>
            </p:nvSpPr>
            <p:spPr>
              <a:xfrm>
                <a:off x="4546440" y="42451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8" name=""/>
              <p:cNvSpPr/>
              <p:nvPr/>
            </p:nvSpPr>
            <p:spPr>
              <a:xfrm>
                <a:off x="4556160" y="4245120"/>
                <a:ext cx="841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9" name=""/>
              <p:cNvSpPr/>
              <p:nvPr/>
            </p:nvSpPr>
            <p:spPr>
              <a:xfrm>
                <a:off x="5397480" y="42451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0" name=""/>
              <p:cNvSpPr/>
              <p:nvPr/>
            </p:nvSpPr>
            <p:spPr>
              <a:xfrm>
                <a:off x="5397480" y="42451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1" name=""/>
              <p:cNvSpPr/>
              <p:nvPr/>
            </p:nvSpPr>
            <p:spPr>
              <a:xfrm>
                <a:off x="4546440" y="4038480"/>
                <a:ext cx="9720" cy="206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2" name=""/>
              <p:cNvSpPr/>
              <p:nvPr/>
            </p:nvSpPr>
            <p:spPr>
              <a:xfrm>
                <a:off x="5397480" y="4038480"/>
                <a:ext cx="7920" cy="206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3" name=""/>
              <p:cNvSpPr/>
              <p:nvPr/>
            </p:nvSpPr>
            <p:spPr>
              <a:xfrm>
                <a:off x="5405400" y="403056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4" name=""/>
              <p:cNvSpPr/>
              <p:nvPr/>
            </p:nvSpPr>
            <p:spPr>
              <a:xfrm>
                <a:off x="5405400" y="403056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5" name=""/>
              <p:cNvSpPr/>
              <p:nvPr/>
            </p:nvSpPr>
            <p:spPr>
              <a:xfrm>
                <a:off x="5415120" y="4030560"/>
                <a:ext cx="6174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6" name=""/>
              <p:cNvSpPr/>
              <p:nvPr/>
            </p:nvSpPr>
            <p:spPr>
              <a:xfrm>
                <a:off x="6032520" y="4030560"/>
                <a:ext cx="17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7" name=""/>
              <p:cNvSpPr/>
              <p:nvPr/>
            </p:nvSpPr>
            <p:spPr>
              <a:xfrm>
                <a:off x="5405400" y="42451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8" name=""/>
              <p:cNvSpPr/>
              <p:nvPr/>
            </p:nvSpPr>
            <p:spPr>
              <a:xfrm>
                <a:off x="5405400" y="42451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9" name=""/>
              <p:cNvSpPr/>
              <p:nvPr/>
            </p:nvSpPr>
            <p:spPr>
              <a:xfrm>
                <a:off x="5415120" y="4245120"/>
                <a:ext cx="6174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0" name=""/>
              <p:cNvSpPr/>
              <p:nvPr/>
            </p:nvSpPr>
            <p:spPr>
              <a:xfrm>
                <a:off x="6032520" y="4245120"/>
                <a:ext cx="17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1" name=""/>
              <p:cNvSpPr/>
              <p:nvPr/>
            </p:nvSpPr>
            <p:spPr>
              <a:xfrm>
                <a:off x="5405400" y="4038480"/>
                <a:ext cx="9720" cy="206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2" name=""/>
              <p:cNvSpPr/>
              <p:nvPr/>
            </p:nvSpPr>
            <p:spPr>
              <a:xfrm>
                <a:off x="6032520" y="4038480"/>
                <a:ext cx="17280" cy="206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3" name=""/>
              <p:cNvSpPr/>
              <p:nvPr/>
            </p:nvSpPr>
            <p:spPr>
              <a:xfrm>
                <a:off x="2314800" y="4264200"/>
                <a:ext cx="340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arch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4" name=""/>
              <p:cNvSpPr/>
              <p:nvPr/>
            </p:nvSpPr>
            <p:spPr>
              <a:xfrm>
                <a:off x="2633040" y="42642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5" name=""/>
              <p:cNvSpPr/>
              <p:nvPr/>
            </p:nvSpPr>
            <p:spPr>
              <a:xfrm>
                <a:off x="3181320" y="4264200"/>
                <a:ext cx="198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60,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6" name=""/>
              <p:cNvSpPr/>
              <p:nvPr/>
            </p:nvSpPr>
            <p:spPr>
              <a:xfrm>
                <a:off x="3368160" y="42642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7" name=""/>
              <p:cNvSpPr/>
              <p:nvPr/>
            </p:nvSpPr>
            <p:spPr>
              <a:xfrm>
                <a:off x="3931920" y="4264200"/>
                <a:ext cx="198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2,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8" name=""/>
              <p:cNvSpPr/>
              <p:nvPr/>
            </p:nvSpPr>
            <p:spPr>
              <a:xfrm>
                <a:off x="4118760" y="42642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9" name=""/>
              <p:cNvSpPr/>
              <p:nvPr/>
            </p:nvSpPr>
            <p:spPr>
              <a:xfrm>
                <a:off x="4790880" y="4264200"/>
                <a:ext cx="198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7,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0" name=""/>
              <p:cNvSpPr/>
              <p:nvPr/>
            </p:nvSpPr>
            <p:spPr>
              <a:xfrm>
                <a:off x="4977720" y="42642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1" name=""/>
              <p:cNvSpPr/>
              <p:nvPr/>
            </p:nvSpPr>
            <p:spPr>
              <a:xfrm>
                <a:off x="5649840" y="4264200"/>
                <a:ext cx="14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,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2" name=""/>
              <p:cNvSpPr/>
              <p:nvPr/>
            </p:nvSpPr>
            <p:spPr>
              <a:xfrm>
                <a:off x="5784120" y="42642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3" name=""/>
              <p:cNvSpPr/>
              <p:nvPr/>
            </p:nvSpPr>
            <p:spPr>
              <a:xfrm>
                <a:off x="2062080" y="4253040"/>
                <a:ext cx="8668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4" name=""/>
              <p:cNvSpPr/>
              <p:nvPr/>
            </p:nvSpPr>
            <p:spPr>
              <a:xfrm>
                <a:off x="2928960" y="425304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5" name=""/>
              <p:cNvSpPr/>
              <p:nvPr/>
            </p:nvSpPr>
            <p:spPr>
              <a:xfrm>
                <a:off x="2928960" y="425304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6" name=""/>
              <p:cNvSpPr/>
              <p:nvPr/>
            </p:nvSpPr>
            <p:spPr>
              <a:xfrm>
                <a:off x="2062080" y="4467240"/>
                <a:ext cx="8668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7" name=""/>
              <p:cNvSpPr/>
              <p:nvPr/>
            </p:nvSpPr>
            <p:spPr>
              <a:xfrm>
                <a:off x="2928960" y="446724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8" name=""/>
              <p:cNvSpPr/>
              <p:nvPr/>
            </p:nvSpPr>
            <p:spPr>
              <a:xfrm>
                <a:off x="2928960" y="446724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9" name=""/>
              <p:cNvSpPr/>
              <p:nvPr/>
            </p:nvSpPr>
            <p:spPr>
              <a:xfrm>
                <a:off x="2062080" y="4262400"/>
                <a:ext cx="17640" cy="204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0" name=""/>
              <p:cNvSpPr/>
              <p:nvPr/>
            </p:nvSpPr>
            <p:spPr>
              <a:xfrm>
                <a:off x="2928960" y="4262400"/>
                <a:ext cx="7920" cy="204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1" name=""/>
              <p:cNvSpPr/>
              <p:nvPr/>
            </p:nvSpPr>
            <p:spPr>
              <a:xfrm>
                <a:off x="2936880" y="42530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2" name=""/>
              <p:cNvSpPr/>
              <p:nvPr/>
            </p:nvSpPr>
            <p:spPr>
              <a:xfrm>
                <a:off x="2936880" y="42530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3" name=""/>
              <p:cNvSpPr/>
              <p:nvPr/>
            </p:nvSpPr>
            <p:spPr>
              <a:xfrm>
                <a:off x="2946240" y="4253040"/>
                <a:ext cx="7336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4" name=""/>
              <p:cNvSpPr/>
              <p:nvPr/>
            </p:nvSpPr>
            <p:spPr>
              <a:xfrm>
                <a:off x="3679920" y="42530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5" name=""/>
              <p:cNvSpPr/>
              <p:nvPr/>
            </p:nvSpPr>
            <p:spPr>
              <a:xfrm>
                <a:off x="3679920" y="42530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6" name=""/>
              <p:cNvSpPr/>
              <p:nvPr/>
            </p:nvSpPr>
            <p:spPr>
              <a:xfrm>
                <a:off x="2936880" y="44672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7" name=""/>
              <p:cNvSpPr/>
              <p:nvPr/>
            </p:nvSpPr>
            <p:spPr>
              <a:xfrm>
                <a:off x="2936880" y="44672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8" name=""/>
              <p:cNvSpPr/>
              <p:nvPr/>
            </p:nvSpPr>
            <p:spPr>
              <a:xfrm>
                <a:off x="2946240" y="4467240"/>
                <a:ext cx="7336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9" name=""/>
              <p:cNvSpPr/>
              <p:nvPr/>
            </p:nvSpPr>
            <p:spPr>
              <a:xfrm>
                <a:off x="3679920" y="44672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0" name=""/>
              <p:cNvSpPr/>
              <p:nvPr/>
            </p:nvSpPr>
            <p:spPr>
              <a:xfrm>
                <a:off x="3679920" y="44672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1" name=""/>
              <p:cNvSpPr/>
              <p:nvPr/>
            </p:nvSpPr>
            <p:spPr>
              <a:xfrm>
                <a:off x="2936880" y="4262400"/>
                <a:ext cx="9360" cy="204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2" name=""/>
              <p:cNvSpPr/>
              <p:nvPr/>
            </p:nvSpPr>
            <p:spPr>
              <a:xfrm>
                <a:off x="3679920" y="4262400"/>
                <a:ext cx="9360" cy="204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3" name=""/>
              <p:cNvSpPr/>
              <p:nvPr/>
            </p:nvSpPr>
            <p:spPr>
              <a:xfrm>
                <a:off x="3689280" y="425304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4" name=""/>
              <p:cNvSpPr/>
              <p:nvPr/>
            </p:nvSpPr>
            <p:spPr>
              <a:xfrm>
                <a:off x="3689280" y="425304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5" name=""/>
              <p:cNvSpPr/>
              <p:nvPr/>
            </p:nvSpPr>
            <p:spPr>
              <a:xfrm>
                <a:off x="3697200" y="4253040"/>
                <a:ext cx="8413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6" name=""/>
              <p:cNvSpPr/>
              <p:nvPr/>
            </p:nvSpPr>
            <p:spPr>
              <a:xfrm>
                <a:off x="4538520" y="425304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7" name=""/>
              <p:cNvSpPr/>
              <p:nvPr/>
            </p:nvSpPr>
            <p:spPr>
              <a:xfrm>
                <a:off x="4538520" y="425304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8" name=""/>
              <p:cNvSpPr/>
              <p:nvPr/>
            </p:nvSpPr>
            <p:spPr>
              <a:xfrm>
                <a:off x="3689280" y="446724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9" name=""/>
              <p:cNvSpPr/>
              <p:nvPr/>
            </p:nvSpPr>
            <p:spPr>
              <a:xfrm>
                <a:off x="3689280" y="446724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0" name=""/>
              <p:cNvSpPr/>
              <p:nvPr/>
            </p:nvSpPr>
            <p:spPr>
              <a:xfrm>
                <a:off x="3697200" y="4467240"/>
                <a:ext cx="8413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1" name=""/>
              <p:cNvSpPr/>
              <p:nvPr/>
            </p:nvSpPr>
            <p:spPr>
              <a:xfrm>
                <a:off x="4538520" y="446724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2" name=""/>
              <p:cNvSpPr/>
              <p:nvPr/>
            </p:nvSpPr>
            <p:spPr>
              <a:xfrm>
                <a:off x="4538520" y="446724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3" name=""/>
              <p:cNvSpPr/>
              <p:nvPr/>
            </p:nvSpPr>
            <p:spPr>
              <a:xfrm>
                <a:off x="3689280" y="4262400"/>
                <a:ext cx="7920" cy="204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4" name=""/>
              <p:cNvSpPr/>
              <p:nvPr/>
            </p:nvSpPr>
            <p:spPr>
              <a:xfrm>
                <a:off x="4538520" y="4262400"/>
                <a:ext cx="7920" cy="204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35" name=""/>
            <p:cNvGrpSpPr/>
            <p:nvPr/>
          </p:nvGrpSpPr>
          <p:grpSpPr>
            <a:xfrm>
              <a:off x="2062080" y="4253040"/>
              <a:ext cx="3987720" cy="895320"/>
              <a:chOff x="2062080" y="4253040"/>
              <a:chExt cx="3987720" cy="895320"/>
            </a:xfrm>
          </p:grpSpPr>
          <p:sp>
            <p:nvSpPr>
              <p:cNvPr id="3536" name=""/>
              <p:cNvSpPr/>
              <p:nvPr/>
            </p:nvSpPr>
            <p:spPr>
              <a:xfrm>
                <a:off x="4546440" y="425304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7" name=""/>
              <p:cNvSpPr/>
              <p:nvPr/>
            </p:nvSpPr>
            <p:spPr>
              <a:xfrm>
                <a:off x="4546440" y="425304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8" name=""/>
              <p:cNvSpPr/>
              <p:nvPr/>
            </p:nvSpPr>
            <p:spPr>
              <a:xfrm>
                <a:off x="4556160" y="4253040"/>
                <a:ext cx="8413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9" name=""/>
              <p:cNvSpPr/>
              <p:nvPr/>
            </p:nvSpPr>
            <p:spPr>
              <a:xfrm>
                <a:off x="5397480" y="425304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0" name=""/>
              <p:cNvSpPr/>
              <p:nvPr/>
            </p:nvSpPr>
            <p:spPr>
              <a:xfrm>
                <a:off x="5397480" y="425304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1" name=""/>
              <p:cNvSpPr/>
              <p:nvPr/>
            </p:nvSpPr>
            <p:spPr>
              <a:xfrm>
                <a:off x="4546440" y="446724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2" name=""/>
              <p:cNvSpPr/>
              <p:nvPr/>
            </p:nvSpPr>
            <p:spPr>
              <a:xfrm>
                <a:off x="4546440" y="446724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3" name=""/>
              <p:cNvSpPr/>
              <p:nvPr/>
            </p:nvSpPr>
            <p:spPr>
              <a:xfrm>
                <a:off x="4556160" y="4467240"/>
                <a:ext cx="8413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4" name=""/>
              <p:cNvSpPr/>
              <p:nvPr/>
            </p:nvSpPr>
            <p:spPr>
              <a:xfrm>
                <a:off x="5397480" y="446724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5" name=""/>
              <p:cNvSpPr/>
              <p:nvPr/>
            </p:nvSpPr>
            <p:spPr>
              <a:xfrm>
                <a:off x="5397480" y="446724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6" name=""/>
              <p:cNvSpPr/>
              <p:nvPr/>
            </p:nvSpPr>
            <p:spPr>
              <a:xfrm>
                <a:off x="4546440" y="4262400"/>
                <a:ext cx="9720" cy="204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7" name=""/>
              <p:cNvSpPr/>
              <p:nvPr/>
            </p:nvSpPr>
            <p:spPr>
              <a:xfrm>
                <a:off x="5397480" y="4262400"/>
                <a:ext cx="7920" cy="204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8" name=""/>
              <p:cNvSpPr/>
              <p:nvPr/>
            </p:nvSpPr>
            <p:spPr>
              <a:xfrm>
                <a:off x="5405400" y="425304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9" name=""/>
              <p:cNvSpPr/>
              <p:nvPr/>
            </p:nvSpPr>
            <p:spPr>
              <a:xfrm>
                <a:off x="5405400" y="425304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0" name=""/>
              <p:cNvSpPr/>
              <p:nvPr/>
            </p:nvSpPr>
            <p:spPr>
              <a:xfrm>
                <a:off x="5415120" y="4253040"/>
                <a:ext cx="617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1" name=""/>
              <p:cNvSpPr/>
              <p:nvPr/>
            </p:nvSpPr>
            <p:spPr>
              <a:xfrm>
                <a:off x="6032520" y="425304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2" name=""/>
              <p:cNvSpPr/>
              <p:nvPr/>
            </p:nvSpPr>
            <p:spPr>
              <a:xfrm>
                <a:off x="5405400" y="446724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3" name=""/>
              <p:cNvSpPr/>
              <p:nvPr/>
            </p:nvSpPr>
            <p:spPr>
              <a:xfrm>
                <a:off x="5405400" y="446724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4" name=""/>
              <p:cNvSpPr/>
              <p:nvPr/>
            </p:nvSpPr>
            <p:spPr>
              <a:xfrm>
                <a:off x="5415120" y="4467240"/>
                <a:ext cx="617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5" name=""/>
              <p:cNvSpPr/>
              <p:nvPr/>
            </p:nvSpPr>
            <p:spPr>
              <a:xfrm>
                <a:off x="6032520" y="446724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6" name=""/>
              <p:cNvSpPr/>
              <p:nvPr/>
            </p:nvSpPr>
            <p:spPr>
              <a:xfrm>
                <a:off x="5405400" y="4262400"/>
                <a:ext cx="9720" cy="204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7" name=""/>
              <p:cNvSpPr/>
              <p:nvPr/>
            </p:nvSpPr>
            <p:spPr>
              <a:xfrm>
                <a:off x="6032520" y="4262400"/>
                <a:ext cx="17280" cy="204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8" name=""/>
              <p:cNvSpPr/>
              <p:nvPr/>
            </p:nvSpPr>
            <p:spPr>
              <a:xfrm>
                <a:off x="2313720" y="4486320"/>
                <a:ext cx="2444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azi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9" name=""/>
              <p:cNvSpPr/>
              <p:nvPr/>
            </p:nvSpPr>
            <p:spPr>
              <a:xfrm>
                <a:off x="2542680" y="44863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0" name=""/>
              <p:cNvSpPr/>
              <p:nvPr/>
            </p:nvSpPr>
            <p:spPr>
              <a:xfrm>
                <a:off x="3181320" y="4486320"/>
                <a:ext cx="198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86,9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1" name=""/>
              <p:cNvSpPr/>
              <p:nvPr/>
            </p:nvSpPr>
            <p:spPr>
              <a:xfrm>
                <a:off x="3368160" y="44863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2" name=""/>
              <p:cNvSpPr/>
              <p:nvPr/>
            </p:nvSpPr>
            <p:spPr>
              <a:xfrm>
                <a:off x="3931920" y="4486320"/>
                <a:ext cx="198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8,7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3" name=""/>
              <p:cNvSpPr/>
              <p:nvPr/>
            </p:nvSpPr>
            <p:spPr>
              <a:xfrm>
                <a:off x="4118760" y="44863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4" name=""/>
              <p:cNvSpPr/>
              <p:nvPr/>
            </p:nvSpPr>
            <p:spPr>
              <a:xfrm>
                <a:off x="4790880" y="4486320"/>
                <a:ext cx="198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5,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5" name=""/>
              <p:cNvSpPr/>
              <p:nvPr/>
            </p:nvSpPr>
            <p:spPr>
              <a:xfrm>
                <a:off x="4977720" y="44863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6" name=""/>
              <p:cNvSpPr/>
              <p:nvPr/>
            </p:nvSpPr>
            <p:spPr>
              <a:xfrm>
                <a:off x="5649840" y="4486320"/>
                <a:ext cx="14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,9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7" name=""/>
              <p:cNvSpPr/>
              <p:nvPr/>
            </p:nvSpPr>
            <p:spPr>
              <a:xfrm>
                <a:off x="5784120" y="44863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8" name=""/>
              <p:cNvSpPr/>
              <p:nvPr/>
            </p:nvSpPr>
            <p:spPr>
              <a:xfrm>
                <a:off x="2062080" y="4476600"/>
                <a:ext cx="8668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9" name=""/>
              <p:cNvSpPr/>
              <p:nvPr/>
            </p:nvSpPr>
            <p:spPr>
              <a:xfrm>
                <a:off x="2928960" y="44766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0" name=""/>
              <p:cNvSpPr/>
              <p:nvPr/>
            </p:nvSpPr>
            <p:spPr>
              <a:xfrm>
                <a:off x="2928960" y="44766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1" name=""/>
              <p:cNvSpPr/>
              <p:nvPr/>
            </p:nvSpPr>
            <p:spPr>
              <a:xfrm>
                <a:off x="2062080" y="4691160"/>
                <a:ext cx="8668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2" name=""/>
              <p:cNvSpPr/>
              <p:nvPr/>
            </p:nvSpPr>
            <p:spPr>
              <a:xfrm>
                <a:off x="2928960" y="469116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3" name=""/>
              <p:cNvSpPr/>
              <p:nvPr/>
            </p:nvSpPr>
            <p:spPr>
              <a:xfrm>
                <a:off x="2928960" y="469116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4" name=""/>
              <p:cNvSpPr/>
              <p:nvPr/>
            </p:nvSpPr>
            <p:spPr>
              <a:xfrm>
                <a:off x="2062080" y="4484520"/>
                <a:ext cx="17640" cy="206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5" name=""/>
              <p:cNvSpPr/>
              <p:nvPr/>
            </p:nvSpPr>
            <p:spPr>
              <a:xfrm>
                <a:off x="2928960" y="4484520"/>
                <a:ext cx="7920" cy="206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6" name=""/>
              <p:cNvSpPr/>
              <p:nvPr/>
            </p:nvSpPr>
            <p:spPr>
              <a:xfrm>
                <a:off x="2936880" y="44766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7" name=""/>
              <p:cNvSpPr/>
              <p:nvPr/>
            </p:nvSpPr>
            <p:spPr>
              <a:xfrm>
                <a:off x="2936880" y="44766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8" name=""/>
              <p:cNvSpPr/>
              <p:nvPr/>
            </p:nvSpPr>
            <p:spPr>
              <a:xfrm>
                <a:off x="2946240" y="4476600"/>
                <a:ext cx="7336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9" name=""/>
              <p:cNvSpPr/>
              <p:nvPr/>
            </p:nvSpPr>
            <p:spPr>
              <a:xfrm>
                <a:off x="3679920" y="44766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0" name=""/>
              <p:cNvSpPr/>
              <p:nvPr/>
            </p:nvSpPr>
            <p:spPr>
              <a:xfrm>
                <a:off x="3679920" y="44766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1" name=""/>
              <p:cNvSpPr/>
              <p:nvPr/>
            </p:nvSpPr>
            <p:spPr>
              <a:xfrm>
                <a:off x="2936880" y="469116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2" name=""/>
              <p:cNvSpPr/>
              <p:nvPr/>
            </p:nvSpPr>
            <p:spPr>
              <a:xfrm>
                <a:off x="2936880" y="469116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3" name=""/>
              <p:cNvSpPr/>
              <p:nvPr/>
            </p:nvSpPr>
            <p:spPr>
              <a:xfrm>
                <a:off x="2946240" y="4691160"/>
                <a:ext cx="7336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4" name=""/>
              <p:cNvSpPr/>
              <p:nvPr/>
            </p:nvSpPr>
            <p:spPr>
              <a:xfrm>
                <a:off x="3679920" y="469116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5" name=""/>
              <p:cNvSpPr/>
              <p:nvPr/>
            </p:nvSpPr>
            <p:spPr>
              <a:xfrm>
                <a:off x="3679920" y="469116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6" name=""/>
              <p:cNvSpPr/>
              <p:nvPr/>
            </p:nvSpPr>
            <p:spPr>
              <a:xfrm>
                <a:off x="2936880" y="4484520"/>
                <a:ext cx="9360" cy="206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7" name=""/>
              <p:cNvSpPr/>
              <p:nvPr/>
            </p:nvSpPr>
            <p:spPr>
              <a:xfrm>
                <a:off x="3679920" y="4484520"/>
                <a:ext cx="9360" cy="206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8" name=""/>
              <p:cNvSpPr/>
              <p:nvPr/>
            </p:nvSpPr>
            <p:spPr>
              <a:xfrm>
                <a:off x="3689280" y="44766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9" name=""/>
              <p:cNvSpPr/>
              <p:nvPr/>
            </p:nvSpPr>
            <p:spPr>
              <a:xfrm>
                <a:off x="3689280" y="44766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0" name=""/>
              <p:cNvSpPr/>
              <p:nvPr/>
            </p:nvSpPr>
            <p:spPr>
              <a:xfrm>
                <a:off x="3697200" y="4476600"/>
                <a:ext cx="841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1" name=""/>
              <p:cNvSpPr/>
              <p:nvPr/>
            </p:nvSpPr>
            <p:spPr>
              <a:xfrm>
                <a:off x="4538520" y="44766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2" name=""/>
              <p:cNvSpPr/>
              <p:nvPr/>
            </p:nvSpPr>
            <p:spPr>
              <a:xfrm>
                <a:off x="4538520" y="44766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3" name=""/>
              <p:cNvSpPr/>
              <p:nvPr/>
            </p:nvSpPr>
            <p:spPr>
              <a:xfrm>
                <a:off x="3689280" y="469116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4" name=""/>
              <p:cNvSpPr/>
              <p:nvPr/>
            </p:nvSpPr>
            <p:spPr>
              <a:xfrm>
                <a:off x="3689280" y="469116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5" name=""/>
              <p:cNvSpPr/>
              <p:nvPr/>
            </p:nvSpPr>
            <p:spPr>
              <a:xfrm>
                <a:off x="3697200" y="4691160"/>
                <a:ext cx="8413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6" name=""/>
              <p:cNvSpPr/>
              <p:nvPr/>
            </p:nvSpPr>
            <p:spPr>
              <a:xfrm>
                <a:off x="4538520" y="469116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7" name=""/>
              <p:cNvSpPr/>
              <p:nvPr/>
            </p:nvSpPr>
            <p:spPr>
              <a:xfrm>
                <a:off x="4538520" y="469116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8" name=""/>
              <p:cNvSpPr/>
              <p:nvPr/>
            </p:nvSpPr>
            <p:spPr>
              <a:xfrm>
                <a:off x="3689280" y="4484520"/>
                <a:ext cx="7920" cy="206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9" name=""/>
              <p:cNvSpPr/>
              <p:nvPr/>
            </p:nvSpPr>
            <p:spPr>
              <a:xfrm>
                <a:off x="4538520" y="4484520"/>
                <a:ext cx="7920" cy="206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0" name=""/>
              <p:cNvSpPr/>
              <p:nvPr/>
            </p:nvSpPr>
            <p:spPr>
              <a:xfrm>
                <a:off x="4546440" y="447660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1" name=""/>
              <p:cNvSpPr/>
              <p:nvPr/>
            </p:nvSpPr>
            <p:spPr>
              <a:xfrm>
                <a:off x="4546440" y="447660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2" name=""/>
              <p:cNvSpPr/>
              <p:nvPr/>
            </p:nvSpPr>
            <p:spPr>
              <a:xfrm>
                <a:off x="4556160" y="4476600"/>
                <a:ext cx="841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3" name=""/>
              <p:cNvSpPr/>
              <p:nvPr/>
            </p:nvSpPr>
            <p:spPr>
              <a:xfrm>
                <a:off x="5397480" y="44766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4" name=""/>
              <p:cNvSpPr/>
              <p:nvPr/>
            </p:nvSpPr>
            <p:spPr>
              <a:xfrm>
                <a:off x="5397480" y="44766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5" name=""/>
              <p:cNvSpPr/>
              <p:nvPr/>
            </p:nvSpPr>
            <p:spPr>
              <a:xfrm>
                <a:off x="4546440" y="469116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6" name=""/>
              <p:cNvSpPr/>
              <p:nvPr/>
            </p:nvSpPr>
            <p:spPr>
              <a:xfrm>
                <a:off x="4546440" y="469116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7" name=""/>
              <p:cNvSpPr/>
              <p:nvPr/>
            </p:nvSpPr>
            <p:spPr>
              <a:xfrm>
                <a:off x="4556160" y="4691160"/>
                <a:ext cx="8413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8" name=""/>
              <p:cNvSpPr/>
              <p:nvPr/>
            </p:nvSpPr>
            <p:spPr>
              <a:xfrm>
                <a:off x="5397480" y="469116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9" name=""/>
              <p:cNvSpPr/>
              <p:nvPr/>
            </p:nvSpPr>
            <p:spPr>
              <a:xfrm>
                <a:off x="5397480" y="469116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0" name=""/>
              <p:cNvSpPr/>
              <p:nvPr/>
            </p:nvSpPr>
            <p:spPr>
              <a:xfrm>
                <a:off x="4546440" y="4484520"/>
                <a:ext cx="9720" cy="206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1" name=""/>
              <p:cNvSpPr/>
              <p:nvPr/>
            </p:nvSpPr>
            <p:spPr>
              <a:xfrm>
                <a:off x="5397480" y="4484520"/>
                <a:ext cx="7920" cy="206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2" name=""/>
              <p:cNvSpPr/>
              <p:nvPr/>
            </p:nvSpPr>
            <p:spPr>
              <a:xfrm>
                <a:off x="5405400" y="447660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3" name=""/>
              <p:cNvSpPr/>
              <p:nvPr/>
            </p:nvSpPr>
            <p:spPr>
              <a:xfrm>
                <a:off x="5405400" y="447660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4" name=""/>
              <p:cNvSpPr/>
              <p:nvPr/>
            </p:nvSpPr>
            <p:spPr>
              <a:xfrm>
                <a:off x="5415120" y="4476600"/>
                <a:ext cx="6174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5" name=""/>
              <p:cNvSpPr/>
              <p:nvPr/>
            </p:nvSpPr>
            <p:spPr>
              <a:xfrm>
                <a:off x="6032520" y="4476600"/>
                <a:ext cx="17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6" name=""/>
              <p:cNvSpPr/>
              <p:nvPr/>
            </p:nvSpPr>
            <p:spPr>
              <a:xfrm>
                <a:off x="5405400" y="469116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7" name=""/>
              <p:cNvSpPr/>
              <p:nvPr/>
            </p:nvSpPr>
            <p:spPr>
              <a:xfrm>
                <a:off x="5405400" y="469116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8" name=""/>
              <p:cNvSpPr/>
              <p:nvPr/>
            </p:nvSpPr>
            <p:spPr>
              <a:xfrm>
                <a:off x="5415120" y="4691160"/>
                <a:ext cx="617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9" name=""/>
              <p:cNvSpPr/>
              <p:nvPr/>
            </p:nvSpPr>
            <p:spPr>
              <a:xfrm>
                <a:off x="6032520" y="469116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0" name=""/>
              <p:cNvSpPr/>
              <p:nvPr/>
            </p:nvSpPr>
            <p:spPr>
              <a:xfrm>
                <a:off x="5405400" y="4484520"/>
                <a:ext cx="9720" cy="206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1" name=""/>
              <p:cNvSpPr/>
              <p:nvPr/>
            </p:nvSpPr>
            <p:spPr>
              <a:xfrm>
                <a:off x="6032520" y="4484520"/>
                <a:ext cx="17280" cy="206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2" name=""/>
              <p:cNvSpPr/>
              <p:nvPr/>
            </p:nvSpPr>
            <p:spPr>
              <a:xfrm>
                <a:off x="2313360" y="4710240"/>
                <a:ext cx="375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bruzz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3" name=""/>
              <p:cNvSpPr/>
              <p:nvPr/>
            </p:nvSpPr>
            <p:spPr>
              <a:xfrm>
                <a:off x="2664720" y="47102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4" name=""/>
              <p:cNvSpPr/>
              <p:nvPr/>
            </p:nvSpPr>
            <p:spPr>
              <a:xfrm>
                <a:off x="3181320" y="4710240"/>
                <a:ext cx="198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63,7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5" name=""/>
              <p:cNvSpPr/>
              <p:nvPr/>
            </p:nvSpPr>
            <p:spPr>
              <a:xfrm>
                <a:off x="3368160" y="47102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6" name=""/>
              <p:cNvSpPr/>
              <p:nvPr/>
            </p:nvSpPr>
            <p:spPr>
              <a:xfrm>
                <a:off x="3931920" y="4710240"/>
                <a:ext cx="198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6,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7" name=""/>
              <p:cNvSpPr/>
              <p:nvPr/>
            </p:nvSpPr>
            <p:spPr>
              <a:xfrm>
                <a:off x="4118760" y="47102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8" name=""/>
              <p:cNvSpPr/>
              <p:nvPr/>
            </p:nvSpPr>
            <p:spPr>
              <a:xfrm>
                <a:off x="4790880" y="4710240"/>
                <a:ext cx="198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6,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9" name=""/>
              <p:cNvSpPr/>
              <p:nvPr/>
            </p:nvSpPr>
            <p:spPr>
              <a:xfrm>
                <a:off x="4977720" y="47102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0" name=""/>
              <p:cNvSpPr/>
              <p:nvPr/>
            </p:nvSpPr>
            <p:spPr>
              <a:xfrm>
                <a:off x="5650560" y="471024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,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1" name=""/>
              <p:cNvSpPr/>
              <p:nvPr/>
            </p:nvSpPr>
            <p:spPr>
              <a:xfrm>
                <a:off x="5729760" y="4710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2" name=""/>
              <p:cNvSpPr/>
              <p:nvPr/>
            </p:nvSpPr>
            <p:spPr>
              <a:xfrm>
                <a:off x="5784120" y="47102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3" name=""/>
              <p:cNvSpPr/>
              <p:nvPr/>
            </p:nvSpPr>
            <p:spPr>
              <a:xfrm>
                <a:off x="2062080" y="4700520"/>
                <a:ext cx="8668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4" name=""/>
              <p:cNvSpPr/>
              <p:nvPr/>
            </p:nvSpPr>
            <p:spPr>
              <a:xfrm>
                <a:off x="2928960" y="47005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5" name=""/>
              <p:cNvSpPr/>
              <p:nvPr/>
            </p:nvSpPr>
            <p:spPr>
              <a:xfrm>
                <a:off x="2928960" y="47005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6" name=""/>
              <p:cNvSpPr/>
              <p:nvPr/>
            </p:nvSpPr>
            <p:spPr>
              <a:xfrm>
                <a:off x="2062080" y="4916520"/>
                <a:ext cx="8668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7" name=""/>
              <p:cNvSpPr/>
              <p:nvPr/>
            </p:nvSpPr>
            <p:spPr>
              <a:xfrm>
                <a:off x="2928960" y="49165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8" name=""/>
              <p:cNvSpPr/>
              <p:nvPr/>
            </p:nvSpPr>
            <p:spPr>
              <a:xfrm>
                <a:off x="2928960" y="49165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9" name=""/>
              <p:cNvSpPr/>
              <p:nvPr/>
            </p:nvSpPr>
            <p:spPr>
              <a:xfrm>
                <a:off x="2062080" y="4708440"/>
                <a:ext cx="17640" cy="208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0" name=""/>
              <p:cNvSpPr/>
              <p:nvPr/>
            </p:nvSpPr>
            <p:spPr>
              <a:xfrm>
                <a:off x="2928960" y="4708440"/>
                <a:ext cx="7920" cy="208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1" name=""/>
              <p:cNvSpPr/>
              <p:nvPr/>
            </p:nvSpPr>
            <p:spPr>
              <a:xfrm>
                <a:off x="2936880" y="47005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2" name=""/>
              <p:cNvSpPr/>
              <p:nvPr/>
            </p:nvSpPr>
            <p:spPr>
              <a:xfrm>
                <a:off x="2936880" y="47005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3" name=""/>
              <p:cNvSpPr/>
              <p:nvPr/>
            </p:nvSpPr>
            <p:spPr>
              <a:xfrm>
                <a:off x="2946240" y="4700520"/>
                <a:ext cx="7336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4" name=""/>
              <p:cNvSpPr/>
              <p:nvPr/>
            </p:nvSpPr>
            <p:spPr>
              <a:xfrm>
                <a:off x="3679920" y="47005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5" name=""/>
              <p:cNvSpPr/>
              <p:nvPr/>
            </p:nvSpPr>
            <p:spPr>
              <a:xfrm>
                <a:off x="3679920" y="47005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6" name=""/>
              <p:cNvSpPr/>
              <p:nvPr/>
            </p:nvSpPr>
            <p:spPr>
              <a:xfrm>
                <a:off x="2936880" y="49165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7" name=""/>
              <p:cNvSpPr/>
              <p:nvPr/>
            </p:nvSpPr>
            <p:spPr>
              <a:xfrm>
                <a:off x="2936880" y="49165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8" name=""/>
              <p:cNvSpPr/>
              <p:nvPr/>
            </p:nvSpPr>
            <p:spPr>
              <a:xfrm>
                <a:off x="2946240" y="4916520"/>
                <a:ext cx="7336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9" name=""/>
              <p:cNvSpPr/>
              <p:nvPr/>
            </p:nvSpPr>
            <p:spPr>
              <a:xfrm>
                <a:off x="3679920" y="49165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0" name=""/>
              <p:cNvSpPr/>
              <p:nvPr/>
            </p:nvSpPr>
            <p:spPr>
              <a:xfrm>
                <a:off x="3679920" y="49165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1" name=""/>
              <p:cNvSpPr/>
              <p:nvPr/>
            </p:nvSpPr>
            <p:spPr>
              <a:xfrm>
                <a:off x="2936880" y="4708440"/>
                <a:ext cx="9360" cy="208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2" name=""/>
              <p:cNvSpPr/>
              <p:nvPr/>
            </p:nvSpPr>
            <p:spPr>
              <a:xfrm>
                <a:off x="3679920" y="4708440"/>
                <a:ext cx="9360" cy="208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3" name=""/>
              <p:cNvSpPr/>
              <p:nvPr/>
            </p:nvSpPr>
            <p:spPr>
              <a:xfrm>
                <a:off x="3689280" y="47005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4" name=""/>
              <p:cNvSpPr/>
              <p:nvPr/>
            </p:nvSpPr>
            <p:spPr>
              <a:xfrm>
                <a:off x="3689280" y="47005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5" name=""/>
              <p:cNvSpPr/>
              <p:nvPr/>
            </p:nvSpPr>
            <p:spPr>
              <a:xfrm>
                <a:off x="3697200" y="4700520"/>
                <a:ext cx="841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6" name=""/>
              <p:cNvSpPr/>
              <p:nvPr/>
            </p:nvSpPr>
            <p:spPr>
              <a:xfrm>
                <a:off x="4538520" y="47005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7" name=""/>
              <p:cNvSpPr/>
              <p:nvPr/>
            </p:nvSpPr>
            <p:spPr>
              <a:xfrm>
                <a:off x="4538520" y="47005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8" name=""/>
              <p:cNvSpPr/>
              <p:nvPr/>
            </p:nvSpPr>
            <p:spPr>
              <a:xfrm>
                <a:off x="3689280" y="49165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9" name=""/>
              <p:cNvSpPr/>
              <p:nvPr/>
            </p:nvSpPr>
            <p:spPr>
              <a:xfrm>
                <a:off x="3689280" y="49165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0" name=""/>
              <p:cNvSpPr/>
              <p:nvPr/>
            </p:nvSpPr>
            <p:spPr>
              <a:xfrm>
                <a:off x="3697200" y="4916520"/>
                <a:ext cx="841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1" name=""/>
              <p:cNvSpPr/>
              <p:nvPr/>
            </p:nvSpPr>
            <p:spPr>
              <a:xfrm>
                <a:off x="4538520" y="49165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2" name=""/>
              <p:cNvSpPr/>
              <p:nvPr/>
            </p:nvSpPr>
            <p:spPr>
              <a:xfrm>
                <a:off x="4538520" y="49165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3" name=""/>
              <p:cNvSpPr/>
              <p:nvPr/>
            </p:nvSpPr>
            <p:spPr>
              <a:xfrm>
                <a:off x="3689280" y="4708440"/>
                <a:ext cx="7920" cy="208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4" name=""/>
              <p:cNvSpPr/>
              <p:nvPr/>
            </p:nvSpPr>
            <p:spPr>
              <a:xfrm>
                <a:off x="4538520" y="4708440"/>
                <a:ext cx="7920" cy="208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5" name=""/>
              <p:cNvSpPr/>
              <p:nvPr/>
            </p:nvSpPr>
            <p:spPr>
              <a:xfrm>
                <a:off x="4546440" y="47005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6" name=""/>
              <p:cNvSpPr/>
              <p:nvPr/>
            </p:nvSpPr>
            <p:spPr>
              <a:xfrm>
                <a:off x="4546440" y="47005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7" name=""/>
              <p:cNvSpPr/>
              <p:nvPr/>
            </p:nvSpPr>
            <p:spPr>
              <a:xfrm>
                <a:off x="4556160" y="4700520"/>
                <a:ext cx="841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8" name=""/>
              <p:cNvSpPr/>
              <p:nvPr/>
            </p:nvSpPr>
            <p:spPr>
              <a:xfrm>
                <a:off x="5397480" y="47005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9" name=""/>
              <p:cNvSpPr/>
              <p:nvPr/>
            </p:nvSpPr>
            <p:spPr>
              <a:xfrm>
                <a:off x="5397480" y="47005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0" name=""/>
              <p:cNvSpPr/>
              <p:nvPr/>
            </p:nvSpPr>
            <p:spPr>
              <a:xfrm>
                <a:off x="4546440" y="49165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1" name=""/>
              <p:cNvSpPr/>
              <p:nvPr/>
            </p:nvSpPr>
            <p:spPr>
              <a:xfrm>
                <a:off x="4546440" y="49165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2" name=""/>
              <p:cNvSpPr/>
              <p:nvPr/>
            </p:nvSpPr>
            <p:spPr>
              <a:xfrm>
                <a:off x="4556160" y="4916520"/>
                <a:ext cx="841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3" name=""/>
              <p:cNvSpPr/>
              <p:nvPr/>
            </p:nvSpPr>
            <p:spPr>
              <a:xfrm>
                <a:off x="5397480" y="49165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4" name=""/>
              <p:cNvSpPr/>
              <p:nvPr/>
            </p:nvSpPr>
            <p:spPr>
              <a:xfrm>
                <a:off x="5397480" y="49165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5" name=""/>
              <p:cNvSpPr/>
              <p:nvPr/>
            </p:nvSpPr>
            <p:spPr>
              <a:xfrm>
                <a:off x="4546440" y="4708440"/>
                <a:ext cx="9720" cy="208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6" name=""/>
              <p:cNvSpPr/>
              <p:nvPr/>
            </p:nvSpPr>
            <p:spPr>
              <a:xfrm>
                <a:off x="5397480" y="4708440"/>
                <a:ext cx="7920" cy="208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7" name=""/>
              <p:cNvSpPr/>
              <p:nvPr/>
            </p:nvSpPr>
            <p:spPr>
              <a:xfrm>
                <a:off x="5405400" y="47005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8" name=""/>
              <p:cNvSpPr/>
              <p:nvPr/>
            </p:nvSpPr>
            <p:spPr>
              <a:xfrm>
                <a:off x="5405400" y="47005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9" name=""/>
              <p:cNvSpPr/>
              <p:nvPr/>
            </p:nvSpPr>
            <p:spPr>
              <a:xfrm>
                <a:off x="5415120" y="4700520"/>
                <a:ext cx="6174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0" name=""/>
              <p:cNvSpPr/>
              <p:nvPr/>
            </p:nvSpPr>
            <p:spPr>
              <a:xfrm>
                <a:off x="6032520" y="4700520"/>
                <a:ext cx="17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1" name=""/>
              <p:cNvSpPr/>
              <p:nvPr/>
            </p:nvSpPr>
            <p:spPr>
              <a:xfrm>
                <a:off x="5405400" y="49165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2" name=""/>
              <p:cNvSpPr/>
              <p:nvPr/>
            </p:nvSpPr>
            <p:spPr>
              <a:xfrm>
                <a:off x="5405400" y="49165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3" name=""/>
              <p:cNvSpPr/>
              <p:nvPr/>
            </p:nvSpPr>
            <p:spPr>
              <a:xfrm>
                <a:off x="5415120" y="4916520"/>
                <a:ext cx="6174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4" name=""/>
              <p:cNvSpPr/>
              <p:nvPr/>
            </p:nvSpPr>
            <p:spPr>
              <a:xfrm>
                <a:off x="6032520" y="4916520"/>
                <a:ext cx="17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5" name=""/>
              <p:cNvSpPr/>
              <p:nvPr/>
            </p:nvSpPr>
            <p:spPr>
              <a:xfrm>
                <a:off x="5405400" y="4708440"/>
                <a:ext cx="9720" cy="208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6" name=""/>
              <p:cNvSpPr/>
              <p:nvPr/>
            </p:nvSpPr>
            <p:spPr>
              <a:xfrm>
                <a:off x="6032520" y="4708440"/>
                <a:ext cx="17280" cy="208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7" name=""/>
              <p:cNvSpPr/>
              <p:nvPr/>
            </p:nvSpPr>
            <p:spPr>
              <a:xfrm>
                <a:off x="2314800" y="4933800"/>
                <a:ext cx="2962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olis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8" name=""/>
              <p:cNvSpPr/>
              <p:nvPr/>
            </p:nvSpPr>
            <p:spPr>
              <a:xfrm>
                <a:off x="2591640" y="49338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9" name=""/>
              <p:cNvSpPr/>
              <p:nvPr/>
            </p:nvSpPr>
            <p:spPr>
              <a:xfrm>
                <a:off x="3181320" y="4933800"/>
                <a:ext cx="198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2,7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0" name=""/>
              <p:cNvSpPr/>
              <p:nvPr/>
            </p:nvSpPr>
            <p:spPr>
              <a:xfrm>
                <a:off x="3368160" y="49338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1" name=""/>
              <p:cNvSpPr/>
              <p:nvPr/>
            </p:nvSpPr>
            <p:spPr>
              <a:xfrm>
                <a:off x="3931920" y="4933800"/>
                <a:ext cx="198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43,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2" name=""/>
              <p:cNvSpPr/>
              <p:nvPr/>
            </p:nvSpPr>
            <p:spPr>
              <a:xfrm>
                <a:off x="4118760" y="49338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3" name=""/>
              <p:cNvSpPr/>
              <p:nvPr/>
            </p:nvSpPr>
            <p:spPr>
              <a:xfrm>
                <a:off x="4790880" y="4933800"/>
                <a:ext cx="198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7,9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4" name=""/>
              <p:cNvSpPr/>
              <p:nvPr/>
            </p:nvSpPr>
            <p:spPr>
              <a:xfrm>
                <a:off x="4977720" y="49338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5" name=""/>
              <p:cNvSpPr/>
              <p:nvPr/>
            </p:nvSpPr>
            <p:spPr>
              <a:xfrm>
                <a:off x="5649840" y="4933800"/>
                <a:ext cx="14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,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6" name=""/>
              <p:cNvSpPr/>
              <p:nvPr/>
            </p:nvSpPr>
            <p:spPr>
              <a:xfrm>
                <a:off x="5784120" y="49338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7" name=""/>
              <p:cNvSpPr/>
              <p:nvPr/>
            </p:nvSpPr>
            <p:spPr>
              <a:xfrm>
                <a:off x="2062080" y="4924440"/>
                <a:ext cx="8668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8" name=""/>
              <p:cNvSpPr/>
              <p:nvPr/>
            </p:nvSpPr>
            <p:spPr>
              <a:xfrm>
                <a:off x="2928960" y="49244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9" name=""/>
              <p:cNvSpPr/>
              <p:nvPr/>
            </p:nvSpPr>
            <p:spPr>
              <a:xfrm>
                <a:off x="2928960" y="49244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0" name=""/>
              <p:cNvSpPr/>
              <p:nvPr/>
            </p:nvSpPr>
            <p:spPr>
              <a:xfrm>
                <a:off x="2062080" y="5138640"/>
                <a:ext cx="8668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1" name=""/>
              <p:cNvSpPr/>
              <p:nvPr/>
            </p:nvSpPr>
            <p:spPr>
              <a:xfrm>
                <a:off x="2928960" y="513864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2" name=""/>
              <p:cNvSpPr/>
              <p:nvPr/>
            </p:nvSpPr>
            <p:spPr>
              <a:xfrm>
                <a:off x="2928960" y="513864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3" name=""/>
              <p:cNvSpPr/>
              <p:nvPr/>
            </p:nvSpPr>
            <p:spPr>
              <a:xfrm>
                <a:off x="2062080" y="4932360"/>
                <a:ext cx="1764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4" name=""/>
              <p:cNvSpPr/>
              <p:nvPr/>
            </p:nvSpPr>
            <p:spPr>
              <a:xfrm>
                <a:off x="2928960" y="4932360"/>
                <a:ext cx="792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5" name=""/>
              <p:cNvSpPr/>
              <p:nvPr/>
            </p:nvSpPr>
            <p:spPr>
              <a:xfrm>
                <a:off x="2936880" y="49244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6" name=""/>
              <p:cNvSpPr/>
              <p:nvPr/>
            </p:nvSpPr>
            <p:spPr>
              <a:xfrm>
                <a:off x="2936880" y="49244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7" name=""/>
              <p:cNvSpPr/>
              <p:nvPr/>
            </p:nvSpPr>
            <p:spPr>
              <a:xfrm>
                <a:off x="2946240" y="4924440"/>
                <a:ext cx="7336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8" name=""/>
              <p:cNvSpPr/>
              <p:nvPr/>
            </p:nvSpPr>
            <p:spPr>
              <a:xfrm>
                <a:off x="3679920" y="49244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9" name=""/>
              <p:cNvSpPr/>
              <p:nvPr/>
            </p:nvSpPr>
            <p:spPr>
              <a:xfrm>
                <a:off x="3679920" y="49244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0" name=""/>
              <p:cNvSpPr/>
              <p:nvPr/>
            </p:nvSpPr>
            <p:spPr>
              <a:xfrm>
                <a:off x="2936880" y="51386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1" name=""/>
              <p:cNvSpPr/>
              <p:nvPr/>
            </p:nvSpPr>
            <p:spPr>
              <a:xfrm>
                <a:off x="2936880" y="51386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2" name=""/>
              <p:cNvSpPr/>
              <p:nvPr/>
            </p:nvSpPr>
            <p:spPr>
              <a:xfrm>
                <a:off x="2946240" y="5138640"/>
                <a:ext cx="7336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3" name=""/>
              <p:cNvSpPr/>
              <p:nvPr/>
            </p:nvSpPr>
            <p:spPr>
              <a:xfrm>
                <a:off x="3679920" y="51386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4" name=""/>
              <p:cNvSpPr/>
              <p:nvPr/>
            </p:nvSpPr>
            <p:spPr>
              <a:xfrm>
                <a:off x="3679920" y="51386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5" name=""/>
              <p:cNvSpPr/>
              <p:nvPr/>
            </p:nvSpPr>
            <p:spPr>
              <a:xfrm>
                <a:off x="2936880" y="4932360"/>
                <a:ext cx="936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6" name=""/>
              <p:cNvSpPr/>
              <p:nvPr/>
            </p:nvSpPr>
            <p:spPr>
              <a:xfrm>
                <a:off x="3679920" y="4932360"/>
                <a:ext cx="936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7" name=""/>
              <p:cNvSpPr/>
              <p:nvPr/>
            </p:nvSpPr>
            <p:spPr>
              <a:xfrm>
                <a:off x="3689280" y="49244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8" name=""/>
              <p:cNvSpPr/>
              <p:nvPr/>
            </p:nvSpPr>
            <p:spPr>
              <a:xfrm>
                <a:off x="3689280" y="49244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9" name=""/>
              <p:cNvSpPr/>
              <p:nvPr/>
            </p:nvSpPr>
            <p:spPr>
              <a:xfrm>
                <a:off x="3697200" y="4924440"/>
                <a:ext cx="841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0" name=""/>
              <p:cNvSpPr/>
              <p:nvPr/>
            </p:nvSpPr>
            <p:spPr>
              <a:xfrm>
                <a:off x="4538520" y="49244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1" name=""/>
              <p:cNvSpPr/>
              <p:nvPr/>
            </p:nvSpPr>
            <p:spPr>
              <a:xfrm>
                <a:off x="4538520" y="49244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2" name=""/>
              <p:cNvSpPr/>
              <p:nvPr/>
            </p:nvSpPr>
            <p:spPr>
              <a:xfrm>
                <a:off x="3689280" y="513864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3" name=""/>
              <p:cNvSpPr/>
              <p:nvPr/>
            </p:nvSpPr>
            <p:spPr>
              <a:xfrm>
                <a:off x="3689280" y="513864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4" name=""/>
              <p:cNvSpPr/>
              <p:nvPr/>
            </p:nvSpPr>
            <p:spPr>
              <a:xfrm>
                <a:off x="3697200" y="5138640"/>
                <a:ext cx="8413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5" name=""/>
              <p:cNvSpPr/>
              <p:nvPr/>
            </p:nvSpPr>
            <p:spPr>
              <a:xfrm>
                <a:off x="4538520" y="513864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6" name=""/>
              <p:cNvSpPr/>
              <p:nvPr/>
            </p:nvSpPr>
            <p:spPr>
              <a:xfrm>
                <a:off x="4538520" y="513864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7" name=""/>
              <p:cNvSpPr/>
              <p:nvPr/>
            </p:nvSpPr>
            <p:spPr>
              <a:xfrm>
                <a:off x="3689280" y="4932360"/>
                <a:ext cx="792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8" name=""/>
              <p:cNvSpPr/>
              <p:nvPr/>
            </p:nvSpPr>
            <p:spPr>
              <a:xfrm>
                <a:off x="4538520" y="4932360"/>
                <a:ext cx="792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9" name=""/>
              <p:cNvSpPr/>
              <p:nvPr/>
            </p:nvSpPr>
            <p:spPr>
              <a:xfrm>
                <a:off x="4546440" y="492444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0" name=""/>
              <p:cNvSpPr/>
              <p:nvPr/>
            </p:nvSpPr>
            <p:spPr>
              <a:xfrm>
                <a:off x="4546440" y="492444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1" name=""/>
              <p:cNvSpPr/>
              <p:nvPr/>
            </p:nvSpPr>
            <p:spPr>
              <a:xfrm>
                <a:off x="4556160" y="4924440"/>
                <a:ext cx="841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2" name=""/>
              <p:cNvSpPr/>
              <p:nvPr/>
            </p:nvSpPr>
            <p:spPr>
              <a:xfrm>
                <a:off x="5397480" y="49244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3" name=""/>
              <p:cNvSpPr/>
              <p:nvPr/>
            </p:nvSpPr>
            <p:spPr>
              <a:xfrm>
                <a:off x="5397480" y="49244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4" name=""/>
              <p:cNvSpPr/>
              <p:nvPr/>
            </p:nvSpPr>
            <p:spPr>
              <a:xfrm>
                <a:off x="4546440" y="51386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5" name=""/>
              <p:cNvSpPr/>
              <p:nvPr/>
            </p:nvSpPr>
            <p:spPr>
              <a:xfrm>
                <a:off x="4546440" y="51386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36" name=""/>
            <p:cNvGrpSpPr/>
            <p:nvPr/>
          </p:nvGrpSpPr>
          <p:grpSpPr>
            <a:xfrm>
              <a:off x="2062080" y="4924440"/>
              <a:ext cx="3987720" cy="893880"/>
              <a:chOff x="2062080" y="4924440"/>
              <a:chExt cx="3987720" cy="893880"/>
            </a:xfrm>
          </p:grpSpPr>
          <p:sp>
            <p:nvSpPr>
              <p:cNvPr id="3737" name=""/>
              <p:cNvSpPr/>
              <p:nvPr/>
            </p:nvSpPr>
            <p:spPr>
              <a:xfrm>
                <a:off x="4556160" y="5138640"/>
                <a:ext cx="8413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8" name=""/>
              <p:cNvSpPr/>
              <p:nvPr/>
            </p:nvSpPr>
            <p:spPr>
              <a:xfrm>
                <a:off x="5397480" y="513864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9" name=""/>
              <p:cNvSpPr/>
              <p:nvPr/>
            </p:nvSpPr>
            <p:spPr>
              <a:xfrm>
                <a:off x="5397480" y="513864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0" name=""/>
              <p:cNvSpPr/>
              <p:nvPr/>
            </p:nvSpPr>
            <p:spPr>
              <a:xfrm>
                <a:off x="4546440" y="4932360"/>
                <a:ext cx="972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1" name=""/>
              <p:cNvSpPr/>
              <p:nvPr/>
            </p:nvSpPr>
            <p:spPr>
              <a:xfrm>
                <a:off x="5397480" y="4932360"/>
                <a:ext cx="792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2" name=""/>
              <p:cNvSpPr/>
              <p:nvPr/>
            </p:nvSpPr>
            <p:spPr>
              <a:xfrm>
                <a:off x="5405400" y="492444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3" name=""/>
              <p:cNvSpPr/>
              <p:nvPr/>
            </p:nvSpPr>
            <p:spPr>
              <a:xfrm>
                <a:off x="5405400" y="492444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4" name=""/>
              <p:cNvSpPr/>
              <p:nvPr/>
            </p:nvSpPr>
            <p:spPr>
              <a:xfrm>
                <a:off x="5415120" y="4924440"/>
                <a:ext cx="6174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5" name=""/>
              <p:cNvSpPr/>
              <p:nvPr/>
            </p:nvSpPr>
            <p:spPr>
              <a:xfrm>
                <a:off x="6032520" y="4924440"/>
                <a:ext cx="17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6" name=""/>
              <p:cNvSpPr/>
              <p:nvPr/>
            </p:nvSpPr>
            <p:spPr>
              <a:xfrm>
                <a:off x="5405400" y="51386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7" name=""/>
              <p:cNvSpPr/>
              <p:nvPr/>
            </p:nvSpPr>
            <p:spPr>
              <a:xfrm>
                <a:off x="5405400" y="51386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8" name=""/>
              <p:cNvSpPr/>
              <p:nvPr/>
            </p:nvSpPr>
            <p:spPr>
              <a:xfrm>
                <a:off x="5415120" y="5138640"/>
                <a:ext cx="617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9" name=""/>
              <p:cNvSpPr/>
              <p:nvPr/>
            </p:nvSpPr>
            <p:spPr>
              <a:xfrm>
                <a:off x="6032520" y="513864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0" name=""/>
              <p:cNvSpPr/>
              <p:nvPr/>
            </p:nvSpPr>
            <p:spPr>
              <a:xfrm>
                <a:off x="5405400" y="4932360"/>
                <a:ext cx="972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1" name=""/>
              <p:cNvSpPr/>
              <p:nvPr/>
            </p:nvSpPr>
            <p:spPr>
              <a:xfrm>
                <a:off x="6032520" y="4932360"/>
                <a:ext cx="1728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2" name=""/>
              <p:cNvSpPr/>
              <p:nvPr/>
            </p:nvSpPr>
            <p:spPr>
              <a:xfrm>
                <a:off x="2313360" y="5157720"/>
                <a:ext cx="464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ampani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3" name=""/>
              <p:cNvSpPr/>
              <p:nvPr/>
            </p:nvSpPr>
            <p:spPr>
              <a:xfrm>
                <a:off x="2752200" y="51577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4" name=""/>
              <p:cNvSpPr/>
              <p:nvPr/>
            </p:nvSpPr>
            <p:spPr>
              <a:xfrm>
                <a:off x="3181320" y="5157720"/>
                <a:ext cx="198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61,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5" name=""/>
              <p:cNvSpPr/>
              <p:nvPr/>
            </p:nvSpPr>
            <p:spPr>
              <a:xfrm>
                <a:off x="3368160" y="51577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6" name=""/>
              <p:cNvSpPr/>
              <p:nvPr/>
            </p:nvSpPr>
            <p:spPr>
              <a:xfrm>
                <a:off x="3931920" y="5157720"/>
                <a:ext cx="198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7,9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7" name=""/>
              <p:cNvSpPr/>
              <p:nvPr/>
            </p:nvSpPr>
            <p:spPr>
              <a:xfrm>
                <a:off x="4118760" y="51577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8" name=""/>
              <p:cNvSpPr/>
              <p:nvPr/>
            </p:nvSpPr>
            <p:spPr>
              <a:xfrm>
                <a:off x="4790880" y="5157720"/>
                <a:ext cx="198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2,8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9" name=""/>
              <p:cNvSpPr/>
              <p:nvPr/>
            </p:nvSpPr>
            <p:spPr>
              <a:xfrm>
                <a:off x="4977720" y="51577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0" name=""/>
              <p:cNvSpPr/>
              <p:nvPr/>
            </p:nvSpPr>
            <p:spPr>
              <a:xfrm>
                <a:off x="5649840" y="5157720"/>
                <a:ext cx="14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,7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1" name=""/>
              <p:cNvSpPr/>
              <p:nvPr/>
            </p:nvSpPr>
            <p:spPr>
              <a:xfrm>
                <a:off x="5784120" y="51577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2" name=""/>
              <p:cNvSpPr/>
              <p:nvPr/>
            </p:nvSpPr>
            <p:spPr>
              <a:xfrm>
                <a:off x="2062080" y="5148360"/>
                <a:ext cx="8668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3" name=""/>
              <p:cNvSpPr/>
              <p:nvPr/>
            </p:nvSpPr>
            <p:spPr>
              <a:xfrm>
                <a:off x="2928960" y="51483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4" name=""/>
              <p:cNvSpPr/>
              <p:nvPr/>
            </p:nvSpPr>
            <p:spPr>
              <a:xfrm>
                <a:off x="2928960" y="51483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5" name=""/>
              <p:cNvSpPr/>
              <p:nvPr/>
            </p:nvSpPr>
            <p:spPr>
              <a:xfrm>
                <a:off x="2062080" y="5362560"/>
                <a:ext cx="8668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6" name=""/>
              <p:cNvSpPr/>
              <p:nvPr/>
            </p:nvSpPr>
            <p:spPr>
              <a:xfrm>
                <a:off x="2928960" y="53625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7" name=""/>
              <p:cNvSpPr/>
              <p:nvPr/>
            </p:nvSpPr>
            <p:spPr>
              <a:xfrm>
                <a:off x="2928960" y="53625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8" name=""/>
              <p:cNvSpPr/>
              <p:nvPr/>
            </p:nvSpPr>
            <p:spPr>
              <a:xfrm>
                <a:off x="2062080" y="5156280"/>
                <a:ext cx="1764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9" name=""/>
              <p:cNvSpPr/>
              <p:nvPr/>
            </p:nvSpPr>
            <p:spPr>
              <a:xfrm>
                <a:off x="2928960" y="5156280"/>
                <a:ext cx="792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0" name=""/>
              <p:cNvSpPr/>
              <p:nvPr/>
            </p:nvSpPr>
            <p:spPr>
              <a:xfrm>
                <a:off x="2936880" y="51483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1" name=""/>
              <p:cNvSpPr/>
              <p:nvPr/>
            </p:nvSpPr>
            <p:spPr>
              <a:xfrm>
                <a:off x="2936880" y="51483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2" name=""/>
              <p:cNvSpPr/>
              <p:nvPr/>
            </p:nvSpPr>
            <p:spPr>
              <a:xfrm>
                <a:off x="2946240" y="5148360"/>
                <a:ext cx="7336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3" name=""/>
              <p:cNvSpPr/>
              <p:nvPr/>
            </p:nvSpPr>
            <p:spPr>
              <a:xfrm>
                <a:off x="3679920" y="51483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4" name=""/>
              <p:cNvSpPr/>
              <p:nvPr/>
            </p:nvSpPr>
            <p:spPr>
              <a:xfrm>
                <a:off x="3679920" y="51483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5" name=""/>
              <p:cNvSpPr/>
              <p:nvPr/>
            </p:nvSpPr>
            <p:spPr>
              <a:xfrm>
                <a:off x="2936880" y="53625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6" name=""/>
              <p:cNvSpPr/>
              <p:nvPr/>
            </p:nvSpPr>
            <p:spPr>
              <a:xfrm>
                <a:off x="2936880" y="53625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7" name=""/>
              <p:cNvSpPr/>
              <p:nvPr/>
            </p:nvSpPr>
            <p:spPr>
              <a:xfrm>
                <a:off x="2946240" y="5362560"/>
                <a:ext cx="7336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8" name=""/>
              <p:cNvSpPr/>
              <p:nvPr/>
            </p:nvSpPr>
            <p:spPr>
              <a:xfrm>
                <a:off x="3679920" y="53625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9" name=""/>
              <p:cNvSpPr/>
              <p:nvPr/>
            </p:nvSpPr>
            <p:spPr>
              <a:xfrm>
                <a:off x="3679920" y="53625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0" name=""/>
              <p:cNvSpPr/>
              <p:nvPr/>
            </p:nvSpPr>
            <p:spPr>
              <a:xfrm>
                <a:off x="2936880" y="5156280"/>
                <a:ext cx="936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1" name=""/>
              <p:cNvSpPr/>
              <p:nvPr/>
            </p:nvSpPr>
            <p:spPr>
              <a:xfrm>
                <a:off x="3679920" y="5156280"/>
                <a:ext cx="936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2" name=""/>
              <p:cNvSpPr/>
              <p:nvPr/>
            </p:nvSpPr>
            <p:spPr>
              <a:xfrm>
                <a:off x="3689280" y="51483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3" name=""/>
              <p:cNvSpPr/>
              <p:nvPr/>
            </p:nvSpPr>
            <p:spPr>
              <a:xfrm>
                <a:off x="3689280" y="51483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4" name=""/>
              <p:cNvSpPr/>
              <p:nvPr/>
            </p:nvSpPr>
            <p:spPr>
              <a:xfrm>
                <a:off x="3697200" y="5148360"/>
                <a:ext cx="841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5" name=""/>
              <p:cNvSpPr/>
              <p:nvPr/>
            </p:nvSpPr>
            <p:spPr>
              <a:xfrm>
                <a:off x="4538520" y="51483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6" name=""/>
              <p:cNvSpPr/>
              <p:nvPr/>
            </p:nvSpPr>
            <p:spPr>
              <a:xfrm>
                <a:off x="4538520" y="51483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7" name=""/>
              <p:cNvSpPr/>
              <p:nvPr/>
            </p:nvSpPr>
            <p:spPr>
              <a:xfrm>
                <a:off x="3689280" y="53625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8" name=""/>
              <p:cNvSpPr/>
              <p:nvPr/>
            </p:nvSpPr>
            <p:spPr>
              <a:xfrm>
                <a:off x="3689280" y="53625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9" name=""/>
              <p:cNvSpPr/>
              <p:nvPr/>
            </p:nvSpPr>
            <p:spPr>
              <a:xfrm>
                <a:off x="3697200" y="5362560"/>
                <a:ext cx="841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0" name=""/>
              <p:cNvSpPr/>
              <p:nvPr/>
            </p:nvSpPr>
            <p:spPr>
              <a:xfrm>
                <a:off x="4538520" y="53625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1" name=""/>
              <p:cNvSpPr/>
              <p:nvPr/>
            </p:nvSpPr>
            <p:spPr>
              <a:xfrm>
                <a:off x="4538520" y="53625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2" name=""/>
              <p:cNvSpPr/>
              <p:nvPr/>
            </p:nvSpPr>
            <p:spPr>
              <a:xfrm>
                <a:off x="3689280" y="5156280"/>
                <a:ext cx="792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3" name=""/>
              <p:cNvSpPr/>
              <p:nvPr/>
            </p:nvSpPr>
            <p:spPr>
              <a:xfrm>
                <a:off x="4538520" y="5156280"/>
                <a:ext cx="792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4" name=""/>
              <p:cNvSpPr/>
              <p:nvPr/>
            </p:nvSpPr>
            <p:spPr>
              <a:xfrm>
                <a:off x="4546440" y="514836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5" name=""/>
              <p:cNvSpPr/>
              <p:nvPr/>
            </p:nvSpPr>
            <p:spPr>
              <a:xfrm>
                <a:off x="4546440" y="514836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6" name=""/>
              <p:cNvSpPr/>
              <p:nvPr/>
            </p:nvSpPr>
            <p:spPr>
              <a:xfrm>
                <a:off x="4556160" y="5148360"/>
                <a:ext cx="841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7" name=""/>
              <p:cNvSpPr/>
              <p:nvPr/>
            </p:nvSpPr>
            <p:spPr>
              <a:xfrm>
                <a:off x="5397480" y="51483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8" name=""/>
              <p:cNvSpPr/>
              <p:nvPr/>
            </p:nvSpPr>
            <p:spPr>
              <a:xfrm>
                <a:off x="5397480" y="51483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9" name=""/>
              <p:cNvSpPr/>
              <p:nvPr/>
            </p:nvSpPr>
            <p:spPr>
              <a:xfrm>
                <a:off x="4546440" y="536256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0" name=""/>
              <p:cNvSpPr/>
              <p:nvPr/>
            </p:nvSpPr>
            <p:spPr>
              <a:xfrm>
                <a:off x="4546440" y="536256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1" name=""/>
              <p:cNvSpPr/>
              <p:nvPr/>
            </p:nvSpPr>
            <p:spPr>
              <a:xfrm>
                <a:off x="4556160" y="5362560"/>
                <a:ext cx="841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2" name=""/>
              <p:cNvSpPr/>
              <p:nvPr/>
            </p:nvSpPr>
            <p:spPr>
              <a:xfrm>
                <a:off x="5397480" y="53625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3" name=""/>
              <p:cNvSpPr/>
              <p:nvPr/>
            </p:nvSpPr>
            <p:spPr>
              <a:xfrm>
                <a:off x="5397480" y="53625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4" name=""/>
              <p:cNvSpPr/>
              <p:nvPr/>
            </p:nvSpPr>
            <p:spPr>
              <a:xfrm>
                <a:off x="4546440" y="5156280"/>
                <a:ext cx="972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5" name=""/>
              <p:cNvSpPr/>
              <p:nvPr/>
            </p:nvSpPr>
            <p:spPr>
              <a:xfrm>
                <a:off x="5397480" y="5156280"/>
                <a:ext cx="792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6" name=""/>
              <p:cNvSpPr/>
              <p:nvPr/>
            </p:nvSpPr>
            <p:spPr>
              <a:xfrm>
                <a:off x="5405400" y="514836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7" name=""/>
              <p:cNvSpPr/>
              <p:nvPr/>
            </p:nvSpPr>
            <p:spPr>
              <a:xfrm>
                <a:off x="5405400" y="514836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8" name=""/>
              <p:cNvSpPr/>
              <p:nvPr/>
            </p:nvSpPr>
            <p:spPr>
              <a:xfrm>
                <a:off x="5415120" y="5148360"/>
                <a:ext cx="6174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9" name=""/>
              <p:cNvSpPr/>
              <p:nvPr/>
            </p:nvSpPr>
            <p:spPr>
              <a:xfrm>
                <a:off x="6032520" y="5148360"/>
                <a:ext cx="17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0" name=""/>
              <p:cNvSpPr/>
              <p:nvPr/>
            </p:nvSpPr>
            <p:spPr>
              <a:xfrm>
                <a:off x="5405400" y="536256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1" name=""/>
              <p:cNvSpPr/>
              <p:nvPr/>
            </p:nvSpPr>
            <p:spPr>
              <a:xfrm>
                <a:off x="5405400" y="536256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2" name=""/>
              <p:cNvSpPr/>
              <p:nvPr/>
            </p:nvSpPr>
            <p:spPr>
              <a:xfrm>
                <a:off x="5415120" y="5362560"/>
                <a:ext cx="6174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3" name=""/>
              <p:cNvSpPr/>
              <p:nvPr/>
            </p:nvSpPr>
            <p:spPr>
              <a:xfrm>
                <a:off x="6032520" y="5362560"/>
                <a:ext cx="17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4" name=""/>
              <p:cNvSpPr/>
              <p:nvPr/>
            </p:nvSpPr>
            <p:spPr>
              <a:xfrm>
                <a:off x="5405400" y="5156280"/>
                <a:ext cx="972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5" name=""/>
              <p:cNvSpPr/>
              <p:nvPr/>
            </p:nvSpPr>
            <p:spPr>
              <a:xfrm>
                <a:off x="6032520" y="5156280"/>
                <a:ext cx="1728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6" name=""/>
              <p:cNvSpPr/>
              <p:nvPr/>
            </p:nvSpPr>
            <p:spPr>
              <a:xfrm>
                <a:off x="2314440" y="5381640"/>
                <a:ext cx="284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ugli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7" name=""/>
              <p:cNvSpPr/>
              <p:nvPr/>
            </p:nvSpPr>
            <p:spPr>
              <a:xfrm>
                <a:off x="2580480" y="53816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8" name=""/>
              <p:cNvSpPr/>
              <p:nvPr/>
            </p:nvSpPr>
            <p:spPr>
              <a:xfrm>
                <a:off x="3181320" y="5381640"/>
                <a:ext cx="198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8,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9" name=""/>
              <p:cNvSpPr/>
              <p:nvPr/>
            </p:nvSpPr>
            <p:spPr>
              <a:xfrm>
                <a:off x="3368160" y="53816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0" name=""/>
              <p:cNvSpPr/>
              <p:nvPr/>
            </p:nvSpPr>
            <p:spPr>
              <a:xfrm>
                <a:off x="3931920" y="5381640"/>
                <a:ext cx="198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8,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1" name=""/>
              <p:cNvSpPr/>
              <p:nvPr/>
            </p:nvSpPr>
            <p:spPr>
              <a:xfrm>
                <a:off x="4118760" y="53816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2" name=""/>
              <p:cNvSpPr/>
              <p:nvPr/>
            </p:nvSpPr>
            <p:spPr>
              <a:xfrm>
                <a:off x="4790880" y="5381640"/>
                <a:ext cx="198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9,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3" name=""/>
              <p:cNvSpPr/>
              <p:nvPr/>
            </p:nvSpPr>
            <p:spPr>
              <a:xfrm>
                <a:off x="4977720" y="53816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4" name=""/>
              <p:cNvSpPr/>
              <p:nvPr/>
            </p:nvSpPr>
            <p:spPr>
              <a:xfrm>
                <a:off x="5649840" y="5381640"/>
                <a:ext cx="14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,8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5" name=""/>
              <p:cNvSpPr/>
              <p:nvPr/>
            </p:nvSpPr>
            <p:spPr>
              <a:xfrm>
                <a:off x="5784120" y="53816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6" name=""/>
              <p:cNvSpPr/>
              <p:nvPr/>
            </p:nvSpPr>
            <p:spPr>
              <a:xfrm>
                <a:off x="2062080" y="5370480"/>
                <a:ext cx="8668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7" name=""/>
              <p:cNvSpPr/>
              <p:nvPr/>
            </p:nvSpPr>
            <p:spPr>
              <a:xfrm>
                <a:off x="2928960" y="537048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8" name=""/>
              <p:cNvSpPr/>
              <p:nvPr/>
            </p:nvSpPr>
            <p:spPr>
              <a:xfrm>
                <a:off x="2928960" y="537048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9" name=""/>
              <p:cNvSpPr/>
              <p:nvPr/>
            </p:nvSpPr>
            <p:spPr>
              <a:xfrm>
                <a:off x="2062080" y="5586480"/>
                <a:ext cx="8668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0" name=""/>
              <p:cNvSpPr/>
              <p:nvPr/>
            </p:nvSpPr>
            <p:spPr>
              <a:xfrm>
                <a:off x="2928960" y="55864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1" name=""/>
              <p:cNvSpPr/>
              <p:nvPr/>
            </p:nvSpPr>
            <p:spPr>
              <a:xfrm>
                <a:off x="2928960" y="55864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2" name=""/>
              <p:cNvSpPr/>
              <p:nvPr/>
            </p:nvSpPr>
            <p:spPr>
              <a:xfrm>
                <a:off x="2062080" y="5380200"/>
                <a:ext cx="1764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3" name=""/>
              <p:cNvSpPr/>
              <p:nvPr/>
            </p:nvSpPr>
            <p:spPr>
              <a:xfrm>
                <a:off x="2928960" y="5380200"/>
                <a:ext cx="792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4" name=""/>
              <p:cNvSpPr/>
              <p:nvPr/>
            </p:nvSpPr>
            <p:spPr>
              <a:xfrm>
                <a:off x="2936880" y="537048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5" name=""/>
              <p:cNvSpPr/>
              <p:nvPr/>
            </p:nvSpPr>
            <p:spPr>
              <a:xfrm>
                <a:off x="2936880" y="537048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6" name=""/>
              <p:cNvSpPr/>
              <p:nvPr/>
            </p:nvSpPr>
            <p:spPr>
              <a:xfrm>
                <a:off x="2946240" y="5370480"/>
                <a:ext cx="7336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7" name=""/>
              <p:cNvSpPr/>
              <p:nvPr/>
            </p:nvSpPr>
            <p:spPr>
              <a:xfrm>
                <a:off x="3679920" y="537048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8" name=""/>
              <p:cNvSpPr/>
              <p:nvPr/>
            </p:nvSpPr>
            <p:spPr>
              <a:xfrm>
                <a:off x="3679920" y="537048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9" name=""/>
              <p:cNvSpPr/>
              <p:nvPr/>
            </p:nvSpPr>
            <p:spPr>
              <a:xfrm>
                <a:off x="2936880" y="55864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0" name=""/>
              <p:cNvSpPr/>
              <p:nvPr/>
            </p:nvSpPr>
            <p:spPr>
              <a:xfrm>
                <a:off x="2936880" y="55864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1" name=""/>
              <p:cNvSpPr/>
              <p:nvPr/>
            </p:nvSpPr>
            <p:spPr>
              <a:xfrm>
                <a:off x="2946240" y="5586480"/>
                <a:ext cx="7336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2" name=""/>
              <p:cNvSpPr/>
              <p:nvPr/>
            </p:nvSpPr>
            <p:spPr>
              <a:xfrm>
                <a:off x="3679920" y="55864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3" name=""/>
              <p:cNvSpPr/>
              <p:nvPr/>
            </p:nvSpPr>
            <p:spPr>
              <a:xfrm>
                <a:off x="3679920" y="55864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4" name=""/>
              <p:cNvSpPr/>
              <p:nvPr/>
            </p:nvSpPr>
            <p:spPr>
              <a:xfrm>
                <a:off x="2936880" y="5380200"/>
                <a:ext cx="936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5" name=""/>
              <p:cNvSpPr/>
              <p:nvPr/>
            </p:nvSpPr>
            <p:spPr>
              <a:xfrm>
                <a:off x="3679920" y="5380200"/>
                <a:ext cx="936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6" name=""/>
              <p:cNvSpPr/>
              <p:nvPr/>
            </p:nvSpPr>
            <p:spPr>
              <a:xfrm>
                <a:off x="3689280" y="537048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7" name=""/>
              <p:cNvSpPr/>
              <p:nvPr/>
            </p:nvSpPr>
            <p:spPr>
              <a:xfrm>
                <a:off x="3689280" y="537048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8" name=""/>
              <p:cNvSpPr/>
              <p:nvPr/>
            </p:nvSpPr>
            <p:spPr>
              <a:xfrm>
                <a:off x="3697200" y="5370480"/>
                <a:ext cx="8413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9" name=""/>
              <p:cNvSpPr/>
              <p:nvPr/>
            </p:nvSpPr>
            <p:spPr>
              <a:xfrm>
                <a:off x="4538520" y="537048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0" name=""/>
              <p:cNvSpPr/>
              <p:nvPr/>
            </p:nvSpPr>
            <p:spPr>
              <a:xfrm>
                <a:off x="4538520" y="537048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1" name=""/>
              <p:cNvSpPr/>
              <p:nvPr/>
            </p:nvSpPr>
            <p:spPr>
              <a:xfrm>
                <a:off x="3689280" y="55864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2" name=""/>
              <p:cNvSpPr/>
              <p:nvPr/>
            </p:nvSpPr>
            <p:spPr>
              <a:xfrm>
                <a:off x="3689280" y="55864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3" name=""/>
              <p:cNvSpPr/>
              <p:nvPr/>
            </p:nvSpPr>
            <p:spPr>
              <a:xfrm>
                <a:off x="3697200" y="5586480"/>
                <a:ext cx="841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4" name=""/>
              <p:cNvSpPr/>
              <p:nvPr/>
            </p:nvSpPr>
            <p:spPr>
              <a:xfrm>
                <a:off x="4538520" y="55864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5" name=""/>
              <p:cNvSpPr/>
              <p:nvPr/>
            </p:nvSpPr>
            <p:spPr>
              <a:xfrm>
                <a:off x="4538520" y="55864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6" name=""/>
              <p:cNvSpPr/>
              <p:nvPr/>
            </p:nvSpPr>
            <p:spPr>
              <a:xfrm>
                <a:off x="3689280" y="5380200"/>
                <a:ext cx="792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7" name=""/>
              <p:cNvSpPr/>
              <p:nvPr/>
            </p:nvSpPr>
            <p:spPr>
              <a:xfrm>
                <a:off x="4538520" y="5380200"/>
                <a:ext cx="792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8" name=""/>
              <p:cNvSpPr/>
              <p:nvPr/>
            </p:nvSpPr>
            <p:spPr>
              <a:xfrm>
                <a:off x="4546440" y="537048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9" name=""/>
              <p:cNvSpPr/>
              <p:nvPr/>
            </p:nvSpPr>
            <p:spPr>
              <a:xfrm>
                <a:off x="4546440" y="537048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0" name=""/>
              <p:cNvSpPr/>
              <p:nvPr/>
            </p:nvSpPr>
            <p:spPr>
              <a:xfrm>
                <a:off x="4556160" y="5370480"/>
                <a:ext cx="8413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1" name=""/>
              <p:cNvSpPr/>
              <p:nvPr/>
            </p:nvSpPr>
            <p:spPr>
              <a:xfrm>
                <a:off x="5397480" y="537048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2" name=""/>
              <p:cNvSpPr/>
              <p:nvPr/>
            </p:nvSpPr>
            <p:spPr>
              <a:xfrm>
                <a:off x="5397480" y="537048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3" name=""/>
              <p:cNvSpPr/>
              <p:nvPr/>
            </p:nvSpPr>
            <p:spPr>
              <a:xfrm>
                <a:off x="4546440" y="558648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4" name=""/>
              <p:cNvSpPr/>
              <p:nvPr/>
            </p:nvSpPr>
            <p:spPr>
              <a:xfrm>
                <a:off x="4546440" y="558648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5" name=""/>
              <p:cNvSpPr/>
              <p:nvPr/>
            </p:nvSpPr>
            <p:spPr>
              <a:xfrm>
                <a:off x="4556160" y="5586480"/>
                <a:ext cx="841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6" name=""/>
              <p:cNvSpPr/>
              <p:nvPr/>
            </p:nvSpPr>
            <p:spPr>
              <a:xfrm>
                <a:off x="5397480" y="55864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7" name=""/>
              <p:cNvSpPr/>
              <p:nvPr/>
            </p:nvSpPr>
            <p:spPr>
              <a:xfrm>
                <a:off x="5397480" y="55864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8" name=""/>
              <p:cNvSpPr/>
              <p:nvPr/>
            </p:nvSpPr>
            <p:spPr>
              <a:xfrm>
                <a:off x="4546440" y="5380200"/>
                <a:ext cx="972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9" name=""/>
              <p:cNvSpPr/>
              <p:nvPr/>
            </p:nvSpPr>
            <p:spPr>
              <a:xfrm>
                <a:off x="5397480" y="5380200"/>
                <a:ext cx="792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0" name=""/>
              <p:cNvSpPr/>
              <p:nvPr/>
            </p:nvSpPr>
            <p:spPr>
              <a:xfrm>
                <a:off x="5405400" y="537048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1" name=""/>
              <p:cNvSpPr/>
              <p:nvPr/>
            </p:nvSpPr>
            <p:spPr>
              <a:xfrm>
                <a:off x="5405400" y="537048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2" name=""/>
              <p:cNvSpPr/>
              <p:nvPr/>
            </p:nvSpPr>
            <p:spPr>
              <a:xfrm>
                <a:off x="5415120" y="5370480"/>
                <a:ext cx="617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3" name=""/>
              <p:cNvSpPr/>
              <p:nvPr/>
            </p:nvSpPr>
            <p:spPr>
              <a:xfrm>
                <a:off x="6032520" y="537048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4" name=""/>
              <p:cNvSpPr/>
              <p:nvPr/>
            </p:nvSpPr>
            <p:spPr>
              <a:xfrm>
                <a:off x="5405400" y="558648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5" name=""/>
              <p:cNvSpPr/>
              <p:nvPr/>
            </p:nvSpPr>
            <p:spPr>
              <a:xfrm>
                <a:off x="5405400" y="558648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6" name=""/>
              <p:cNvSpPr/>
              <p:nvPr/>
            </p:nvSpPr>
            <p:spPr>
              <a:xfrm>
                <a:off x="5415120" y="5586480"/>
                <a:ext cx="6174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7" name=""/>
              <p:cNvSpPr/>
              <p:nvPr/>
            </p:nvSpPr>
            <p:spPr>
              <a:xfrm>
                <a:off x="6032520" y="5586480"/>
                <a:ext cx="17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8" name=""/>
              <p:cNvSpPr/>
              <p:nvPr/>
            </p:nvSpPr>
            <p:spPr>
              <a:xfrm>
                <a:off x="5405400" y="5380200"/>
                <a:ext cx="972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9" name=""/>
              <p:cNvSpPr/>
              <p:nvPr/>
            </p:nvSpPr>
            <p:spPr>
              <a:xfrm>
                <a:off x="6032520" y="5380200"/>
                <a:ext cx="1728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0" name=""/>
              <p:cNvSpPr/>
              <p:nvPr/>
            </p:nvSpPr>
            <p:spPr>
              <a:xfrm>
                <a:off x="2313720" y="5603760"/>
                <a:ext cx="439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Basilicat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1" name=""/>
              <p:cNvSpPr/>
              <p:nvPr/>
            </p:nvSpPr>
            <p:spPr>
              <a:xfrm>
                <a:off x="2725200" y="56037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2" name=""/>
              <p:cNvSpPr/>
              <p:nvPr/>
            </p:nvSpPr>
            <p:spPr>
              <a:xfrm>
                <a:off x="3181320" y="5603760"/>
                <a:ext cx="198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68,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3" name=""/>
              <p:cNvSpPr/>
              <p:nvPr/>
            </p:nvSpPr>
            <p:spPr>
              <a:xfrm>
                <a:off x="3368160" y="56037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4" name=""/>
              <p:cNvSpPr/>
              <p:nvPr/>
            </p:nvSpPr>
            <p:spPr>
              <a:xfrm>
                <a:off x="3931920" y="5603760"/>
                <a:ext cx="198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41,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5" name=""/>
              <p:cNvSpPr/>
              <p:nvPr/>
            </p:nvSpPr>
            <p:spPr>
              <a:xfrm>
                <a:off x="4118760" y="56037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6" name=""/>
              <p:cNvSpPr/>
              <p:nvPr/>
            </p:nvSpPr>
            <p:spPr>
              <a:xfrm>
                <a:off x="4790880" y="5603760"/>
                <a:ext cx="198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5,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7" name=""/>
              <p:cNvSpPr/>
              <p:nvPr/>
            </p:nvSpPr>
            <p:spPr>
              <a:xfrm>
                <a:off x="4977720" y="56037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8" name=""/>
              <p:cNvSpPr/>
              <p:nvPr/>
            </p:nvSpPr>
            <p:spPr>
              <a:xfrm>
                <a:off x="5649840" y="5603760"/>
                <a:ext cx="14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,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9" name=""/>
              <p:cNvSpPr/>
              <p:nvPr/>
            </p:nvSpPr>
            <p:spPr>
              <a:xfrm>
                <a:off x="5784120" y="560376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0" name=""/>
              <p:cNvSpPr/>
              <p:nvPr/>
            </p:nvSpPr>
            <p:spPr>
              <a:xfrm>
                <a:off x="2062080" y="5594400"/>
                <a:ext cx="8668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1" name=""/>
              <p:cNvSpPr/>
              <p:nvPr/>
            </p:nvSpPr>
            <p:spPr>
              <a:xfrm>
                <a:off x="2928960" y="55944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2" name=""/>
              <p:cNvSpPr/>
              <p:nvPr/>
            </p:nvSpPr>
            <p:spPr>
              <a:xfrm>
                <a:off x="2928960" y="55944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3" name=""/>
              <p:cNvSpPr/>
              <p:nvPr/>
            </p:nvSpPr>
            <p:spPr>
              <a:xfrm>
                <a:off x="2062080" y="5810400"/>
                <a:ext cx="8668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4" name=""/>
              <p:cNvSpPr/>
              <p:nvPr/>
            </p:nvSpPr>
            <p:spPr>
              <a:xfrm>
                <a:off x="2928960" y="58104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5" name=""/>
              <p:cNvSpPr/>
              <p:nvPr/>
            </p:nvSpPr>
            <p:spPr>
              <a:xfrm>
                <a:off x="2928960" y="58104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6" name=""/>
              <p:cNvSpPr/>
              <p:nvPr/>
            </p:nvSpPr>
            <p:spPr>
              <a:xfrm>
                <a:off x="2062080" y="5602320"/>
                <a:ext cx="17640" cy="208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7" name=""/>
              <p:cNvSpPr/>
              <p:nvPr/>
            </p:nvSpPr>
            <p:spPr>
              <a:xfrm>
                <a:off x="2928960" y="5602320"/>
                <a:ext cx="7920" cy="208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8" name=""/>
              <p:cNvSpPr/>
              <p:nvPr/>
            </p:nvSpPr>
            <p:spPr>
              <a:xfrm>
                <a:off x="2936880" y="55944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9" name=""/>
              <p:cNvSpPr/>
              <p:nvPr/>
            </p:nvSpPr>
            <p:spPr>
              <a:xfrm>
                <a:off x="2936880" y="55944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0" name=""/>
              <p:cNvSpPr/>
              <p:nvPr/>
            </p:nvSpPr>
            <p:spPr>
              <a:xfrm>
                <a:off x="2946240" y="5594400"/>
                <a:ext cx="7336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1" name=""/>
              <p:cNvSpPr/>
              <p:nvPr/>
            </p:nvSpPr>
            <p:spPr>
              <a:xfrm>
                <a:off x="3679920" y="55944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2" name=""/>
              <p:cNvSpPr/>
              <p:nvPr/>
            </p:nvSpPr>
            <p:spPr>
              <a:xfrm>
                <a:off x="3679920" y="55944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3" name=""/>
              <p:cNvSpPr/>
              <p:nvPr/>
            </p:nvSpPr>
            <p:spPr>
              <a:xfrm>
                <a:off x="2936880" y="58104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4" name=""/>
              <p:cNvSpPr/>
              <p:nvPr/>
            </p:nvSpPr>
            <p:spPr>
              <a:xfrm>
                <a:off x="2936880" y="58104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5" name=""/>
              <p:cNvSpPr/>
              <p:nvPr/>
            </p:nvSpPr>
            <p:spPr>
              <a:xfrm>
                <a:off x="2946240" y="5810400"/>
                <a:ext cx="7336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6" name=""/>
              <p:cNvSpPr/>
              <p:nvPr/>
            </p:nvSpPr>
            <p:spPr>
              <a:xfrm>
                <a:off x="3679920" y="58104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7" name=""/>
              <p:cNvSpPr/>
              <p:nvPr/>
            </p:nvSpPr>
            <p:spPr>
              <a:xfrm>
                <a:off x="3679920" y="58104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8" name=""/>
              <p:cNvSpPr/>
              <p:nvPr/>
            </p:nvSpPr>
            <p:spPr>
              <a:xfrm>
                <a:off x="2936880" y="5602320"/>
                <a:ext cx="9360" cy="208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9" name=""/>
              <p:cNvSpPr/>
              <p:nvPr/>
            </p:nvSpPr>
            <p:spPr>
              <a:xfrm>
                <a:off x="3679920" y="5602320"/>
                <a:ext cx="9360" cy="208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0" name=""/>
              <p:cNvSpPr/>
              <p:nvPr/>
            </p:nvSpPr>
            <p:spPr>
              <a:xfrm>
                <a:off x="3689280" y="55944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1" name=""/>
              <p:cNvSpPr/>
              <p:nvPr/>
            </p:nvSpPr>
            <p:spPr>
              <a:xfrm>
                <a:off x="3689280" y="55944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2" name=""/>
              <p:cNvSpPr/>
              <p:nvPr/>
            </p:nvSpPr>
            <p:spPr>
              <a:xfrm>
                <a:off x="3697200" y="5594400"/>
                <a:ext cx="841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3" name=""/>
              <p:cNvSpPr/>
              <p:nvPr/>
            </p:nvSpPr>
            <p:spPr>
              <a:xfrm>
                <a:off x="4538520" y="55944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4" name=""/>
              <p:cNvSpPr/>
              <p:nvPr/>
            </p:nvSpPr>
            <p:spPr>
              <a:xfrm>
                <a:off x="4538520" y="55944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5" name=""/>
              <p:cNvSpPr/>
              <p:nvPr/>
            </p:nvSpPr>
            <p:spPr>
              <a:xfrm>
                <a:off x="3689280" y="58104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6" name=""/>
              <p:cNvSpPr/>
              <p:nvPr/>
            </p:nvSpPr>
            <p:spPr>
              <a:xfrm>
                <a:off x="3689280" y="58104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7" name=""/>
              <p:cNvSpPr/>
              <p:nvPr/>
            </p:nvSpPr>
            <p:spPr>
              <a:xfrm>
                <a:off x="3697200" y="5810400"/>
                <a:ext cx="841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8" name=""/>
              <p:cNvSpPr/>
              <p:nvPr/>
            </p:nvSpPr>
            <p:spPr>
              <a:xfrm>
                <a:off x="4538520" y="58104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9" name=""/>
              <p:cNvSpPr/>
              <p:nvPr/>
            </p:nvSpPr>
            <p:spPr>
              <a:xfrm>
                <a:off x="4538520" y="58104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0" name=""/>
              <p:cNvSpPr/>
              <p:nvPr/>
            </p:nvSpPr>
            <p:spPr>
              <a:xfrm>
                <a:off x="3689280" y="5602320"/>
                <a:ext cx="7920" cy="208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1" name=""/>
              <p:cNvSpPr/>
              <p:nvPr/>
            </p:nvSpPr>
            <p:spPr>
              <a:xfrm>
                <a:off x="4538520" y="5602320"/>
                <a:ext cx="7920" cy="208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2" name=""/>
              <p:cNvSpPr/>
              <p:nvPr/>
            </p:nvSpPr>
            <p:spPr>
              <a:xfrm>
                <a:off x="4546440" y="559440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3" name=""/>
              <p:cNvSpPr/>
              <p:nvPr/>
            </p:nvSpPr>
            <p:spPr>
              <a:xfrm>
                <a:off x="4546440" y="559440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4" name=""/>
              <p:cNvSpPr/>
              <p:nvPr/>
            </p:nvSpPr>
            <p:spPr>
              <a:xfrm>
                <a:off x="4556160" y="5594400"/>
                <a:ext cx="841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5" name=""/>
              <p:cNvSpPr/>
              <p:nvPr/>
            </p:nvSpPr>
            <p:spPr>
              <a:xfrm>
                <a:off x="5397480" y="55944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6" name=""/>
              <p:cNvSpPr/>
              <p:nvPr/>
            </p:nvSpPr>
            <p:spPr>
              <a:xfrm>
                <a:off x="5397480" y="55944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7" name=""/>
              <p:cNvSpPr/>
              <p:nvPr/>
            </p:nvSpPr>
            <p:spPr>
              <a:xfrm>
                <a:off x="4546440" y="581040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8" name=""/>
              <p:cNvSpPr/>
              <p:nvPr/>
            </p:nvSpPr>
            <p:spPr>
              <a:xfrm>
                <a:off x="4546440" y="581040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9" name=""/>
              <p:cNvSpPr/>
              <p:nvPr/>
            </p:nvSpPr>
            <p:spPr>
              <a:xfrm>
                <a:off x="4556160" y="5810400"/>
                <a:ext cx="841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0" name=""/>
              <p:cNvSpPr/>
              <p:nvPr/>
            </p:nvSpPr>
            <p:spPr>
              <a:xfrm>
                <a:off x="5397480" y="58104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1" name=""/>
              <p:cNvSpPr/>
              <p:nvPr/>
            </p:nvSpPr>
            <p:spPr>
              <a:xfrm>
                <a:off x="5397480" y="58104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2" name=""/>
              <p:cNvSpPr/>
              <p:nvPr/>
            </p:nvSpPr>
            <p:spPr>
              <a:xfrm>
                <a:off x="4546440" y="5602320"/>
                <a:ext cx="9720" cy="208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3" name=""/>
              <p:cNvSpPr/>
              <p:nvPr/>
            </p:nvSpPr>
            <p:spPr>
              <a:xfrm>
                <a:off x="5397480" y="5602320"/>
                <a:ext cx="7920" cy="208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4" name=""/>
              <p:cNvSpPr/>
              <p:nvPr/>
            </p:nvSpPr>
            <p:spPr>
              <a:xfrm>
                <a:off x="5405400" y="559440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5" name=""/>
              <p:cNvSpPr/>
              <p:nvPr/>
            </p:nvSpPr>
            <p:spPr>
              <a:xfrm>
                <a:off x="5405400" y="559440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6" name=""/>
              <p:cNvSpPr/>
              <p:nvPr/>
            </p:nvSpPr>
            <p:spPr>
              <a:xfrm>
                <a:off x="5415120" y="5594400"/>
                <a:ext cx="6174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37" name=""/>
            <p:cNvGrpSpPr/>
            <p:nvPr/>
          </p:nvGrpSpPr>
          <p:grpSpPr>
            <a:xfrm>
              <a:off x="2062080" y="5594400"/>
              <a:ext cx="3987720" cy="1022040"/>
              <a:chOff x="2062080" y="5594400"/>
              <a:chExt cx="3987720" cy="1022040"/>
            </a:xfrm>
          </p:grpSpPr>
          <p:sp>
            <p:nvSpPr>
              <p:cNvPr id="3938" name=""/>
              <p:cNvSpPr/>
              <p:nvPr/>
            </p:nvSpPr>
            <p:spPr>
              <a:xfrm>
                <a:off x="6032520" y="5594400"/>
                <a:ext cx="17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9" name=""/>
              <p:cNvSpPr/>
              <p:nvPr/>
            </p:nvSpPr>
            <p:spPr>
              <a:xfrm>
                <a:off x="5405400" y="581040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0" name=""/>
              <p:cNvSpPr/>
              <p:nvPr/>
            </p:nvSpPr>
            <p:spPr>
              <a:xfrm>
                <a:off x="5405400" y="581040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1" name=""/>
              <p:cNvSpPr/>
              <p:nvPr/>
            </p:nvSpPr>
            <p:spPr>
              <a:xfrm>
                <a:off x="5415120" y="5810400"/>
                <a:ext cx="6174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2" name=""/>
              <p:cNvSpPr/>
              <p:nvPr/>
            </p:nvSpPr>
            <p:spPr>
              <a:xfrm>
                <a:off x="6032520" y="5810400"/>
                <a:ext cx="17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3" name=""/>
              <p:cNvSpPr/>
              <p:nvPr/>
            </p:nvSpPr>
            <p:spPr>
              <a:xfrm>
                <a:off x="5405400" y="5602320"/>
                <a:ext cx="9720" cy="208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4" name=""/>
              <p:cNvSpPr/>
              <p:nvPr/>
            </p:nvSpPr>
            <p:spPr>
              <a:xfrm>
                <a:off x="6032520" y="5602320"/>
                <a:ext cx="17280" cy="208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5" name=""/>
              <p:cNvSpPr/>
              <p:nvPr/>
            </p:nvSpPr>
            <p:spPr>
              <a:xfrm>
                <a:off x="2314800" y="5829480"/>
                <a:ext cx="378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alabri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6" name=""/>
              <p:cNvSpPr/>
              <p:nvPr/>
            </p:nvSpPr>
            <p:spPr>
              <a:xfrm>
                <a:off x="2669400" y="58294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7" name=""/>
              <p:cNvSpPr/>
              <p:nvPr/>
            </p:nvSpPr>
            <p:spPr>
              <a:xfrm>
                <a:off x="3181320" y="5829480"/>
                <a:ext cx="198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69,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8" name=""/>
              <p:cNvSpPr/>
              <p:nvPr/>
            </p:nvSpPr>
            <p:spPr>
              <a:xfrm>
                <a:off x="3368160" y="58294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9" name=""/>
              <p:cNvSpPr/>
              <p:nvPr/>
            </p:nvSpPr>
            <p:spPr>
              <a:xfrm>
                <a:off x="3931920" y="5829480"/>
                <a:ext cx="198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42,9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0" name=""/>
              <p:cNvSpPr/>
              <p:nvPr/>
            </p:nvSpPr>
            <p:spPr>
              <a:xfrm>
                <a:off x="4118760" y="58294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1" name=""/>
              <p:cNvSpPr/>
              <p:nvPr/>
            </p:nvSpPr>
            <p:spPr>
              <a:xfrm>
                <a:off x="4790880" y="5829480"/>
                <a:ext cx="198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5,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2" name=""/>
              <p:cNvSpPr/>
              <p:nvPr/>
            </p:nvSpPr>
            <p:spPr>
              <a:xfrm>
                <a:off x="4977720" y="58294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3" name=""/>
              <p:cNvSpPr/>
              <p:nvPr/>
            </p:nvSpPr>
            <p:spPr>
              <a:xfrm>
                <a:off x="5649840" y="5829480"/>
                <a:ext cx="14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,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4" name=""/>
              <p:cNvSpPr/>
              <p:nvPr/>
            </p:nvSpPr>
            <p:spPr>
              <a:xfrm>
                <a:off x="5784120" y="582948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5" name=""/>
              <p:cNvSpPr/>
              <p:nvPr/>
            </p:nvSpPr>
            <p:spPr>
              <a:xfrm>
                <a:off x="2062080" y="5818320"/>
                <a:ext cx="8668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6" name=""/>
              <p:cNvSpPr/>
              <p:nvPr/>
            </p:nvSpPr>
            <p:spPr>
              <a:xfrm>
                <a:off x="2928960" y="581832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7" name=""/>
              <p:cNvSpPr/>
              <p:nvPr/>
            </p:nvSpPr>
            <p:spPr>
              <a:xfrm>
                <a:off x="2928960" y="581832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8" name=""/>
              <p:cNvSpPr/>
              <p:nvPr/>
            </p:nvSpPr>
            <p:spPr>
              <a:xfrm>
                <a:off x="2062080" y="6033960"/>
                <a:ext cx="8668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9" name=""/>
              <p:cNvSpPr/>
              <p:nvPr/>
            </p:nvSpPr>
            <p:spPr>
              <a:xfrm>
                <a:off x="2928960" y="60339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0" name=""/>
              <p:cNvSpPr/>
              <p:nvPr/>
            </p:nvSpPr>
            <p:spPr>
              <a:xfrm>
                <a:off x="2928960" y="60339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1" name=""/>
              <p:cNvSpPr/>
              <p:nvPr/>
            </p:nvSpPr>
            <p:spPr>
              <a:xfrm>
                <a:off x="2062080" y="5827680"/>
                <a:ext cx="1764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2" name=""/>
              <p:cNvSpPr/>
              <p:nvPr/>
            </p:nvSpPr>
            <p:spPr>
              <a:xfrm>
                <a:off x="2928960" y="5827680"/>
                <a:ext cx="792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3" name=""/>
              <p:cNvSpPr/>
              <p:nvPr/>
            </p:nvSpPr>
            <p:spPr>
              <a:xfrm>
                <a:off x="2936880" y="581832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4" name=""/>
              <p:cNvSpPr/>
              <p:nvPr/>
            </p:nvSpPr>
            <p:spPr>
              <a:xfrm>
                <a:off x="2936880" y="581832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5" name=""/>
              <p:cNvSpPr/>
              <p:nvPr/>
            </p:nvSpPr>
            <p:spPr>
              <a:xfrm>
                <a:off x="2946240" y="5818320"/>
                <a:ext cx="7336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6" name=""/>
              <p:cNvSpPr/>
              <p:nvPr/>
            </p:nvSpPr>
            <p:spPr>
              <a:xfrm>
                <a:off x="3679920" y="581832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7" name=""/>
              <p:cNvSpPr/>
              <p:nvPr/>
            </p:nvSpPr>
            <p:spPr>
              <a:xfrm>
                <a:off x="3679920" y="581832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8" name=""/>
              <p:cNvSpPr/>
              <p:nvPr/>
            </p:nvSpPr>
            <p:spPr>
              <a:xfrm>
                <a:off x="2936880" y="60339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9" name=""/>
              <p:cNvSpPr/>
              <p:nvPr/>
            </p:nvSpPr>
            <p:spPr>
              <a:xfrm>
                <a:off x="2936880" y="60339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0" name=""/>
              <p:cNvSpPr/>
              <p:nvPr/>
            </p:nvSpPr>
            <p:spPr>
              <a:xfrm>
                <a:off x="2946240" y="6033960"/>
                <a:ext cx="7336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1" name=""/>
              <p:cNvSpPr/>
              <p:nvPr/>
            </p:nvSpPr>
            <p:spPr>
              <a:xfrm>
                <a:off x="3679920" y="60339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2" name=""/>
              <p:cNvSpPr/>
              <p:nvPr/>
            </p:nvSpPr>
            <p:spPr>
              <a:xfrm>
                <a:off x="3679920" y="60339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3" name=""/>
              <p:cNvSpPr/>
              <p:nvPr/>
            </p:nvSpPr>
            <p:spPr>
              <a:xfrm>
                <a:off x="2936880" y="5827680"/>
                <a:ext cx="936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4" name=""/>
              <p:cNvSpPr/>
              <p:nvPr/>
            </p:nvSpPr>
            <p:spPr>
              <a:xfrm>
                <a:off x="3679920" y="5827680"/>
                <a:ext cx="936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5" name=""/>
              <p:cNvSpPr/>
              <p:nvPr/>
            </p:nvSpPr>
            <p:spPr>
              <a:xfrm>
                <a:off x="3689280" y="581832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6" name=""/>
              <p:cNvSpPr/>
              <p:nvPr/>
            </p:nvSpPr>
            <p:spPr>
              <a:xfrm>
                <a:off x="3689280" y="581832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7" name=""/>
              <p:cNvSpPr/>
              <p:nvPr/>
            </p:nvSpPr>
            <p:spPr>
              <a:xfrm>
                <a:off x="3697200" y="5818320"/>
                <a:ext cx="8413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8" name=""/>
              <p:cNvSpPr/>
              <p:nvPr/>
            </p:nvSpPr>
            <p:spPr>
              <a:xfrm>
                <a:off x="4538520" y="581832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9" name=""/>
              <p:cNvSpPr/>
              <p:nvPr/>
            </p:nvSpPr>
            <p:spPr>
              <a:xfrm>
                <a:off x="4538520" y="581832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0" name=""/>
              <p:cNvSpPr/>
              <p:nvPr/>
            </p:nvSpPr>
            <p:spPr>
              <a:xfrm>
                <a:off x="3689280" y="60339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1" name=""/>
              <p:cNvSpPr/>
              <p:nvPr/>
            </p:nvSpPr>
            <p:spPr>
              <a:xfrm>
                <a:off x="3689280" y="60339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2" name=""/>
              <p:cNvSpPr/>
              <p:nvPr/>
            </p:nvSpPr>
            <p:spPr>
              <a:xfrm>
                <a:off x="3697200" y="6033960"/>
                <a:ext cx="841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3" name=""/>
              <p:cNvSpPr/>
              <p:nvPr/>
            </p:nvSpPr>
            <p:spPr>
              <a:xfrm>
                <a:off x="4538520" y="60339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4" name=""/>
              <p:cNvSpPr/>
              <p:nvPr/>
            </p:nvSpPr>
            <p:spPr>
              <a:xfrm>
                <a:off x="4538520" y="60339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5" name=""/>
              <p:cNvSpPr/>
              <p:nvPr/>
            </p:nvSpPr>
            <p:spPr>
              <a:xfrm>
                <a:off x="3689280" y="5827680"/>
                <a:ext cx="792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6" name=""/>
              <p:cNvSpPr/>
              <p:nvPr/>
            </p:nvSpPr>
            <p:spPr>
              <a:xfrm>
                <a:off x="4538520" y="5827680"/>
                <a:ext cx="792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7" name=""/>
              <p:cNvSpPr/>
              <p:nvPr/>
            </p:nvSpPr>
            <p:spPr>
              <a:xfrm>
                <a:off x="4546440" y="581832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8" name=""/>
              <p:cNvSpPr/>
              <p:nvPr/>
            </p:nvSpPr>
            <p:spPr>
              <a:xfrm>
                <a:off x="4546440" y="581832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9" name=""/>
              <p:cNvSpPr/>
              <p:nvPr/>
            </p:nvSpPr>
            <p:spPr>
              <a:xfrm>
                <a:off x="4556160" y="5818320"/>
                <a:ext cx="8413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0" name=""/>
              <p:cNvSpPr/>
              <p:nvPr/>
            </p:nvSpPr>
            <p:spPr>
              <a:xfrm>
                <a:off x="5397480" y="581832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1" name=""/>
              <p:cNvSpPr/>
              <p:nvPr/>
            </p:nvSpPr>
            <p:spPr>
              <a:xfrm>
                <a:off x="5397480" y="581832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2" name=""/>
              <p:cNvSpPr/>
              <p:nvPr/>
            </p:nvSpPr>
            <p:spPr>
              <a:xfrm>
                <a:off x="4546440" y="603396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3" name=""/>
              <p:cNvSpPr/>
              <p:nvPr/>
            </p:nvSpPr>
            <p:spPr>
              <a:xfrm>
                <a:off x="4546440" y="603396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4" name=""/>
              <p:cNvSpPr/>
              <p:nvPr/>
            </p:nvSpPr>
            <p:spPr>
              <a:xfrm>
                <a:off x="4556160" y="6033960"/>
                <a:ext cx="841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5" name=""/>
              <p:cNvSpPr/>
              <p:nvPr/>
            </p:nvSpPr>
            <p:spPr>
              <a:xfrm>
                <a:off x="5397480" y="60339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6" name=""/>
              <p:cNvSpPr/>
              <p:nvPr/>
            </p:nvSpPr>
            <p:spPr>
              <a:xfrm>
                <a:off x="5397480" y="60339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7" name=""/>
              <p:cNvSpPr/>
              <p:nvPr/>
            </p:nvSpPr>
            <p:spPr>
              <a:xfrm>
                <a:off x="4546440" y="5827680"/>
                <a:ext cx="972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8" name=""/>
              <p:cNvSpPr/>
              <p:nvPr/>
            </p:nvSpPr>
            <p:spPr>
              <a:xfrm>
                <a:off x="5397480" y="5827680"/>
                <a:ext cx="792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9" name=""/>
              <p:cNvSpPr/>
              <p:nvPr/>
            </p:nvSpPr>
            <p:spPr>
              <a:xfrm>
                <a:off x="5405400" y="581832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0" name=""/>
              <p:cNvSpPr/>
              <p:nvPr/>
            </p:nvSpPr>
            <p:spPr>
              <a:xfrm>
                <a:off x="5405400" y="581832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1" name=""/>
              <p:cNvSpPr/>
              <p:nvPr/>
            </p:nvSpPr>
            <p:spPr>
              <a:xfrm>
                <a:off x="5415120" y="5818320"/>
                <a:ext cx="617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2" name=""/>
              <p:cNvSpPr/>
              <p:nvPr/>
            </p:nvSpPr>
            <p:spPr>
              <a:xfrm>
                <a:off x="6032520" y="581832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3" name=""/>
              <p:cNvSpPr/>
              <p:nvPr/>
            </p:nvSpPr>
            <p:spPr>
              <a:xfrm>
                <a:off x="5405400" y="603396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4" name=""/>
              <p:cNvSpPr/>
              <p:nvPr/>
            </p:nvSpPr>
            <p:spPr>
              <a:xfrm>
                <a:off x="5405400" y="603396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5" name=""/>
              <p:cNvSpPr/>
              <p:nvPr/>
            </p:nvSpPr>
            <p:spPr>
              <a:xfrm>
                <a:off x="5415120" y="6033960"/>
                <a:ext cx="6174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6" name=""/>
              <p:cNvSpPr/>
              <p:nvPr/>
            </p:nvSpPr>
            <p:spPr>
              <a:xfrm>
                <a:off x="6032520" y="6033960"/>
                <a:ext cx="17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7" name=""/>
              <p:cNvSpPr/>
              <p:nvPr/>
            </p:nvSpPr>
            <p:spPr>
              <a:xfrm>
                <a:off x="5405400" y="5827680"/>
                <a:ext cx="972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8" name=""/>
              <p:cNvSpPr/>
              <p:nvPr/>
            </p:nvSpPr>
            <p:spPr>
              <a:xfrm>
                <a:off x="6032520" y="5827680"/>
                <a:ext cx="1728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9" name=""/>
              <p:cNvSpPr/>
              <p:nvPr/>
            </p:nvSpPr>
            <p:spPr>
              <a:xfrm>
                <a:off x="2314800" y="6051600"/>
                <a:ext cx="268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cili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0" name=""/>
              <p:cNvSpPr/>
              <p:nvPr/>
            </p:nvSpPr>
            <p:spPr>
              <a:xfrm>
                <a:off x="2564640" y="60516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1" name=""/>
              <p:cNvSpPr/>
              <p:nvPr/>
            </p:nvSpPr>
            <p:spPr>
              <a:xfrm>
                <a:off x="3181320" y="6051600"/>
                <a:ext cx="198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67,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2" name=""/>
              <p:cNvSpPr/>
              <p:nvPr/>
            </p:nvSpPr>
            <p:spPr>
              <a:xfrm>
                <a:off x="3368160" y="60516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3" name=""/>
              <p:cNvSpPr/>
              <p:nvPr/>
            </p:nvSpPr>
            <p:spPr>
              <a:xfrm>
                <a:off x="3931920" y="6051600"/>
                <a:ext cx="198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8,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4" name=""/>
              <p:cNvSpPr/>
              <p:nvPr/>
            </p:nvSpPr>
            <p:spPr>
              <a:xfrm>
                <a:off x="4118760" y="60516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5" name=""/>
              <p:cNvSpPr/>
              <p:nvPr/>
            </p:nvSpPr>
            <p:spPr>
              <a:xfrm>
                <a:off x="4790880" y="6051600"/>
                <a:ext cx="198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8,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6" name=""/>
              <p:cNvSpPr/>
              <p:nvPr/>
            </p:nvSpPr>
            <p:spPr>
              <a:xfrm>
                <a:off x="4977720" y="60516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7" name=""/>
              <p:cNvSpPr/>
              <p:nvPr/>
            </p:nvSpPr>
            <p:spPr>
              <a:xfrm>
                <a:off x="5649840" y="6051600"/>
                <a:ext cx="14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,8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8" name=""/>
              <p:cNvSpPr/>
              <p:nvPr/>
            </p:nvSpPr>
            <p:spPr>
              <a:xfrm>
                <a:off x="5784120" y="60516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9" name=""/>
              <p:cNvSpPr/>
              <p:nvPr/>
            </p:nvSpPr>
            <p:spPr>
              <a:xfrm>
                <a:off x="2062080" y="6041880"/>
                <a:ext cx="8668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0" name=""/>
              <p:cNvSpPr/>
              <p:nvPr/>
            </p:nvSpPr>
            <p:spPr>
              <a:xfrm>
                <a:off x="2928960" y="604188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1" name=""/>
              <p:cNvSpPr/>
              <p:nvPr/>
            </p:nvSpPr>
            <p:spPr>
              <a:xfrm>
                <a:off x="2928960" y="604188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2" name=""/>
              <p:cNvSpPr/>
              <p:nvPr/>
            </p:nvSpPr>
            <p:spPr>
              <a:xfrm>
                <a:off x="2062080" y="6256440"/>
                <a:ext cx="8668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3" name=""/>
              <p:cNvSpPr/>
              <p:nvPr/>
            </p:nvSpPr>
            <p:spPr>
              <a:xfrm>
                <a:off x="2928960" y="625644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4" name=""/>
              <p:cNvSpPr/>
              <p:nvPr/>
            </p:nvSpPr>
            <p:spPr>
              <a:xfrm>
                <a:off x="2928960" y="625644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5" name=""/>
              <p:cNvSpPr/>
              <p:nvPr/>
            </p:nvSpPr>
            <p:spPr>
              <a:xfrm>
                <a:off x="2062080" y="6051600"/>
                <a:ext cx="17640" cy="204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6" name=""/>
              <p:cNvSpPr/>
              <p:nvPr/>
            </p:nvSpPr>
            <p:spPr>
              <a:xfrm>
                <a:off x="2928960" y="6051600"/>
                <a:ext cx="7920" cy="204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7" name=""/>
              <p:cNvSpPr/>
              <p:nvPr/>
            </p:nvSpPr>
            <p:spPr>
              <a:xfrm>
                <a:off x="2936880" y="604188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8" name=""/>
              <p:cNvSpPr/>
              <p:nvPr/>
            </p:nvSpPr>
            <p:spPr>
              <a:xfrm>
                <a:off x="2936880" y="604188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9" name=""/>
              <p:cNvSpPr/>
              <p:nvPr/>
            </p:nvSpPr>
            <p:spPr>
              <a:xfrm>
                <a:off x="2946240" y="6041880"/>
                <a:ext cx="7336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0" name=""/>
              <p:cNvSpPr/>
              <p:nvPr/>
            </p:nvSpPr>
            <p:spPr>
              <a:xfrm>
                <a:off x="3679920" y="604188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1" name=""/>
              <p:cNvSpPr/>
              <p:nvPr/>
            </p:nvSpPr>
            <p:spPr>
              <a:xfrm>
                <a:off x="3679920" y="604188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2" name=""/>
              <p:cNvSpPr/>
              <p:nvPr/>
            </p:nvSpPr>
            <p:spPr>
              <a:xfrm>
                <a:off x="2936880" y="62564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3" name=""/>
              <p:cNvSpPr/>
              <p:nvPr/>
            </p:nvSpPr>
            <p:spPr>
              <a:xfrm>
                <a:off x="2936880" y="62564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4" name=""/>
              <p:cNvSpPr/>
              <p:nvPr/>
            </p:nvSpPr>
            <p:spPr>
              <a:xfrm>
                <a:off x="2946240" y="6256440"/>
                <a:ext cx="7336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5" name=""/>
              <p:cNvSpPr/>
              <p:nvPr/>
            </p:nvSpPr>
            <p:spPr>
              <a:xfrm>
                <a:off x="3679920" y="62564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6" name=""/>
              <p:cNvSpPr/>
              <p:nvPr/>
            </p:nvSpPr>
            <p:spPr>
              <a:xfrm>
                <a:off x="3679920" y="62564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7" name=""/>
              <p:cNvSpPr/>
              <p:nvPr/>
            </p:nvSpPr>
            <p:spPr>
              <a:xfrm>
                <a:off x="2936880" y="6051600"/>
                <a:ext cx="9360" cy="204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8" name=""/>
              <p:cNvSpPr/>
              <p:nvPr/>
            </p:nvSpPr>
            <p:spPr>
              <a:xfrm>
                <a:off x="3679920" y="6051600"/>
                <a:ext cx="9360" cy="204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9" name=""/>
              <p:cNvSpPr/>
              <p:nvPr/>
            </p:nvSpPr>
            <p:spPr>
              <a:xfrm>
                <a:off x="3689280" y="604188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0" name=""/>
              <p:cNvSpPr/>
              <p:nvPr/>
            </p:nvSpPr>
            <p:spPr>
              <a:xfrm>
                <a:off x="3689280" y="604188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1" name=""/>
              <p:cNvSpPr/>
              <p:nvPr/>
            </p:nvSpPr>
            <p:spPr>
              <a:xfrm>
                <a:off x="3697200" y="6041880"/>
                <a:ext cx="8413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2" name=""/>
              <p:cNvSpPr/>
              <p:nvPr/>
            </p:nvSpPr>
            <p:spPr>
              <a:xfrm>
                <a:off x="4538520" y="604188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3" name=""/>
              <p:cNvSpPr/>
              <p:nvPr/>
            </p:nvSpPr>
            <p:spPr>
              <a:xfrm>
                <a:off x="4538520" y="604188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4" name=""/>
              <p:cNvSpPr/>
              <p:nvPr/>
            </p:nvSpPr>
            <p:spPr>
              <a:xfrm>
                <a:off x="3689280" y="625644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5" name=""/>
              <p:cNvSpPr/>
              <p:nvPr/>
            </p:nvSpPr>
            <p:spPr>
              <a:xfrm>
                <a:off x="3689280" y="625644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6" name=""/>
              <p:cNvSpPr/>
              <p:nvPr/>
            </p:nvSpPr>
            <p:spPr>
              <a:xfrm>
                <a:off x="3697200" y="6256440"/>
                <a:ext cx="8413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7" name=""/>
              <p:cNvSpPr/>
              <p:nvPr/>
            </p:nvSpPr>
            <p:spPr>
              <a:xfrm>
                <a:off x="4538520" y="625644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8" name=""/>
              <p:cNvSpPr/>
              <p:nvPr/>
            </p:nvSpPr>
            <p:spPr>
              <a:xfrm>
                <a:off x="4538520" y="625644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9" name=""/>
              <p:cNvSpPr/>
              <p:nvPr/>
            </p:nvSpPr>
            <p:spPr>
              <a:xfrm>
                <a:off x="3689280" y="6051600"/>
                <a:ext cx="7920" cy="204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0" name=""/>
              <p:cNvSpPr/>
              <p:nvPr/>
            </p:nvSpPr>
            <p:spPr>
              <a:xfrm>
                <a:off x="4538520" y="6051600"/>
                <a:ext cx="7920" cy="204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1" name=""/>
              <p:cNvSpPr/>
              <p:nvPr/>
            </p:nvSpPr>
            <p:spPr>
              <a:xfrm>
                <a:off x="4546440" y="604188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2" name=""/>
              <p:cNvSpPr/>
              <p:nvPr/>
            </p:nvSpPr>
            <p:spPr>
              <a:xfrm>
                <a:off x="4546440" y="604188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3" name=""/>
              <p:cNvSpPr/>
              <p:nvPr/>
            </p:nvSpPr>
            <p:spPr>
              <a:xfrm>
                <a:off x="4556160" y="6041880"/>
                <a:ext cx="8413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4" name=""/>
              <p:cNvSpPr/>
              <p:nvPr/>
            </p:nvSpPr>
            <p:spPr>
              <a:xfrm>
                <a:off x="5397480" y="604188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5" name=""/>
              <p:cNvSpPr/>
              <p:nvPr/>
            </p:nvSpPr>
            <p:spPr>
              <a:xfrm>
                <a:off x="5397480" y="604188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6" name=""/>
              <p:cNvSpPr/>
              <p:nvPr/>
            </p:nvSpPr>
            <p:spPr>
              <a:xfrm>
                <a:off x="4546440" y="625644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7" name=""/>
              <p:cNvSpPr/>
              <p:nvPr/>
            </p:nvSpPr>
            <p:spPr>
              <a:xfrm>
                <a:off x="4546440" y="625644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8" name=""/>
              <p:cNvSpPr/>
              <p:nvPr/>
            </p:nvSpPr>
            <p:spPr>
              <a:xfrm>
                <a:off x="4556160" y="6256440"/>
                <a:ext cx="8413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9" name=""/>
              <p:cNvSpPr/>
              <p:nvPr/>
            </p:nvSpPr>
            <p:spPr>
              <a:xfrm>
                <a:off x="5397480" y="625644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0" name=""/>
              <p:cNvSpPr/>
              <p:nvPr/>
            </p:nvSpPr>
            <p:spPr>
              <a:xfrm>
                <a:off x="5397480" y="625644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1" name=""/>
              <p:cNvSpPr/>
              <p:nvPr/>
            </p:nvSpPr>
            <p:spPr>
              <a:xfrm>
                <a:off x="4546440" y="6051600"/>
                <a:ext cx="9720" cy="204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2" name=""/>
              <p:cNvSpPr/>
              <p:nvPr/>
            </p:nvSpPr>
            <p:spPr>
              <a:xfrm>
                <a:off x="5397480" y="6051600"/>
                <a:ext cx="7920" cy="204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3" name=""/>
              <p:cNvSpPr/>
              <p:nvPr/>
            </p:nvSpPr>
            <p:spPr>
              <a:xfrm>
                <a:off x="5405400" y="604188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4" name=""/>
              <p:cNvSpPr/>
              <p:nvPr/>
            </p:nvSpPr>
            <p:spPr>
              <a:xfrm>
                <a:off x="5405400" y="604188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5" name=""/>
              <p:cNvSpPr/>
              <p:nvPr/>
            </p:nvSpPr>
            <p:spPr>
              <a:xfrm>
                <a:off x="5415120" y="6041880"/>
                <a:ext cx="617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6" name=""/>
              <p:cNvSpPr/>
              <p:nvPr/>
            </p:nvSpPr>
            <p:spPr>
              <a:xfrm>
                <a:off x="6032520" y="604188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7" name=""/>
              <p:cNvSpPr/>
              <p:nvPr/>
            </p:nvSpPr>
            <p:spPr>
              <a:xfrm>
                <a:off x="5405400" y="625644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8" name=""/>
              <p:cNvSpPr/>
              <p:nvPr/>
            </p:nvSpPr>
            <p:spPr>
              <a:xfrm>
                <a:off x="5405400" y="625644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9" name=""/>
              <p:cNvSpPr/>
              <p:nvPr/>
            </p:nvSpPr>
            <p:spPr>
              <a:xfrm>
                <a:off x="5415120" y="6256440"/>
                <a:ext cx="617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0" name=""/>
              <p:cNvSpPr/>
              <p:nvPr/>
            </p:nvSpPr>
            <p:spPr>
              <a:xfrm>
                <a:off x="6032520" y="625644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1" name=""/>
              <p:cNvSpPr/>
              <p:nvPr/>
            </p:nvSpPr>
            <p:spPr>
              <a:xfrm>
                <a:off x="5405400" y="6051600"/>
                <a:ext cx="9720" cy="204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2" name=""/>
              <p:cNvSpPr/>
              <p:nvPr/>
            </p:nvSpPr>
            <p:spPr>
              <a:xfrm>
                <a:off x="6032520" y="6051600"/>
                <a:ext cx="17280" cy="204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3" name=""/>
              <p:cNvSpPr/>
              <p:nvPr/>
            </p:nvSpPr>
            <p:spPr>
              <a:xfrm>
                <a:off x="2313720" y="6275520"/>
                <a:ext cx="4410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ardegn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4" name=""/>
              <p:cNvSpPr/>
              <p:nvPr/>
            </p:nvSpPr>
            <p:spPr>
              <a:xfrm>
                <a:off x="2728440" y="62755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5" name=""/>
              <p:cNvSpPr/>
              <p:nvPr/>
            </p:nvSpPr>
            <p:spPr>
              <a:xfrm>
                <a:off x="3181320" y="6275520"/>
                <a:ext cx="198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2,7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6" name=""/>
              <p:cNvSpPr/>
              <p:nvPr/>
            </p:nvSpPr>
            <p:spPr>
              <a:xfrm>
                <a:off x="3368160" y="62755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7" name=""/>
              <p:cNvSpPr/>
              <p:nvPr/>
            </p:nvSpPr>
            <p:spPr>
              <a:xfrm>
                <a:off x="3931920" y="6275520"/>
                <a:ext cx="198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42,7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8" name=""/>
              <p:cNvSpPr/>
              <p:nvPr/>
            </p:nvSpPr>
            <p:spPr>
              <a:xfrm>
                <a:off x="4118760" y="62755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9" name=""/>
              <p:cNvSpPr/>
              <p:nvPr/>
            </p:nvSpPr>
            <p:spPr>
              <a:xfrm>
                <a:off x="4790880" y="6275520"/>
                <a:ext cx="198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9,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0" name=""/>
              <p:cNvSpPr/>
              <p:nvPr/>
            </p:nvSpPr>
            <p:spPr>
              <a:xfrm>
                <a:off x="4977720" y="62755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1" name=""/>
              <p:cNvSpPr/>
              <p:nvPr/>
            </p:nvSpPr>
            <p:spPr>
              <a:xfrm>
                <a:off x="5649840" y="6275520"/>
                <a:ext cx="14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,9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2" name=""/>
              <p:cNvSpPr/>
              <p:nvPr/>
            </p:nvSpPr>
            <p:spPr>
              <a:xfrm>
                <a:off x="5784120" y="62755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3" name=""/>
              <p:cNvSpPr/>
              <p:nvPr/>
            </p:nvSpPr>
            <p:spPr>
              <a:xfrm>
                <a:off x="2062080" y="6265800"/>
                <a:ext cx="8668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4" name=""/>
              <p:cNvSpPr/>
              <p:nvPr/>
            </p:nvSpPr>
            <p:spPr>
              <a:xfrm>
                <a:off x="2928960" y="62658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5" name=""/>
              <p:cNvSpPr/>
              <p:nvPr/>
            </p:nvSpPr>
            <p:spPr>
              <a:xfrm>
                <a:off x="2928960" y="62658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6" name=""/>
              <p:cNvSpPr/>
              <p:nvPr/>
            </p:nvSpPr>
            <p:spPr>
              <a:xfrm>
                <a:off x="2062080" y="6480000"/>
                <a:ext cx="86688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7" name=""/>
              <p:cNvSpPr/>
              <p:nvPr/>
            </p:nvSpPr>
            <p:spPr>
              <a:xfrm>
                <a:off x="2928960" y="648000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8" name=""/>
              <p:cNvSpPr/>
              <p:nvPr/>
            </p:nvSpPr>
            <p:spPr>
              <a:xfrm>
                <a:off x="2928960" y="648000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9" name=""/>
              <p:cNvSpPr/>
              <p:nvPr/>
            </p:nvSpPr>
            <p:spPr>
              <a:xfrm>
                <a:off x="2062080" y="6273720"/>
                <a:ext cx="1764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0" name=""/>
              <p:cNvSpPr/>
              <p:nvPr/>
            </p:nvSpPr>
            <p:spPr>
              <a:xfrm>
                <a:off x="2928960" y="6273720"/>
                <a:ext cx="792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1" name=""/>
              <p:cNvSpPr/>
              <p:nvPr/>
            </p:nvSpPr>
            <p:spPr>
              <a:xfrm>
                <a:off x="2936880" y="62658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2" name=""/>
              <p:cNvSpPr/>
              <p:nvPr/>
            </p:nvSpPr>
            <p:spPr>
              <a:xfrm>
                <a:off x="2936880" y="62658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3" name=""/>
              <p:cNvSpPr/>
              <p:nvPr/>
            </p:nvSpPr>
            <p:spPr>
              <a:xfrm>
                <a:off x="2946240" y="6265800"/>
                <a:ext cx="7336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4" name=""/>
              <p:cNvSpPr/>
              <p:nvPr/>
            </p:nvSpPr>
            <p:spPr>
              <a:xfrm>
                <a:off x="3679920" y="62658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5" name=""/>
              <p:cNvSpPr/>
              <p:nvPr/>
            </p:nvSpPr>
            <p:spPr>
              <a:xfrm>
                <a:off x="3679920" y="62658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6" name=""/>
              <p:cNvSpPr/>
              <p:nvPr/>
            </p:nvSpPr>
            <p:spPr>
              <a:xfrm>
                <a:off x="2936880" y="648000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7" name=""/>
              <p:cNvSpPr/>
              <p:nvPr/>
            </p:nvSpPr>
            <p:spPr>
              <a:xfrm>
                <a:off x="2936880" y="648000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8" name=""/>
              <p:cNvSpPr/>
              <p:nvPr/>
            </p:nvSpPr>
            <p:spPr>
              <a:xfrm>
                <a:off x="2946240" y="6480000"/>
                <a:ext cx="73368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9" name=""/>
              <p:cNvSpPr/>
              <p:nvPr/>
            </p:nvSpPr>
            <p:spPr>
              <a:xfrm>
                <a:off x="3679920" y="648000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0" name=""/>
              <p:cNvSpPr/>
              <p:nvPr/>
            </p:nvSpPr>
            <p:spPr>
              <a:xfrm>
                <a:off x="3679920" y="648000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1" name=""/>
              <p:cNvSpPr/>
              <p:nvPr/>
            </p:nvSpPr>
            <p:spPr>
              <a:xfrm>
                <a:off x="2936880" y="6273720"/>
                <a:ext cx="936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2" name=""/>
              <p:cNvSpPr/>
              <p:nvPr/>
            </p:nvSpPr>
            <p:spPr>
              <a:xfrm>
                <a:off x="3679920" y="6273720"/>
                <a:ext cx="936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3" name=""/>
              <p:cNvSpPr/>
              <p:nvPr/>
            </p:nvSpPr>
            <p:spPr>
              <a:xfrm>
                <a:off x="3689280" y="62658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4" name=""/>
              <p:cNvSpPr/>
              <p:nvPr/>
            </p:nvSpPr>
            <p:spPr>
              <a:xfrm>
                <a:off x="3689280" y="62658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5" name=""/>
              <p:cNvSpPr/>
              <p:nvPr/>
            </p:nvSpPr>
            <p:spPr>
              <a:xfrm>
                <a:off x="3697200" y="6265800"/>
                <a:ext cx="841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6" name=""/>
              <p:cNvSpPr/>
              <p:nvPr/>
            </p:nvSpPr>
            <p:spPr>
              <a:xfrm>
                <a:off x="4538520" y="62658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7" name=""/>
              <p:cNvSpPr/>
              <p:nvPr/>
            </p:nvSpPr>
            <p:spPr>
              <a:xfrm>
                <a:off x="4538520" y="62658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8" name=""/>
              <p:cNvSpPr/>
              <p:nvPr/>
            </p:nvSpPr>
            <p:spPr>
              <a:xfrm>
                <a:off x="3689280" y="648000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9" name=""/>
              <p:cNvSpPr/>
              <p:nvPr/>
            </p:nvSpPr>
            <p:spPr>
              <a:xfrm>
                <a:off x="3689280" y="648000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0" name=""/>
              <p:cNvSpPr/>
              <p:nvPr/>
            </p:nvSpPr>
            <p:spPr>
              <a:xfrm>
                <a:off x="3697200" y="6480000"/>
                <a:ext cx="8413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1" name=""/>
              <p:cNvSpPr/>
              <p:nvPr/>
            </p:nvSpPr>
            <p:spPr>
              <a:xfrm>
                <a:off x="4538520" y="648000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2" name=""/>
              <p:cNvSpPr/>
              <p:nvPr/>
            </p:nvSpPr>
            <p:spPr>
              <a:xfrm>
                <a:off x="4538520" y="648000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3" name=""/>
              <p:cNvSpPr/>
              <p:nvPr/>
            </p:nvSpPr>
            <p:spPr>
              <a:xfrm>
                <a:off x="3689280" y="6273720"/>
                <a:ext cx="792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4" name=""/>
              <p:cNvSpPr/>
              <p:nvPr/>
            </p:nvSpPr>
            <p:spPr>
              <a:xfrm>
                <a:off x="4538520" y="6273720"/>
                <a:ext cx="792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5" name=""/>
              <p:cNvSpPr/>
              <p:nvPr/>
            </p:nvSpPr>
            <p:spPr>
              <a:xfrm>
                <a:off x="4546440" y="626580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6" name=""/>
              <p:cNvSpPr/>
              <p:nvPr/>
            </p:nvSpPr>
            <p:spPr>
              <a:xfrm>
                <a:off x="4546440" y="626580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7" name=""/>
              <p:cNvSpPr/>
              <p:nvPr/>
            </p:nvSpPr>
            <p:spPr>
              <a:xfrm>
                <a:off x="4556160" y="6265800"/>
                <a:ext cx="8413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8" name=""/>
              <p:cNvSpPr/>
              <p:nvPr/>
            </p:nvSpPr>
            <p:spPr>
              <a:xfrm>
                <a:off x="5397480" y="62658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9" name=""/>
              <p:cNvSpPr/>
              <p:nvPr/>
            </p:nvSpPr>
            <p:spPr>
              <a:xfrm>
                <a:off x="5397480" y="626580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0" name=""/>
              <p:cNvSpPr/>
              <p:nvPr/>
            </p:nvSpPr>
            <p:spPr>
              <a:xfrm>
                <a:off x="4546440" y="648000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1" name=""/>
              <p:cNvSpPr/>
              <p:nvPr/>
            </p:nvSpPr>
            <p:spPr>
              <a:xfrm>
                <a:off x="4546440" y="648000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2" name=""/>
              <p:cNvSpPr/>
              <p:nvPr/>
            </p:nvSpPr>
            <p:spPr>
              <a:xfrm>
                <a:off x="4556160" y="6480000"/>
                <a:ext cx="8413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3" name=""/>
              <p:cNvSpPr/>
              <p:nvPr/>
            </p:nvSpPr>
            <p:spPr>
              <a:xfrm>
                <a:off x="5397480" y="648000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4" name=""/>
              <p:cNvSpPr/>
              <p:nvPr/>
            </p:nvSpPr>
            <p:spPr>
              <a:xfrm>
                <a:off x="5397480" y="648000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5" name=""/>
              <p:cNvSpPr/>
              <p:nvPr/>
            </p:nvSpPr>
            <p:spPr>
              <a:xfrm>
                <a:off x="4546440" y="6273720"/>
                <a:ext cx="972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6" name=""/>
              <p:cNvSpPr/>
              <p:nvPr/>
            </p:nvSpPr>
            <p:spPr>
              <a:xfrm>
                <a:off x="5397480" y="6273720"/>
                <a:ext cx="792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7" name=""/>
              <p:cNvSpPr/>
              <p:nvPr/>
            </p:nvSpPr>
            <p:spPr>
              <a:xfrm>
                <a:off x="5405400" y="626580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8" name=""/>
              <p:cNvSpPr/>
              <p:nvPr/>
            </p:nvSpPr>
            <p:spPr>
              <a:xfrm>
                <a:off x="5405400" y="626580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9" name=""/>
              <p:cNvSpPr/>
              <p:nvPr/>
            </p:nvSpPr>
            <p:spPr>
              <a:xfrm>
                <a:off x="5415120" y="6265800"/>
                <a:ext cx="6174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0" name=""/>
              <p:cNvSpPr/>
              <p:nvPr/>
            </p:nvSpPr>
            <p:spPr>
              <a:xfrm>
                <a:off x="6032520" y="6265800"/>
                <a:ext cx="17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1" name=""/>
              <p:cNvSpPr/>
              <p:nvPr/>
            </p:nvSpPr>
            <p:spPr>
              <a:xfrm>
                <a:off x="5405400" y="648000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2" name=""/>
              <p:cNvSpPr/>
              <p:nvPr/>
            </p:nvSpPr>
            <p:spPr>
              <a:xfrm>
                <a:off x="5405400" y="648000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3" name=""/>
              <p:cNvSpPr/>
              <p:nvPr/>
            </p:nvSpPr>
            <p:spPr>
              <a:xfrm>
                <a:off x="5415120" y="6480000"/>
                <a:ext cx="61740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4" name=""/>
              <p:cNvSpPr/>
              <p:nvPr/>
            </p:nvSpPr>
            <p:spPr>
              <a:xfrm>
                <a:off x="6032520" y="6480000"/>
                <a:ext cx="1728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5" name=""/>
              <p:cNvSpPr/>
              <p:nvPr/>
            </p:nvSpPr>
            <p:spPr>
              <a:xfrm>
                <a:off x="5405400" y="6273720"/>
                <a:ext cx="972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6" name=""/>
              <p:cNvSpPr/>
              <p:nvPr/>
            </p:nvSpPr>
            <p:spPr>
              <a:xfrm>
                <a:off x="6032520" y="6273720"/>
                <a:ext cx="17280" cy="20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7" name=""/>
              <p:cNvSpPr/>
              <p:nvPr/>
            </p:nvSpPr>
            <p:spPr>
              <a:xfrm>
                <a:off x="2314080" y="6494400"/>
                <a:ext cx="329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ITALI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38" name=""/>
            <p:cNvSpPr/>
            <p:nvPr/>
          </p:nvSpPr>
          <p:spPr>
            <a:xfrm>
              <a:off x="2624400" y="64944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9" name=""/>
            <p:cNvSpPr/>
            <p:nvPr/>
          </p:nvSpPr>
          <p:spPr>
            <a:xfrm>
              <a:off x="3183480" y="649440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61,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0" name=""/>
            <p:cNvSpPr/>
            <p:nvPr/>
          </p:nvSpPr>
          <p:spPr>
            <a:xfrm>
              <a:off x="3370680" y="64944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1" name=""/>
            <p:cNvSpPr/>
            <p:nvPr/>
          </p:nvSpPr>
          <p:spPr>
            <a:xfrm>
              <a:off x="3934440" y="649440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34,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2" name=""/>
            <p:cNvSpPr/>
            <p:nvPr/>
          </p:nvSpPr>
          <p:spPr>
            <a:xfrm>
              <a:off x="4121280" y="64944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3" name=""/>
            <p:cNvSpPr/>
            <p:nvPr/>
          </p:nvSpPr>
          <p:spPr>
            <a:xfrm>
              <a:off x="4793040" y="649440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6,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4" name=""/>
            <p:cNvSpPr/>
            <p:nvPr/>
          </p:nvSpPr>
          <p:spPr>
            <a:xfrm>
              <a:off x="4980240" y="64944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5" name=""/>
            <p:cNvSpPr/>
            <p:nvPr/>
          </p:nvSpPr>
          <p:spPr>
            <a:xfrm>
              <a:off x="5652360" y="649440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,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6" name=""/>
            <p:cNvSpPr/>
            <p:nvPr/>
          </p:nvSpPr>
          <p:spPr>
            <a:xfrm>
              <a:off x="5786640" y="64944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7" name=""/>
            <p:cNvSpPr/>
            <p:nvPr/>
          </p:nvSpPr>
          <p:spPr>
            <a:xfrm>
              <a:off x="2062080" y="6488280"/>
              <a:ext cx="8668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8" name=""/>
            <p:cNvSpPr/>
            <p:nvPr/>
          </p:nvSpPr>
          <p:spPr>
            <a:xfrm>
              <a:off x="2062080" y="6703920"/>
              <a:ext cx="1764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9" name=""/>
            <p:cNvSpPr/>
            <p:nvPr/>
          </p:nvSpPr>
          <p:spPr>
            <a:xfrm>
              <a:off x="2062080" y="6703920"/>
              <a:ext cx="1764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0" name=""/>
            <p:cNvSpPr/>
            <p:nvPr/>
          </p:nvSpPr>
          <p:spPr>
            <a:xfrm>
              <a:off x="2079720" y="6703920"/>
              <a:ext cx="84924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1" name=""/>
            <p:cNvSpPr/>
            <p:nvPr/>
          </p:nvSpPr>
          <p:spPr>
            <a:xfrm>
              <a:off x="2062080" y="6497640"/>
              <a:ext cx="17640" cy="206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2" name=""/>
            <p:cNvSpPr/>
            <p:nvPr/>
          </p:nvSpPr>
          <p:spPr>
            <a:xfrm>
              <a:off x="2936880" y="6488280"/>
              <a:ext cx="93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3" name=""/>
            <p:cNvSpPr/>
            <p:nvPr/>
          </p:nvSpPr>
          <p:spPr>
            <a:xfrm>
              <a:off x="2936880" y="6488280"/>
              <a:ext cx="93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4" name=""/>
            <p:cNvSpPr/>
            <p:nvPr/>
          </p:nvSpPr>
          <p:spPr>
            <a:xfrm>
              <a:off x="2946240" y="6488280"/>
              <a:ext cx="7336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5" name=""/>
            <p:cNvSpPr/>
            <p:nvPr/>
          </p:nvSpPr>
          <p:spPr>
            <a:xfrm>
              <a:off x="2936880" y="6703920"/>
              <a:ext cx="74304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6" name=""/>
            <p:cNvSpPr/>
            <p:nvPr/>
          </p:nvSpPr>
          <p:spPr>
            <a:xfrm>
              <a:off x="2936880" y="6497640"/>
              <a:ext cx="9360" cy="206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7" name=""/>
            <p:cNvSpPr/>
            <p:nvPr/>
          </p:nvSpPr>
          <p:spPr>
            <a:xfrm>
              <a:off x="3689280" y="6488280"/>
              <a:ext cx="79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8" name=""/>
            <p:cNvSpPr/>
            <p:nvPr/>
          </p:nvSpPr>
          <p:spPr>
            <a:xfrm>
              <a:off x="3689280" y="6488280"/>
              <a:ext cx="79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9" name=""/>
            <p:cNvSpPr/>
            <p:nvPr/>
          </p:nvSpPr>
          <p:spPr>
            <a:xfrm>
              <a:off x="3697200" y="6488280"/>
              <a:ext cx="8413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0" name=""/>
            <p:cNvSpPr/>
            <p:nvPr/>
          </p:nvSpPr>
          <p:spPr>
            <a:xfrm>
              <a:off x="3689280" y="6703920"/>
              <a:ext cx="84924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1" name=""/>
            <p:cNvSpPr/>
            <p:nvPr/>
          </p:nvSpPr>
          <p:spPr>
            <a:xfrm>
              <a:off x="3689280" y="6497640"/>
              <a:ext cx="7920" cy="206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2" name=""/>
            <p:cNvSpPr/>
            <p:nvPr/>
          </p:nvSpPr>
          <p:spPr>
            <a:xfrm>
              <a:off x="4546440" y="6488280"/>
              <a:ext cx="97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3" name=""/>
            <p:cNvSpPr/>
            <p:nvPr/>
          </p:nvSpPr>
          <p:spPr>
            <a:xfrm>
              <a:off x="4546440" y="6488280"/>
              <a:ext cx="97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4" name=""/>
            <p:cNvSpPr/>
            <p:nvPr/>
          </p:nvSpPr>
          <p:spPr>
            <a:xfrm>
              <a:off x="4556160" y="6488280"/>
              <a:ext cx="8413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5" name=""/>
            <p:cNvSpPr/>
            <p:nvPr/>
          </p:nvSpPr>
          <p:spPr>
            <a:xfrm>
              <a:off x="5397480" y="6488280"/>
              <a:ext cx="79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6" name=""/>
            <p:cNvSpPr/>
            <p:nvPr/>
          </p:nvSpPr>
          <p:spPr>
            <a:xfrm>
              <a:off x="5397480" y="6488280"/>
              <a:ext cx="79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7" name=""/>
            <p:cNvSpPr/>
            <p:nvPr/>
          </p:nvSpPr>
          <p:spPr>
            <a:xfrm>
              <a:off x="4546440" y="6703920"/>
              <a:ext cx="85104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8" name=""/>
            <p:cNvSpPr/>
            <p:nvPr/>
          </p:nvSpPr>
          <p:spPr>
            <a:xfrm>
              <a:off x="5397480" y="670392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9" name=""/>
            <p:cNvSpPr/>
            <p:nvPr/>
          </p:nvSpPr>
          <p:spPr>
            <a:xfrm>
              <a:off x="4546440" y="6497640"/>
              <a:ext cx="9720" cy="206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0" name=""/>
            <p:cNvSpPr/>
            <p:nvPr/>
          </p:nvSpPr>
          <p:spPr>
            <a:xfrm>
              <a:off x="5397480" y="6497640"/>
              <a:ext cx="7920" cy="206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1" name=""/>
            <p:cNvSpPr/>
            <p:nvPr/>
          </p:nvSpPr>
          <p:spPr>
            <a:xfrm>
              <a:off x="5405400" y="6488280"/>
              <a:ext cx="97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2" name=""/>
            <p:cNvSpPr/>
            <p:nvPr/>
          </p:nvSpPr>
          <p:spPr>
            <a:xfrm>
              <a:off x="5405400" y="6488280"/>
              <a:ext cx="97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3" name=""/>
            <p:cNvSpPr/>
            <p:nvPr/>
          </p:nvSpPr>
          <p:spPr>
            <a:xfrm>
              <a:off x="5415120" y="6488280"/>
              <a:ext cx="61740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4" name=""/>
            <p:cNvSpPr/>
            <p:nvPr/>
          </p:nvSpPr>
          <p:spPr>
            <a:xfrm>
              <a:off x="6032520" y="6488280"/>
              <a:ext cx="172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5" name=""/>
            <p:cNvSpPr/>
            <p:nvPr/>
          </p:nvSpPr>
          <p:spPr>
            <a:xfrm>
              <a:off x="5405400" y="6703920"/>
              <a:ext cx="627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6" name=""/>
            <p:cNvSpPr/>
            <p:nvPr/>
          </p:nvSpPr>
          <p:spPr>
            <a:xfrm>
              <a:off x="6032520" y="6703920"/>
              <a:ext cx="1728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7" name=""/>
            <p:cNvSpPr/>
            <p:nvPr/>
          </p:nvSpPr>
          <p:spPr>
            <a:xfrm>
              <a:off x="6032520" y="6703920"/>
              <a:ext cx="1728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8" name=""/>
            <p:cNvSpPr/>
            <p:nvPr/>
          </p:nvSpPr>
          <p:spPr>
            <a:xfrm>
              <a:off x="5405400" y="6497640"/>
              <a:ext cx="9720" cy="206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9" name=""/>
            <p:cNvSpPr/>
            <p:nvPr/>
          </p:nvSpPr>
          <p:spPr>
            <a:xfrm>
              <a:off x="6032520" y="6497640"/>
              <a:ext cx="17280" cy="206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0" name=""/>
            <p:cNvSpPr/>
            <p:nvPr/>
          </p:nvSpPr>
          <p:spPr>
            <a:xfrm>
              <a:off x="2106000" y="67230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1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AGIONI E FORME DEL DECENTRAMENT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2" name="PlaceHolder 2"/>
          <p:cNvSpPr>
            <a:spLocks noGrp="1"/>
          </p:cNvSpPr>
          <p:nvPr>
            <p:ph/>
          </p:nvPr>
        </p:nvSpPr>
        <p:spPr>
          <a:xfrm>
            <a:off x="711360" y="1844640"/>
            <a:ext cx="7821360" cy="4540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. Perché esistono diversi livelli di gover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. Come articolare i diversi livelli di gover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3. Quali schemi di finanziamento per per le funzioni svolte dai diversi livel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Produzione e finanziamento di servizi pubblici: il ruolo dell’autonomia finanzia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Quali ragioni sono alla base dei rapporti finanziari tra i diversi livelli di gover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i="1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ttività di finanza pubblica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riterio funzionale e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erritori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i="1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odelli di ripartizione territori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entralista, regionale e feder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83" name=""/>
          <p:cNvGraphicFramePr/>
          <p:nvPr/>
        </p:nvGraphicFramePr>
        <p:xfrm>
          <a:off x="1219320" y="3714840"/>
          <a:ext cx="6095880" cy="140472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UTONOM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CENTRAM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onsabilizzazi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esse nazion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ersità di preferen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guaglianz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e funzioni dell’intervento pubbl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26320" cy="441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unzione d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(A)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Times New Roman"/>
              </a:rPr>
              <a:t>stabilizzazione economic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PIL, deficit/PIL, inflazione, bilancia dei pagamenti),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(B)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distribuzione della ricchezz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isuguaglianza, povertà, Nord-Su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(C) 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allocazione delle risors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offerta efficiente di beni pubblici local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6" name=""/>
          <p:cNvSpPr/>
          <p:nvPr/>
        </p:nvSpPr>
        <p:spPr>
          <a:xfrm>
            <a:off x="639720" y="4338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4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7" name="PlaceHolder 1"/>
          <p:cNvSpPr>
            <a:spLocks noGrp="1"/>
          </p:cNvSpPr>
          <p:nvPr>
            <p:ph/>
          </p:nvPr>
        </p:nvSpPr>
        <p:spPr>
          <a:xfrm>
            <a:off x="685800" y="1700280"/>
            <a:ext cx="7773840" cy="4897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l modello della torta a tre strati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assegnazione delle funzioni più appropria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ivello centr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ivello centr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ivello decentra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ritiche alle assegnazioni esclu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(Il Patto di stabilità Intern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 (Le politiche assistenziali dei comun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 (grandi servizi pubblici a rete con esternalità diffuse a livello sovranaziona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a gestione del debito pubblic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8" name="PlaceHolder 2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 ripartizione delle funzioni per livel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9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piegazioni economiche del decentrament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0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631280" cy="5184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l Teorema del decentramento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 presenza di preferenze differenziate è sempre preferibile una soluzione che consenta diverse articolazioni dell’offerta di servizi pubblici rispetto ad una soluzione uniforme (imperfetta informazione a livello centrale)” (Oates 197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i="1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imi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olteplicità di funzioni e principio di corrispondenz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effetti di traboccam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costi di congestione e dimensione ottim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i="1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l meccanismo del voto con i pied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 presenza di mobilità i cittadini si muovono alla ricerca della soluzione fiscale (pacchetto servizi/imposte) preferita </a:t>
            </a:r>
            <a:r>
              <a:rPr b="1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equilibrio spaziale effic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i="1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imi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tratificazione degli enti locali per livelli di reddi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formazione di isole etni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stabilità socia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4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4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4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4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4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4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4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4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41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41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41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41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41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2T09:21:22Z</dcterms:created>
  <dc:creator>petretto</dc:creator>
  <dc:description/>
  <dc:language>en-US</dc:language>
  <cp:lastModifiedBy>Petretto Alessandro</cp:lastModifiedBy>
  <dcterms:modified xsi:type="dcterms:W3CDTF">2006-10-04T12:30:57Z</dcterms:modified>
  <cp:revision>47</cp:revision>
  <dc:subject/>
  <dc:title>Federalismo fiscale e finanza locale</dc:title>
</cp:coreProperties>
</file>